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55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48.png" ContentType="image/png"/>
  <Override PartName="/ppt/media/image70.wmf" ContentType="image/x-wmf"/>
  <Override PartName="/ppt/media/image46.wmf" ContentType="image/x-wmf"/>
  <Override PartName="/ppt/media/image45.png" ContentType="image/png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56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60.wmf" ContentType="image/x-wmf"/>
  <Override PartName="/ppt/media/image20.wmf" ContentType="image/x-wmf"/>
  <Override PartName="/ppt/media/image58.wmf" ContentType="image/x-wmf"/>
  <Override PartName="/ppt/media/image21.wmf" ContentType="image/x-wmf"/>
  <Override PartName="/ppt/media/image64.png" ContentType="image/png"/>
  <Override PartName="/ppt/media/image25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79.wmf" ContentType="image/x-wmf"/>
  <Override PartName="/ppt/media/image32.wmf" ContentType="image/x-wmf"/>
  <Override PartName="/ppt/media/image14.wmf" ContentType="image/x-wmf"/>
  <Override PartName="/ppt/media/image57.png" ContentType="image/png"/>
  <Override PartName="/ppt/media/image2.wmf" ContentType="image/x-wmf"/>
  <Override PartName="/ppt/media/image69.wmf" ContentType="image/x-wmf"/>
  <Override PartName="/ppt/media/image67.wmf" ContentType="image/x-wmf"/>
  <Override PartName="/ppt/media/image76.wmf" ContentType="image/x-wmf"/>
  <Override PartName="/ppt/media/image75.wmf" ContentType="image/x-wmf"/>
  <Override PartName="/ppt/media/image63.wmf" ContentType="image/x-wmf"/>
  <Override PartName="/ppt/media/image74.wmf" ContentType="image/x-wmf"/>
  <Override PartName="/ppt/media/image62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66.wmf" ContentType="image/x-wmf"/>
  <Override PartName="/ppt/media/image65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77.png" ContentType="image/png"/>
  <Override PartName="/ppt/media/image34.wmf" ContentType="image/x-wmf"/>
  <Override PartName="/ppt/media/image28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78.png" ContentType="image/png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54.png" ContentType="image/png"/>
  <Override PartName="/ppt/media/image11.wmf" ContentType="image/x-wmf"/>
  <Override PartName="/ppt/media/image1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CD8-2EFE-4344-BB39-7D93704D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A2C-70A9-45F7-A08A-ED297774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031-6FED-421B-86EE-FD22ABD3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369-8B56-48A6-A720-5983A453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924-9087-4B89-A687-F7DBE4C9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E3D-C200-4846-8269-D9133FE1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6CE-5F38-4707-A1AD-61A367E2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AE7-0D78-44EC-9E4F-E25966E5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25F-2B56-46CC-AFC1-9D11698C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3B0-3751-4798-9FDC-46D216A1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F7F-E5D4-4CF4-B2A4-E1597A8D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FF7-FF4E-4E7F-BA49-374FF0C8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0887-50CC-4FA2-8513-6448DE3D1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hyperlink" Target="file:///Higher%20Mathematics1.1.ppt" TargetMode="Externa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hyperlink" Target="file:///Higher%20Mathematics1.1.ppt" TargetMode="External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hyperlink" Target="file:///Higher%20Mathematics1.1.ppt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hyperlink" Target="file:///Higher%20Mathematics1.1.ppt" TargetMode="Externa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Higher%20Mathematics1.1.pp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3.wmf"/><Relationship Id="rId8" Type="http://schemas.openxmlformats.org/officeDocument/2006/relationships/image" Target="../media/image64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hyperlink" Target="file:///Higher%20Mathematics1.1.ppt" TargetMode="External"/><Relationship Id="rId6" Type="http://schemas.openxmlformats.org/officeDocument/2006/relationships/oleObject" Target="../embeddings/oleObject3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2.wmf"/><Relationship Id="rId1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6.wmf"/><Relationship Id="rId8" Type="http://schemas.openxmlformats.org/officeDocument/2006/relationships/image" Target="../media/image77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1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5.wmf"/><Relationship Id="rId10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file:///Higher%20Mathematics1.1.ppt" TargetMode="External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hyperlink" Target="file:///Higher%20Mathematics1.1.ppt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hyperlink" Target="file:///Higher%20Mathematics1.1.ppt" TargetMode="External"/><Relationship Id="rId1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43040" y="6192720"/>
          <a:ext cx="464004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192720"/>
                    <a:ext cx="46400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179280"/>
            <a:ext cx="61722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97000" y="1835280"/>
          <a:ext cx="4319640" cy="43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7000" y="1835280"/>
                    <a:ext cx="4319640" cy="43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404640" y="1116000"/>
            <a:ext cx="5977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examination of the graph, state the equation of the line in the for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= mx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24280" y="2340000"/>
            <a:ext cx="1657080" cy="331308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933720" y="1692360"/>
            <a:ext cx="2448000" cy="1152360"/>
            <a:chOff x="3933720" y="1692360"/>
            <a:chExt cx="2448000" cy="1152360"/>
          </a:xfrm>
        </p:grpSpPr>
        <p:sp>
          <p:nvSpPr>
            <p:cNvPr id="49" name=""/>
            <p:cNvSpPr/>
            <p:nvPr/>
          </p:nvSpPr>
          <p:spPr>
            <a:xfrm>
              <a:off x="3933720" y="1692360"/>
              <a:ext cx="2448000" cy="1152360"/>
            </a:xfrm>
            <a:prstGeom prst="wedgeEllipseCallout">
              <a:avLst>
                <a:gd name="adj1" fmla="val -74643"/>
                <a:gd name="adj2" fmla="val 651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21000" y="1847880"/>
              <a:ext cx="18734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</a:rPr>
                <a:t>y-intercept =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</a:rPr>
                <a:t>So c =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284640" y="3059280"/>
            <a:ext cx="0" cy="208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84640" y="5148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81360" y="40435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73360" y="5076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5000" y="73296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= -2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403960" y="6404040"/>
          <a:ext cx="833400" cy="39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6404040"/>
                    <a:ext cx="8334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>
            <a:hlinkClick r:id="rId7"/>
          </p:cNvPr>
          <p:cNvSpPr/>
          <p:nvPr/>
        </p:nvSpPr>
        <p:spPr>
          <a:xfrm>
            <a:off x="549360" y="817236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8" action="ppaction://hlinksldjump"/>
          </p:cNvPr>
          <p:cNvSpPr/>
          <p:nvPr/>
        </p:nvSpPr>
        <p:spPr>
          <a:xfrm>
            <a:off x="6021360" y="817236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" w="21600" h="24036">
                <a:moveTo>
                  <a:pt x="10800" y="1602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036">
                <a:moveTo>
                  <a:pt x="11905" y="15499"/>
                </a:moveTo>
                <a:lnTo>
                  <a:pt x="11905" y="13541"/>
                </a:lnTo>
                <a:cubicBezTo>
                  <a:pt x="11905" y="12714"/>
                  <a:pt x="12236" y="12018"/>
                  <a:pt x="12837" y="12018"/>
                </a:cubicBezTo>
                <a:cubicBezTo>
                  <a:pt x="13968" y="12018"/>
                  <a:pt x="14865" y="10652"/>
                  <a:pt x="14865" y="9067"/>
                </a:cubicBezTo>
                <a:cubicBezTo>
                  <a:pt x="14865" y="6752"/>
                  <a:pt x="13011" y="5012"/>
                  <a:pt x="10800" y="5012"/>
                </a:cubicBezTo>
                <a:cubicBezTo>
                  <a:pt x="8589" y="5012"/>
                  <a:pt x="6918" y="6752"/>
                  <a:pt x="6918" y="9067"/>
                </a:cubicBezTo>
                <a:lnTo>
                  <a:pt x="8772" y="9067"/>
                </a:lnTo>
                <a:cubicBezTo>
                  <a:pt x="8772" y="7927"/>
                  <a:pt x="9695" y="7039"/>
                  <a:pt x="10800" y="7039"/>
                </a:cubicBezTo>
                <a:cubicBezTo>
                  <a:pt x="11905" y="7039"/>
                  <a:pt x="12837" y="7927"/>
                  <a:pt x="12837" y="9067"/>
                </a:cubicBezTo>
                <a:cubicBezTo>
                  <a:pt x="12837" y="9807"/>
                  <a:pt x="12367" y="10538"/>
                  <a:pt x="11905" y="10538"/>
                </a:cubicBezTo>
                <a:cubicBezTo>
                  <a:pt x="10800" y="10538"/>
                  <a:pt x="9695" y="12018"/>
                  <a:pt x="9695" y="13541"/>
                </a:cubicBezTo>
                <a:lnTo>
                  <a:pt x="9695" y="1549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037E-006 2.5E-006 C 0.1713 -0.01667 0.34838 -0.03316 0.39676 0.00746 C 0.44514 0.04809 0.31297 0.19496 0.29098 0.24427 E">
                                      <p:cBhvr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037E-006 1.66667E-006 C 0.06134 0.01094 0.33588 0.03854 0.36805 0.06597 C 0.40023 0.0934 0.22986 0.14357 0.19351 0.16406 E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8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 with gradient ¼ passing through the point (-2,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44640" y="2733840"/>
          <a:ext cx="4627440" cy="31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2733840"/>
                    <a:ext cx="46274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9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line passing throug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(-3,-5) and J (2,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735280" y="1573200"/>
          <a:ext cx="184788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1573200"/>
                    <a:ext cx="184788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58720" y="4600440"/>
            <a:ext cx="60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hoose either point H or J, whichever has the easier coordinates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727200" y="5729400"/>
          <a:ext cx="2867040" cy="200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200" y="5729400"/>
                    <a:ext cx="286704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041360" y="5689440"/>
            <a:ext cx="24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2, (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64680" y="567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29640" y="570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05556E-006 C -0.01736 -0.01372 -0.03426 -0.02761 -0.06157 -0.03542 C -0.08889 -0.04306 -0.12685 -0.04723 -0.16319 -0.04705 C -0.19953 -0.0467 -0.24629 -0.04479 -0.28032 -0.03316 C -0.31458 -0.02188 -0.34977 0.00607 -0.36875 0.02152 C -0.3875 0.03698 -0.39004 0.04774 -0.39259 0.05885 E">
                                      <p:cBhvr>
                                        <p:cTn id="33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037E-007 -0.00451 C -0.01157 -0.01406 -0.02292 -0.02378 -0.0537 -0.0309 C -0.08449 -0.03785 -0.1294 -0.04427 -0.18449 -0.0467 C -0.23958 -0.04913 -0.32732 -0.05139 -0.38449 -0.04496 C -0.44167 -0.03837 -0.48935 -0.0243 -0.52824 -0.00798 C -0.56713 0.00851 -0.59259 0.03108 -0.61782 0.05365 E">
                                      <p:cBhvr>
                                        <p:cTn id="344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500"/>
                            </p:stCondLst>
                            <p:childTnLst>
                              <p:par>
                                <p:cTn id="3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0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line parallel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 = 0 passing though the point (1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07920" y="2106720"/>
          <a:ext cx="467532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2106720"/>
                    <a:ext cx="467532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198440" y="4875120"/>
          <a:ext cx="4227480" cy="264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8440" y="4875120"/>
                    <a:ext cx="4227480" cy="26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1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line perpendicular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 + 3y – 3 = 0 passing through the point (4,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503360" y="1859040"/>
          <a:ext cx="270504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3360" y="1859040"/>
                    <a:ext cx="27050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37960" y="5064120"/>
          <a:ext cx="2718000" cy="304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960" y="5064120"/>
                    <a:ext cx="271800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>
            <a:hlinkClick r:id="rId5"/>
          </p:cNvPr>
          <p:cNvSpPr/>
          <p:nvPr/>
        </p:nvSpPr>
        <p:spPr>
          <a:xfrm>
            <a:off x="549360" y="817236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9000" y="4389480"/>
            <a:ext cx="401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468600" y="5962680"/>
          <a:ext cx="3125880" cy="202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68600" y="5962680"/>
                    <a:ext cx="312588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3133080" y="5114880"/>
            <a:ext cx="371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’ (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1040" y="4290840"/>
            <a:ext cx="4289400" cy="738360"/>
          </a:xfrm>
          <a:prstGeom prst="rect">
            <a:avLst/>
          </a:prstGeom>
          <a:solidFill>
            <a:srgbClr val="ffcc99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76440" y="7508880"/>
            <a:ext cx="2303640" cy="474480"/>
          </a:xfrm>
          <a:prstGeom prst="rect">
            <a:avLst/>
          </a:prstGeom>
          <a:solidFill>
            <a:srgbClr val="ff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2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perpendicular bisectors of each side of the triangle with vertices H (-3,1), Q (-4,-2) and T (7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9080" y="5423040"/>
            <a:ext cx="523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o find perpendicular bisectors first we have to find gradients and midpoints of the sides of the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7360" y="2135160"/>
            <a:ext cx="5708520" cy="2703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43080" y="36684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2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perpendicular bisectors of each side of the triangle with vertices H (-3,1), Q (-4,-2) and T (7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57080" y="4575240"/>
          <a:ext cx="45691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4575240"/>
                    <a:ext cx="45691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887400" y="6310440"/>
          <a:ext cx="4767120" cy="22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7400" y="6310440"/>
                    <a:ext cx="4767120" cy="22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89960" y="18921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ine 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1724040" y="1879560"/>
            <a:ext cx="49053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43080" y="36684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2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perpendicular bisectors of each side of the triangle with vertices H (-3,1), Q (-4,-2) and T (7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88800" y="4575240"/>
          <a:ext cx="53071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4575240"/>
                    <a:ext cx="53071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69800" y="6270480"/>
          <a:ext cx="5462640" cy="287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800" y="6270480"/>
                    <a:ext cx="54626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95920" y="1962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ine H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1733400" y="1871640"/>
            <a:ext cx="4843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43080" y="36684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2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perpendicular bisectors of each side of the triangle with vertices H (-3,1), Q (-4,-2) and T (7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73120" y="4575240"/>
          <a:ext cx="493704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4575240"/>
                    <a:ext cx="493704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554040" y="6270480"/>
          <a:ext cx="5294160" cy="287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040" y="6270480"/>
                    <a:ext cx="529416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295200" y="19620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ine T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1770120" y="1890720"/>
            <a:ext cx="45846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43080" y="36684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2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perpendicular bisectors of each side of the triangle with vertices H (-3,1), Q (-4,-2) and T (7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09520" y="5538960"/>
          <a:ext cx="4256280" cy="19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5538960"/>
                    <a:ext cx="425628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20640" y="2300400"/>
            <a:ext cx="5619960" cy="276228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rId4"/>
          </p:cNvPr>
          <p:cNvSpPr/>
          <p:nvPr/>
        </p:nvSpPr>
        <p:spPr>
          <a:xfrm>
            <a:off x="549360" y="817236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3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le ADH has vertices A (4,0), D (0,4)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(-2,-2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altitude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82760" y="2797200"/>
            <a:ext cx="3009600" cy="27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4584600" y="1981080"/>
          <a:ext cx="1757520" cy="246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4600" y="1981080"/>
                    <a:ext cx="175752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4622760" y="4548240"/>
          <a:ext cx="1971720" cy="131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22760" y="4548240"/>
                    <a:ext cx="197172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1160640" y="3510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63520" y="6100920"/>
          <a:ext cx="6265800" cy="182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3520" y="6100920"/>
                    <a:ext cx="6265800" cy="18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673280" y="1873080"/>
            <a:ext cx="2628720" cy="990720"/>
          </a:xfrm>
          <a:prstGeom prst="cloudCallout">
            <a:avLst>
              <a:gd name="adj1" fmla="val -22703"/>
              <a:gd name="adj2" fmla="val 115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raw a sketch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31840" y="2379600"/>
          <a:ext cx="503388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2379600"/>
                    <a:ext cx="5033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179280"/>
            <a:ext cx="61722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360" y="934920"/>
            <a:ext cx="65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length of the line from C(-4,12) to D (7,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31840" y="3394080"/>
          <a:ext cx="503388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1840" y="3394080"/>
                    <a:ext cx="5033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995480" y="4408560"/>
          <a:ext cx="272412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5480" y="4408560"/>
                    <a:ext cx="27241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995480" y="5407200"/>
          <a:ext cx="227484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95480" y="5407200"/>
                    <a:ext cx="2274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995480" y="6411960"/>
          <a:ext cx="137808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95480" y="6411960"/>
                    <a:ext cx="13780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347840" y="7230960"/>
          <a:ext cx="1963800" cy="654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47840" y="7230960"/>
                    <a:ext cx="19638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>
            <a:hlinkClick r:id="rId13"/>
          </p:cNvPr>
          <p:cNvSpPr/>
          <p:nvPr/>
        </p:nvSpPr>
        <p:spPr>
          <a:xfrm>
            <a:off x="549360" y="817236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4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le BUT has vertices B (6,8), U (-4,0)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(-2,2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median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1"/>
          </p:cNvPr>
          <p:cNvSpPr/>
          <p:nvPr/>
        </p:nvSpPr>
        <p:spPr>
          <a:xfrm>
            <a:off x="549360" y="817236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273560" y="4638600"/>
          <a:ext cx="1781280" cy="246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73560" y="4638600"/>
                    <a:ext cx="17812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816360" y="2543040"/>
          <a:ext cx="2813040" cy="141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16360" y="2543040"/>
                    <a:ext cx="2813040" cy="14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338040" y="6207120"/>
          <a:ext cx="2841840" cy="182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040" y="6207120"/>
                    <a:ext cx="284184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317520" y="2063880"/>
            <a:ext cx="3255840" cy="3328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1927080"/>
            <a:ext cx="2629080" cy="990720"/>
          </a:xfrm>
          <a:prstGeom prst="cloudCallout">
            <a:avLst>
              <a:gd name="adj1" fmla="val 24152"/>
              <a:gd name="adj2" fmla="val 85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raw a sketch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0240" y="2009880"/>
            <a:ext cx="29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 is the midpoint of 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67360" y="42829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radient of 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1800" y="574344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lect either point B or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5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by elimination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of equation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641760" y="609480"/>
          <a:ext cx="174312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1760" y="609480"/>
                    <a:ext cx="17431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933480" y="3449520"/>
          <a:ext cx="446868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3480" y="3449520"/>
                    <a:ext cx="44686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42920" y="4065480"/>
          <a:ext cx="3319560" cy="167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065480"/>
                    <a:ext cx="3319560" cy="16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0271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Select the variable you wish to eliminate.  Use common sense by looking at the values of </a:t>
            </a:r>
            <a:r>
              <a:rPr b="1" i="1" lang="en-GB" sz="1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and </a:t>
            </a:r>
            <a:r>
              <a:rPr b="1" i="1" lang="en-GB" sz="18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(co-efficients).  In this case it is simplest to eliminate </a:t>
            </a:r>
            <a:r>
              <a:rPr b="1" i="1" lang="en-GB" sz="18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by multiplying the top line by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6400" y="2817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52840" y="527040"/>
            <a:ext cx="1968480" cy="1177920"/>
          </a:xfrm>
          <a:prstGeom prst="rect">
            <a:avLst/>
          </a:prstGeom>
          <a:solidFill>
            <a:srgbClr val="ffcc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8800" y="586584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bstitute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= 3 into any equation 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18000" y="3448080"/>
            <a:ext cx="1774800" cy="4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27" y="5457"/>
                </a:moveTo>
                <a:lnTo>
                  <a:pt x="27840" y="5457"/>
                </a:lnTo>
                <a:lnTo>
                  <a:pt x="27840" y="32514"/>
                </a:lnTo>
                <a:lnTo>
                  <a:pt x="-11283" y="36834"/>
                </a:lnTo>
              </a:path>
            </a:pathLst>
          </a:custGeom>
          <a:solidFill>
            <a:srgbClr val="ffcc99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206360" y="6423120"/>
          <a:ext cx="1822680" cy="17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06360" y="6423120"/>
                    <a:ext cx="182268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786240" y="819144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int of intersection is (3 ,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4888080"/>
            <a:ext cx="172404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62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200"/>
                            </p:stCondLst>
                            <p:childTnLst>
                              <p:par>
                                <p:cTn id="5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2200"/>
                            </p:stCondLst>
                            <p:childTnLst>
                              <p:par>
                                <p:cTn id="5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6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by Substitution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of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90640" y="50608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50608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830760" y="714240"/>
          <a:ext cx="1795320" cy="10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30760" y="714240"/>
                    <a:ext cx="1795320" cy="10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>
            <a:hlinkClick r:id="rId5"/>
          </p:cNvPr>
          <p:cNvSpPr/>
          <p:nvPr/>
        </p:nvSpPr>
        <p:spPr>
          <a:xfrm>
            <a:off x="5878440" y="820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10800" y="3859"/>
                </a:moveTo>
                <a:lnTo>
                  <a:pt x="13376" y="6470"/>
                </a:lnTo>
                <a:lnTo>
                  <a:pt x="13376" y="4729"/>
                </a:lnTo>
                <a:lnTo>
                  <a:pt x="15152" y="4729"/>
                </a:lnTo>
                <a:lnTo>
                  <a:pt x="15152" y="8245"/>
                </a:lnTo>
                <a:lnTo>
                  <a:pt x="17763" y="10822"/>
                </a:lnTo>
                <a:lnTo>
                  <a:pt x="16109" y="10822"/>
                </a:lnTo>
                <a:lnTo>
                  <a:pt x="16109" y="18011"/>
                </a:lnTo>
                <a:lnTo>
                  <a:pt x="5491" y="18011"/>
                </a:lnTo>
                <a:lnTo>
                  <a:pt x="5491" y="10822"/>
                </a:lnTo>
                <a:lnTo>
                  <a:pt x="3837" y="10822"/>
                </a:lnTo>
                <a:close/>
              </a:path>
              <a:path fill="darkenLess" w="21600" h="21643">
                <a:moveTo>
                  <a:pt x="13376" y="6470"/>
                </a:moveTo>
                <a:lnTo>
                  <a:pt x="13376" y="4729"/>
                </a:lnTo>
                <a:lnTo>
                  <a:pt x="15152" y="4729"/>
                </a:lnTo>
                <a:lnTo>
                  <a:pt x="15152" y="8245"/>
                </a:lnTo>
                <a:close/>
              </a:path>
              <a:path fill="darkenLess" w="21600" h="21643">
                <a:moveTo>
                  <a:pt x="9877" y="14320"/>
                </a:moveTo>
                <a:lnTo>
                  <a:pt x="11723" y="14320"/>
                </a:lnTo>
                <a:lnTo>
                  <a:pt x="11723" y="18011"/>
                </a:lnTo>
                <a:lnTo>
                  <a:pt x="16109" y="18011"/>
                </a:lnTo>
                <a:lnTo>
                  <a:pt x="16109" y="10822"/>
                </a:lnTo>
                <a:lnTo>
                  <a:pt x="5491" y="10822"/>
                </a:lnTo>
                <a:lnTo>
                  <a:pt x="5491" y="18011"/>
                </a:lnTo>
                <a:lnTo>
                  <a:pt x="9877" y="1801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498680" y="3132000"/>
          <a:ext cx="3371760" cy="4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98680" y="3132000"/>
                    <a:ext cx="3371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44440" y="3710160"/>
          <a:ext cx="3295800" cy="25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4440" y="3710160"/>
                    <a:ext cx="329580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1851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ubstitution is a system where we rearrange an equation for one variable and then replace that variable in the other equation.  In this case rearrange for </a:t>
            </a: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in the top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2680" y="6272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bstitute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= 3 into any equation 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4320" y="3130560"/>
            <a:ext cx="1563480" cy="39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53" y="6171"/>
                </a:moveTo>
                <a:lnTo>
                  <a:pt x="34516" y="6171"/>
                </a:lnTo>
                <a:lnTo>
                  <a:pt x="34516" y="73714"/>
                </a:lnTo>
                <a:lnTo>
                  <a:pt x="-20832" y="84514"/>
                </a:lnTo>
              </a:path>
            </a:pathLst>
          </a:custGeom>
          <a:solidFill>
            <a:srgbClr val="ffcc99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760" y="6264360"/>
          <a:ext cx="1822320" cy="1700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68760" y="6264360"/>
                    <a:ext cx="182232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39560" y="7593120"/>
            <a:ext cx="37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int of intersection is (3 ,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46520" y="615960"/>
            <a:ext cx="1968480" cy="1177920"/>
          </a:xfrm>
          <a:prstGeom prst="rect">
            <a:avLst/>
          </a:prstGeom>
          <a:solidFill>
            <a:srgbClr val="00cc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668760" y="3147840"/>
          <a:ext cx="892080" cy="390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68760" y="3147840"/>
                    <a:ext cx="8920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72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54 -0.01181 L 0.26412 -0.0099 L 0.26412 0.12483 L -0.37176 0.15556 E">
                                      <p:cBhvr>
                                        <p:cTn id="600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2" dur="2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7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ngle ABC has vertices A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4), B (-6,1) and C (4,-3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dian AM and the altitude BP intersect at K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coordinates of the point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311560" y="1920960"/>
            <a:ext cx="3009600" cy="24130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9920" y="3821040"/>
            <a:ext cx="2596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ind the median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23720" y="6532560"/>
          <a:ext cx="1781280" cy="261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3720" y="6532560"/>
                    <a:ext cx="178128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07880" y="4759200"/>
          <a:ext cx="2562480" cy="12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7880" y="4759200"/>
                    <a:ext cx="25624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508200" y="5880240"/>
          <a:ext cx="2689560" cy="1776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8200" y="5880240"/>
                    <a:ext cx="268956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245880" y="4330800"/>
            <a:ext cx="30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 is the midpoint of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3360" y="602280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radient of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17760" y="5232240"/>
            <a:ext cx="35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lect either point A or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8"/>
          <a:stretch/>
        </p:blipFill>
        <p:spPr>
          <a:xfrm>
            <a:off x="2357280" y="1989000"/>
            <a:ext cx="3009960" cy="22813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0" y="1927080"/>
            <a:ext cx="2629080" cy="990720"/>
          </a:xfrm>
          <a:prstGeom prst="cloudCallout">
            <a:avLst>
              <a:gd name="adj1" fmla="val 24152"/>
              <a:gd name="adj2" fmla="val 85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raw a sketch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17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ngle ABC has vertices A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4), B (-6,1) and C (4,-3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dian AM and the altitude BP intersect at K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coordinates of the point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4480" y="3416400"/>
            <a:ext cx="256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ind the altitude 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0800" y="70423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radient of 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13120" y="4968720"/>
            <a:ext cx="35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se point B and m = 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014640" y="1854360"/>
            <a:ext cx="3397320" cy="25747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2995560" y="1887480"/>
            <a:ext cx="3370320" cy="26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8" name=""/>
          <p:cNvGraphicFramePr/>
          <p:nvPr/>
        </p:nvGraphicFramePr>
        <p:xfrm>
          <a:off x="446040" y="4403880"/>
          <a:ext cx="190980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040" y="4403880"/>
                    <a:ext cx="190980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507960" y="7475400"/>
          <a:ext cx="1971720" cy="13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960" y="7475400"/>
                    <a:ext cx="197172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303720" y="5478480"/>
          <a:ext cx="2714400" cy="177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03720" y="5478480"/>
                    <a:ext cx="271440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81160" y="3995640"/>
            <a:ext cx="2994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ind the gradient of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9760" y="1874880"/>
            <a:ext cx="2628720" cy="990720"/>
          </a:xfrm>
          <a:prstGeom prst="cloudCallout">
            <a:avLst>
              <a:gd name="adj1" fmla="val 24152"/>
              <a:gd name="adj2" fmla="val 85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raw a sketch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17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ngle ABC has vertices A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4), B (-6,1) and C (4,-3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dian AM and the altitude BP intersect at K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coordinates of the point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386160" y="2131920"/>
            <a:ext cx="3009960" cy="234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539640" y="4089240"/>
          <a:ext cx="2173320" cy="77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089240"/>
                    <a:ext cx="2173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2135880" y="868680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nd of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30120" y="2120760"/>
            <a:ext cx="28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olve equations simultaneously to find the point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32880" y="2806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0" y="5516640"/>
          <a:ext cx="3614760" cy="25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516640"/>
                    <a:ext cx="361476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905280" y="54640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bstitute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= 0 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044960" y="6483240"/>
          <a:ext cx="1457280" cy="1263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44960" y="6483240"/>
                    <a:ext cx="145728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1019160" y="813744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int of intersection is (0 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7600" y="362736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quation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1080" y="5022720"/>
            <a:ext cx="27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olve by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000240" y="5070600"/>
          <a:ext cx="3492720" cy="349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00240" y="5070600"/>
                    <a:ext cx="349272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3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gradient of the line through the points L (7,2) and P (-5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137120" y="2536920"/>
          <a:ext cx="27208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7120" y="2536920"/>
                    <a:ext cx="27208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>
            <a:hlinkClick r:id="rId3"/>
          </p:cNvPr>
          <p:cNvSpPr/>
          <p:nvPr/>
        </p:nvSpPr>
        <p:spPr>
          <a:xfrm>
            <a:off x="549360" y="817236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7560" y="2000160"/>
            <a:ext cx="50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ient of LP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2894040"/>
            <a:ext cx="4043520" cy="3031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90520" y="415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6000" y="4541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886280"/>
            <a:ext cx="25621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66560" y="4476600"/>
            <a:ext cx="0" cy="40968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4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(-2,7), L (8,7), M (14,1) and N (4,-1) are the vertices of a quadrilatera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 Find the gradient of each side of the quadrilater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 Calculate the size of the angle the lines LN and KM make with the x-ax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Explain why KLMN is a rhomb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63400" y="6770520"/>
          <a:ext cx="589464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6770520"/>
                    <a:ext cx="589464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13000" y="2436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43440" y="2171880"/>
            <a:ext cx="2628720" cy="990360"/>
          </a:xfrm>
          <a:prstGeom prst="cloudCallout">
            <a:avLst>
              <a:gd name="adj1" fmla="val -26087"/>
              <a:gd name="adj2" fmla="val 68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raw a sketch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047600" y="2516040"/>
            <a:ext cx="5220000" cy="391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91200" y="3335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31080" y="59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07000" y="5881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3160" y="3335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4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(-2,7), L (8,7), M (14,1) and N (4,-1) are the vertices of a quadrilatera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 Find the gradient of each side of the quadrilater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 Calculate the size of the angle the lines LN and KM make with the x-ax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Explain why KLMN is a rhomb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648240" y="5794200"/>
          <a:ext cx="3209760" cy="20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8240" y="5794200"/>
                    <a:ext cx="3209760" cy="20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13000" y="2436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14360" y="2039760"/>
            <a:ext cx="5219640" cy="3914640"/>
            <a:chOff x="1314360" y="2039760"/>
            <a:chExt cx="5219640" cy="391464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1314360" y="2039760"/>
              <a:ext cx="5219640" cy="39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990800" y="2820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73480" y="5418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9000" y="5424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98640" y="2858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638160" y="3276360"/>
              <a:ext cx="856800" cy="2190960"/>
            </a:xfrm>
            <a:prstGeom prst="line">
              <a:avLst/>
            </a:prstGeom>
            <a:ln w="28440">
              <a:solidFill>
                <a:srgbClr val="ff33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2880" y="3276360"/>
              <a:ext cx="3523680" cy="2171880"/>
            </a:xfrm>
            <a:prstGeom prst="line">
              <a:avLst/>
            </a:prstGeom>
            <a:ln w="28440">
              <a:solidFill>
                <a:srgbClr val="ff33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423720" y="5861160"/>
          <a:ext cx="2961000" cy="200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3720" y="5861160"/>
                    <a:ext cx="29610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03200" y="8151840"/>
            <a:ext cx="614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pposite sides are parallel from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agonals are at 90 degrees to each other fro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hape is a 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0" y="79866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6"/>
          </p:cNvPr>
          <p:cNvSpPr/>
          <p:nvPr/>
        </p:nvSpPr>
        <p:spPr>
          <a:xfrm>
            <a:off x="6138720" y="8423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10800" y="3859"/>
                </a:moveTo>
                <a:lnTo>
                  <a:pt x="13376" y="6470"/>
                </a:lnTo>
                <a:lnTo>
                  <a:pt x="13376" y="4729"/>
                </a:lnTo>
                <a:lnTo>
                  <a:pt x="15152" y="4729"/>
                </a:lnTo>
                <a:lnTo>
                  <a:pt x="15152" y="8245"/>
                </a:lnTo>
                <a:lnTo>
                  <a:pt x="17763" y="10822"/>
                </a:lnTo>
                <a:lnTo>
                  <a:pt x="16109" y="10822"/>
                </a:lnTo>
                <a:lnTo>
                  <a:pt x="16109" y="18011"/>
                </a:lnTo>
                <a:lnTo>
                  <a:pt x="5491" y="18011"/>
                </a:lnTo>
                <a:lnTo>
                  <a:pt x="5491" y="10822"/>
                </a:lnTo>
                <a:lnTo>
                  <a:pt x="3837" y="10822"/>
                </a:lnTo>
                <a:close/>
              </a:path>
              <a:path fill="darkenLess" w="21600" h="21643">
                <a:moveTo>
                  <a:pt x="13376" y="6470"/>
                </a:moveTo>
                <a:lnTo>
                  <a:pt x="13376" y="4729"/>
                </a:lnTo>
                <a:lnTo>
                  <a:pt x="15152" y="4729"/>
                </a:lnTo>
                <a:lnTo>
                  <a:pt x="15152" y="8245"/>
                </a:lnTo>
                <a:close/>
              </a:path>
              <a:path fill="darkenLess" w="21600" h="21643">
                <a:moveTo>
                  <a:pt x="9877" y="14320"/>
                </a:moveTo>
                <a:lnTo>
                  <a:pt x="11723" y="14320"/>
                </a:lnTo>
                <a:lnTo>
                  <a:pt x="11723" y="18011"/>
                </a:lnTo>
                <a:lnTo>
                  <a:pt x="16109" y="18011"/>
                </a:lnTo>
                <a:lnTo>
                  <a:pt x="16109" y="10822"/>
                </a:lnTo>
                <a:lnTo>
                  <a:pt x="5491" y="10822"/>
                </a:lnTo>
                <a:lnTo>
                  <a:pt x="5491" y="18011"/>
                </a:lnTo>
                <a:lnTo>
                  <a:pt x="9877" y="1801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63360" y="1827360"/>
          <a:ext cx="679464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827360"/>
                    <a:ext cx="679464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12640" y="5875200"/>
            <a:ext cx="5662800" cy="2778120"/>
          </a:xfrm>
          <a:prstGeom prst="rect">
            <a:avLst/>
          </a:prstGeom>
          <a:solidFill>
            <a:srgbClr val="cc99ff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84520" y="5896080"/>
          <a:ext cx="2709720" cy="27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4520" y="5896080"/>
                    <a:ext cx="270972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986120" y="5896080"/>
          <a:ext cx="2639880" cy="278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6120" y="5896080"/>
                    <a:ext cx="26398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467000" y="5877000"/>
          <a:ext cx="3720960" cy="277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67000" y="5877000"/>
                    <a:ext cx="372096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14280" y="1057320"/>
            <a:ext cx="62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down the gradient of the lines perpendicular to the given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23800" y="2577960"/>
          <a:ext cx="1297080" cy="78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3800" y="2577960"/>
                    <a:ext cx="129708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112920" y="2614680"/>
          <a:ext cx="1128960" cy="78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12920" y="2614680"/>
                    <a:ext cx="112896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529240" y="2744640"/>
          <a:ext cx="1089000" cy="47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29240" y="2744640"/>
                    <a:ext cx="108900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520" y="4863960"/>
          <a:ext cx="1297080" cy="78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3520" y="4863960"/>
                    <a:ext cx="129708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762280" y="4933800"/>
          <a:ext cx="1128600" cy="781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62280" y="4933800"/>
                    <a:ext cx="11286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246640" y="4916520"/>
          <a:ext cx="1297080" cy="780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46640" y="4916520"/>
                    <a:ext cx="12970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001960" y="5878440"/>
          <a:ext cx="2708280" cy="2765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01960" y="5878440"/>
                    <a:ext cx="270828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787400" y="5905440"/>
          <a:ext cx="2746440" cy="2746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87400" y="5905440"/>
                    <a:ext cx="274644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60720" y="5889600"/>
          <a:ext cx="2746080" cy="2744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160720" y="5889600"/>
                    <a:ext cx="274608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179280"/>
            <a:ext cx="61722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360" y="934920"/>
            <a:ext cx="6524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Q makes an angle of 32º with the positive direction of the x-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 is perpendicular to PQ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gradient of 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9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89000" y="2724120"/>
          <a:ext cx="2332080" cy="14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2724120"/>
                    <a:ext cx="23320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598760" y="4052880"/>
          <a:ext cx="3325680" cy="446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8760" y="4052880"/>
                    <a:ext cx="33256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179280"/>
            <a:ext cx="61722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92280" y="2292480"/>
          <a:ext cx="5113080" cy="51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292480"/>
                    <a:ext cx="5113080" cy="51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15920" y="934920"/>
            <a:ext cx="7172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20" indent="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(-6,3), U(1,4), and V(-5,-4) are the vertices of triangle TU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" indent="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is the mid-point of U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" indent="972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V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" indent="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920" indent="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y triangle TUV is isosce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938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00000" y="3260880"/>
            <a:ext cx="3275280" cy="3497040"/>
            <a:chOff x="900000" y="3260880"/>
            <a:chExt cx="3275280" cy="3497040"/>
          </a:xfrm>
        </p:grpSpPr>
        <p:graphicFrame>
          <p:nvGraphicFramePr>
            <p:cNvPr id="161" name=""/>
            <p:cNvGraphicFramePr/>
            <p:nvPr/>
          </p:nvGraphicFramePr>
          <p:xfrm>
            <a:off x="900000" y="3260880"/>
            <a:ext cx="3105360" cy="3497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00000" y="3260880"/>
                      <a:ext cx="3105360" cy="34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2232000" y="4921200"/>
              <a:ext cx="1943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336680" y="4064040"/>
            <a:ext cx="119556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40080" y="4869000"/>
            <a:ext cx="215640" cy="215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81600" y="2476440"/>
            <a:ext cx="2628720" cy="990720"/>
          </a:xfrm>
          <a:prstGeom prst="cloudCallout">
            <a:avLst>
              <a:gd name="adj1" fmla="val -26087"/>
              <a:gd name="adj2" fmla="val 68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raw a sketch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94280" y="844236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ontinue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7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81160" y="2155680"/>
          <a:ext cx="274140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2155680"/>
                    <a:ext cx="27414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33520" y="3743280"/>
          <a:ext cx="2095560" cy="17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743280"/>
                    <a:ext cx="209556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051000" y="3746520"/>
          <a:ext cx="2289240" cy="17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1000" y="3746520"/>
                    <a:ext cx="228924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4330800" y="235080"/>
            <a:ext cx="2274840" cy="2693880"/>
            <a:chOff x="4330800" y="235080"/>
            <a:chExt cx="2274840" cy="2693880"/>
          </a:xfrm>
        </p:grpSpPr>
        <p:graphicFrame>
          <p:nvGraphicFramePr>
            <p:cNvPr id="176" name=""/>
            <p:cNvGraphicFramePr/>
            <p:nvPr/>
          </p:nvGraphicFramePr>
          <p:xfrm>
            <a:off x="4330800" y="235080"/>
            <a:ext cx="2274840" cy="269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30800" y="235080"/>
                      <a:ext cx="2274840" cy="269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8" name=""/>
            <p:cNvGrpSpPr/>
            <p:nvPr/>
          </p:nvGrpSpPr>
          <p:grpSpPr>
            <a:xfrm>
              <a:off x="4422960" y="745200"/>
              <a:ext cx="1456920" cy="1842480"/>
              <a:chOff x="4422960" y="745200"/>
              <a:chExt cx="1456920" cy="1842480"/>
            </a:xfrm>
          </p:grpSpPr>
          <p:graphicFrame>
            <p:nvGraphicFramePr>
              <p:cNvPr id="179" name=""/>
              <p:cNvGraphicFramePr/>
              <p:nvPr/>
            </p:nvGraphicFramePr>
            <p:xfrm>
              <a:off x="4422960" y="745200"/>
              <a:ext cx="1381680" cy="1842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422960" y="745200"/>
                        <a:ext cx="1381680" cy="1842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1" name=""/>
              <p:cNvSpPr/>
              <p:nvPr/>
            </p:nvSpPr>
            <p:spPr>
              <a:xfrm>
                <a:off x="5014800" y="1620720"/>
                <a:ext cx="8650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1145520" y="177012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 is the midpoint of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1800" y="16365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0560" y="6178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cd56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51080" y="6026040"/>
          <a:ext cx="2505240" cy="65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51080" y="6026040"/>
                    <a:ext cx="25052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938520" y="61786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5760" y="6859440"/>
            <a:ext cx="57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5cd56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cd56"/>
                </a:solidFill>
                <a:latin typeface="Arial"/>
              </a:rPr>
              <a:t>TM is a perpendicular bisector to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5cd56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cd56"/>
                </a:solidFill>
                <a:latin typeface="Arial"/>
              </a:rPr>
              <a:t>TM is a line of symmetry to </a:t>
            </a:r>
            <a:r>
              <a:rPr b="1" lang="en-US" sz="2400" spc="-1" strike="noStrike">
                <a:solidFill>
                  <a:srgbClr val="35cd56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35cd56"/>
                </a:solidFill>
                <a:latin typeface="Arial"/>
              </a:rPr>
              <a:t>T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5cd56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cd56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35cd56"/>
                </a:solidFill>
                <a:latin typeface="Arial"/>
              </a:rPr>
              <a:t>TUV is isosc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916880" y="789120"/>
            <a:ext cx="1424520" cy="1755720"/>
            <a:chOff x="4916880" y="789120"/>
            <a:chExt cx="1424520" cy="1755720"/>
          </a:xfrm>
        </p:grpSpPr>
        <p:grpSp>
          <p:nvGrpSpPr>
            <p:cNvPr id="190" name=""/>
            <p:cNvGrpSpPr/>
            <p:nvPr/>
          </p:nvGrpSpPr>
          <p:grpSpPr>
            <a:xfrm>
              <a:off x="5124600" y="1571760"/>
              <a:ext cx="375840" cy="442800"/>
              <a:chOff x="5124600" y="1571760"/>
              <a:chExt cx="375840" cy="442800"/>
            </a:xfrm>
          </p:grpSpPr>
          <p:sp>
            <p:nvSpPr>
              <p:cNvPr id="191" name=""/>
              <p:cNvSpPr/>
              <p:nvPr/>
            </p:nvSpPr>
            <p:spPr>
              <a:xfrm>
                <a:off x="5124600" y="1571760"/>
                <a:ext cx="1141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29280" y="16462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5cd56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5691240" y="789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5cd56"/>
                  </a:solidFill>
                  <a:latin typeface="Arial"/>
                </a:rPr>
                <a:t>(1,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16880" y="217656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5cd56"/>
                  </a:solidFill>
                  <a:latin typeface="Arial"/>
                </a:rPr>
                <a:t>(-5,-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H="1" flipV="1">
            <a:off x="4619160" y="1171080"/>
            <a:ext cx="552600" cy="476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13"/>
          </p:cNvPr>
          <p:cNvSpPr/>
          <p:nvPr/>
        </p:nvSpPr>
        <p:spPr>
          <a:xfrm>
            <a:off x="549360" y="817236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11920" y="83757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go back to the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7T11:17:04Z</dcterms:created>
  <dc:creator>Calum Stewart</dc:creator>
  <dc:description/>
  <dc:language>en-US</dc:language>
  <cp:lastModifiedBy>Jim O'Neill</cp:lastModifiedBy>
  <dcterms:modified xsi:type="dcterms:W3CDTF">2002-08-30T13:53:23Z</dcterms:modified>
  <cp:revision>33</cp:revision>
  <dc:subject/>
  <dc:title>Example 1</dc:title>
</cp:coreProperties>
</file>