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F6E-0393-4CF7-9EB9-F34736A5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E78-7641-4B8A-8034-8B456F53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930-2E6D-4F7C-BB2B-10AFBDD3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2BA-3599-4530-AB24-6F2E95E6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99B-AD5B-455D-A2D3-EF262F16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295-01BA-41F6-9194-72A67A3E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B8F-D718-4E9B-90F1-9296E93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DB5-5361-49D7-8E19-83276057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AA4-3578-4CDD-9B7B-83A82993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1D2-8601-423B-B72F-A8A27EF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004-8F1E-47B5-8975-7CEA7ED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50B-B6DD-489E-956B-ECA3A1DC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9BFB-3983-4552-9504-2505E778F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1.3/examples%201.3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../1.3/examples%201.3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../1.3/examples%201.3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.4%20examples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.4%20examples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1.3/examples%201.3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gher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urrenc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Generating recurrence relations on a Graphic Calculator.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2800" y="2554200"/>
            <a:ext cx="83203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graphic calculator provides an ideal platform to rapidly calculate and display terms of a recurrenc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how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y the value of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[ENTER] to get initial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 relation using ANS facility     [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[(-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s [ENTER] to get nex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 [ENTER] to get nex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Generating recurrence relations on a Graphic Calcula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5000" y="2478240"/>
            <a:ext cx="7736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same recurrence relation as used in example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0·6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68360" y="3500280"/>
            <a:ext cx="1727280" cy="3024360"/>
            <a:chOff x="468360" y="3500280"/>
            <a:chExt cx="1727280" cy="30243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39640" y="3500280"/>
              <a:ext cx="14432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8360" y="4735440"/>
              <a:ext cx="17272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 start value i.e.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ENTER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41440" y="3505320"/>
            <a:ext cx="1441440" cy="968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09680" y="4735440"/>
            <a:ext cx="185904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relation using ANS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(-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75080" y="3505320"/>
            <a:ext cx="1351080" cy="112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40360" y="4735440"/>
            <a:ext cx="2036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[ENTER] to get next valu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367320" y="3505320"/>
            <a:ext cx="1333800" cy="976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00720" y="4724280"/>
            <a:ext cx="180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[ENTER] to get next valu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Concept of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916280"/>
            <a:ext cx="83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k in an old shabby classroom and my Headteacher agrees to let me paint a wa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ays that I can only paint half of the unpainted wall each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gre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long will it take to completely paint the wall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6600"/>
                </a:solidFill>
                <a:latin typeface="Comic Sans MS"/>
                <a:ea typeface="Arial"/>
              </a:rPr>
              <a:t>Concept of a Lim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27416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55897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628640"/>
            <a:ext cx="3600720" cy="388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3429000"/>
            <a:ext cx="3673440" cy="2087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1628640"/>
            <a:ext cx="1873440" cy="180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628640"/>
            <a:ext cx="18000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2637000"/>
            <a:ext cx="93636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2637000"/>
            <a:ext cx="863640" cy="360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2997360"/>
            <a:ext cx="432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2997360"/>
            <a:ext cx="431640" cy="215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3213000"/>
            <a:ext cx="216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3213000"/>
            <a:ext cx="222120" cy="1098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6600"/>
                </a:solidFill>
                <a:latin typeface="Comic Sans MS"/>
                <a:ea typeface="Arial"/>
              </a:rPr>
              <a:t>Concept of a Lim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166760"/>
            <a:ext cx="8300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on day 1, I paint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day 2, I paint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day 3, I paint 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my total is given b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ever total 1 so I will never actually finish painting the room, although it might appear that I do.  There will always be a little space if I do it properly.  That is the idea of a limit – the end is never reached, it only appears to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consider that you would probably just dab the little space left at some point, that is the same as rounding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708360" y="2421000"/>
          <a:ext cx="391176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421000"/>
                    <a:ext cx="391176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6600"/>
                </a:solidFill>
                <a:latin typeface="Comic Sans MS"/>
                <a:ea typeface="Arial"/>
              </a:rPr>
              <a:t>Concept of a Lim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5120" y="2081160"/>
            <a:ext cx="8013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hematically a limit is when each term of a sequence approaches the sam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Will every recurrence relation have a limit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How can we t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consider some relations and look at the resulting graphs to establish a patter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istence of a limit should be obvious graph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Different values of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773360"/>
            <a:ext cx="85690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look at different recurrence relations and compare them graphically to consider whether a limit may exist or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only need consider relations of the type:  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Arial"/>
              </a:rPr>
              <a:t>n+1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 =  au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+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s we need to consider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&lt;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lt; −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a &gt;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084320"/>
          <a:ext cx="644364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4320"/>
                    <a:ext cx="644364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4360" y="5661000"/>
            <a:ext cx="122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6920" y="597708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n gets larger u(n) moves to ∞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86480" y="1197000"/>
          <a:ext cx="2657520" cy="4608000"/>
        </p:xfrm>
        <a:graphic>
          <a:graphicData uri="http://schemas.openxmlformats.org/drawingml/2006/table">
            <a:tbl>
              <a:tblPr/>
              <a:tblGrid>
                <a:gridCol w="966960"/>
                <a:gridCol w="1690560"/>
              </a:tblGrid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.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5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3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9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6678000" y="765000"/>
            <a:ext cx="209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a =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907920"/>
          <a:ext cx="687708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687708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948360" y="907920"/>
          <a:ext cx="1941480" cy="4544640"/>
        </p:xfrm>
        <a:graphic>
          <a:graphicData uri="http://schemas.openxmlformats.org/drawingml/2006/table">
            <a:tbl>
              <a:tblPr/>
              <a:tblGrid>
                <a:gridCol w="706320"/>
                <a:gridCol w="1235160"/>
              </a:tblGrid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50920" y="5516640"/>
            <a:ext cx="8497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n gets larger u(n) moves to 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der if the constant term = 0, i.e. don’t add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= 1 the limit problem is ambig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75720" y="404640"/>
            <a:ext cx="18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0 &lt; a &lt;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001880"/>
          <a:ext cx="6156360" cy="417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01880"/>
                    <a:ext cx="615636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227640" y="1052640"/>
          <a:ext cx="2513160" cy="4400280"/>
        </p:xfrm>
        <a:graphic>
          <a:graphicData uri="http://schemas.openxmlformats.org/drawingml/2006/table">
            <a:tbl>
              <a:tblPr/>
              <a:tblGrid>
                <a:gridCol w="913320"/>
                <a:gridCol w="159984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8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13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8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32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59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7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17520" y="590544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n gets larger u(n) moves to </a:t>
            </a:r>
            <a:r>
              <a:rPr b="0" lang="en-GB" sz="2400" spc="-1" strike="noStrike">
                <a:solidFill>
                  <a:srgbClr val="660066"/>
                </a:solidFill>
                <a:latin typeface="Arial"/>
              </a:rPr>
              <a:t>5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is is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43720" y="549360"/>
            <a:ext cx="207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.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The General Term of a Sequen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628640"/>
            <a:ext cx="809460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GB" sz="2200" spc="-1" strike="noStrike">
                <a:solidFill>
                  <a:srgbClr val="3333cc"/>
                </a:solidFill>
                <a:latin typeface="Arial"/>
                <a:ea typeface="Times New Roman"/>
              </a:rPr>
              <a:t>seque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is just a pattern of numbers defined by some given ru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rule should allow you to determine any term of the sequence quite clear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two ways of defining patterns or sequences of number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rst is to give a general formula </a:t>
            </a:r>
            <a:r>
              <a:rPr b="1" lang="en-GB" sz="2200" spc="-1" strike="noStrike">
                <a:solidFill>
                  <a:srgbClr val="3333cc"/>
                </a:solidFill>
                <a:latin typeface="Arial"/>
                <a:ea typeface="Times New Roman"/>
              </a:rPr>
              <a:t>explicitl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defines the nth term, u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of the sequence in terms of n itsel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econd is to give a formula which determines the next value in the sequence from the previous one.  This is an </a:t>
            </a:r>
            <a:r>
              <a:rPr b="1" lang="en-GB" sz="2200" spc="-1" strike="noStrike">
                <a:solidFill>
                  <a:srgbClr val="3333cc"/>
                </a:solidFill>
                <a:latin typeface="Arial"/>
                <a:ea typeface="Times New Roman"/>
              </a:rPr>
              <a:t>implici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formula i.e. each value is implied from the one befo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95720" y="8442360"/>
            <a:ext cx="18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Continue </a:t>
            </a:r>
            <a:r>
              <a:rPr b="0" lang="en-GB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a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197000"/>
          <a:ext cx="6154560" cy="41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1545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56360" y="1268280"/>
          <a:ext cx="2517840" cy="4400640"/>
        </p:xfrm>
        <a:graphic>
          <a:graphicData uri="http://schemas.openxmlformats.org/drawingml/2006/table">
            <a:tbl>
              <a:tblPr/>
              <a:tblGrid>
                <a:gridCol w="916200"/>
                <a:gridCol w="160164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17520" y="590544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n gets larger u(n) moves to </a:t>
            </a:r>
            <a:r>
              <a:rPr b="0" lang="en-GB" sz="2400" spc="-1" strike="noStrike">
                <a:solidFill>
                  <a:srgbClr val="660066"/>
                </a:solidFill>
                <a:latin typeface="Arial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is is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1000" y="763560"/>
            <a:ext cx="18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−</a:t>
            </a: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1 &lt; a &lt;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197000"/>
          <a:ext cx="601020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01020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50920" y="6093000"/>
            <a:ext cx="857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known as an oscillating graph. 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It is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84720" y="1268280"/>
          <a:ext cx="2373480" cy="4400640"/>
        </p:xfrm>
        <a:graphic>
          <a:graphicData uri="http://schemas.openxmlformats.org/drawingml/2006/table">
            <a:tbl>
              <a:tblPr/>
              <a:tblGrid>
                <a:gridCol w="863640"/>
                <a:gridCol w="150984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9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2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5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3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4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4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544500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n gets larger u(n) moves to </a:t>
            </a:r>
            <a:r>
              <a:rPr b="0" lang="en-GB" sz="2400" spc="-1" strike="noStrike">
                <a:solidFill>
                  <a:srgbClr val="660066"/>
                </a:solidFill>
                <a:latin typeface="Arial"/>
              </a:rPr>
              <a:t>7.142857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54280" y="763560"/>
            <a:ext cx="21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-0.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when a  = </a:t>
            </a: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−</a:t>
            </a: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836640"/>
          <a:ext cx="601200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601200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4941720"/>
            <a:ext cx="88930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an oscillating graph.  It will not settle on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der if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10, though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a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−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the limit problem is ambig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372360" y="907920"/>
          <a:ext cx="2592360" cy="4033800"/>
        </p:xfrm>
        <a:graphic>
          <a:graphicData uri="http://schemas.openxmlformats.org/drawingml/2006/table">
            <a:tbl>
              <a:tblPr/>
              <a:tblGrid>
                <a:gridCol w="942840"/>
                <a:gridCol w="16495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685560" y="476280"/>
            <a:ext cx="214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−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</a:rPr>
              <a:t>And if a &lt; -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052640"/>
          <a:ext cx="637236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6372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79280" y="5445000"/>
            <a:ext cx="62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hat this graph heads off towards both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successive values change 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516720" y="1125360"/>
          <a:ext cx="2441520" cy="4897080"/>
        </p:xfrm>
        <a:graphic>
          <a:graphicData uri="http://schemas.openxmlformats.org/drawingml/2006/table">
            <a:tbl>
              <a:tblPr/>
              <a:tblGrid>
                <a:gridCol w="877680"/>
                <a:gridCol w="156384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7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5.2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4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7.94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.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1.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.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38.4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6757560" y="692280"/>
            <a:ext cx="216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−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stablishing if a recurrence relation will have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133720"/>
            <a:ext cx="800100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 every linear recurrence relation:-   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 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+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L (Limit), as n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,  if  –1 &lt;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&lt; 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will NOT tend to a limit (other than 0) generally i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&gt; 1  (or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&lt;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.e A limit exists i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a positive or negative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e`s how to find the limit very quickly and very easily !!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stablishing if a recurrence relation will have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068640"/>
            <a:ext cx="839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reasons you could give an exam marker for why you believe that the recurrence relation is producing terms that appear to be approaching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stablishing if a recurrence relation will have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981080"/>
            <a:ext cx="830592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eason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ough the terms are getting smaller, the actual amount they are decreasing by each time is getting smaller also and is tending t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eason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graph indicates that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is tending to a limit (L) as 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eason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multiplication fact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0·7   (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0·7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+  10)   and when -1&lt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&lt; 1, automatically gives a recurrence relation with a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stablishing if a recurrence relation will have a Lim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400" y="2097000"/>
            <a:ext cx="82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order to maximise the marks you get in an exam, you must give one of the above reasons for why a limit exists before actually proceeding to find the limit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Finding the Limit (L)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120" y="2021040"/>
            <a:ext cx="831996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ce you have established that a limit exists it is very easy to find the limit (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you see that if the sequence tends to a limit, then eventually after a whi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u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Arial"/>
                <a:ea typeface="Arial"/>
              </a:rPr>
              <a:t>n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  = u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Arial"/>
                <a:ea typeface="Arial"/>
              </a:rPr>
              <a:t>n+1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  = u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Arial"/>
                <a:ea typeface="Arial"/>
              </a:rPr>
              <a:t>n+2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  = u</a:t>
            </a:r>
            <a:r>
              <a:rPr b="1" lang="en-GB" sz="2400" spc="-1" strike="noStrike" baseline="-30000">
                <a:solidFill>
                  <a:srgbClr val="3333cc"/>
                </a:solidFill>
                <a:latin typeface="Arial"/>
                <a:ea typeface="Arial"/>
              </a:rPr>
              <a:t>n+3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  = ………   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L    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i.e.   all the terms (after a while) will effectively be the same as each other (to a given number of decimal places) and will have the value L.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Finding the Limit (L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5440" y="2174760"/>
            <a:ext cx="80913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find L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imply replace both 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and 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in the recurrence relation by the letter L and solve the equation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Definitions and Terminolog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440" y="1944720"/>
            <a:ext cx="7939080" cy="40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the most confusing aspect of this topic is the terminology and notation used, in order to help you with this here are some pointe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m number i.e. first, second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current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next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previous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starting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first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 so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s the “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starting te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95720" y="8442360"/>
            <a:ext cx="18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Continue </a:t>
            </a:r>
            <a:r>
              <a:rPr b="0" lang="en-GB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Problems using Recurrence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3680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 involving recurrence relations often require the use of common sense and a careful reading of the ques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ypical scenario requires the construction of an appropriate relationship where the important quantity is the </a:t>
            </a:r>
            <a:r>
              <a:rPr b="1" lang="en-GB" sz="2400" spc="-1" strike="noStrike" u="sng">
                <a:solidFill>
                  <a:srgbClr val="660066"/>
                </a:solidFill>
                <a:uFillTx/>
                <a:latin typeface="Arial"/>
              </a:rPr>
              <a:t>resid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ther than the quantity 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ould typically be offered as a percentage.  It means that the residue is the value remaining after subtraction from 10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look at an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Problems using Recurrence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844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cal pond is badly polluted.  It is thought to contain 15 tonnes of noxious chemicals which need to be removed.  The cleaning process reduces the chemicals by 28% each week.  The pond still suffers an additional 1 tonne of chemicals each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a recurrence relation for the amount of chemical present at the end of each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cal authority would like the content to fall below 3 tonnes.  What advice should you give them about the time needed for that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Problems using Recurrence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844640"/>
            <a:ext cx="83725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28% of the chemicals are removed then (100 – 28)% remain. This figure is used in the recurrence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mical remaining is 72%,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5 t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0.72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a few terms to estab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ttern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 of the linear coefficient (0.7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mportant.  -1 &lt; a &lt; 1 shows that a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exist for this situation. This is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ggested by the table of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948360" y="2708280"/>
          <a:ext cx="2195640" cy="4033800"/>
        </p:xfrm>
        <a:graphic>
          <a:graphicData uri="http://schemas.openxmlformats.org/drawingml/2006/table">
            <a:tbl>
              <a:tblPr/>
              <a:tblGrid>
                <a:gridCol w="1016280"/>
                <a:gridCol w="1179360"/>
              </a:tblGrid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3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427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827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6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177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968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65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Comic Sans MS"/>
              </a:rPr>
              <a:t>Problems using Recurrence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07972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alculate the limit solv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= 0.72 L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L – 0.72L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8L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= 3.571428571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uthority would need to rethink their strategy as the amount of chemical pollutant will never fall to 3 ton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Definitions and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9120" y="2021040"/>
            <a:ext cx="816768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the starting value is referred to as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other times as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 You should be comfortable using either not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ust remember that the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erm may therefore be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or 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respectively!!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xplicit and Implicit Formula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9120" y="209700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ways of defining patterns or sequences of numbers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a)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Formula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(as in Worked Exampl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b)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icit Formula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(known as Recurrence Relations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Explicit</a:t>
            </a:r>
            <a:r>
              <a:rPr b="1" lang="en-GB" sz="2400" spc="-1" strike="noStrike">
                <a:solidFill>
                  <a:srgbClr val="cc6600"/>
                </a:solidFill>
                <a:latin typeface="Comic Sans MS"/>
                <a:ea typeface="Arial"/>
              </a:rPr>
              <a:t> </a:t>
            </a: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Formul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120" y="2021040"/>
            <a:ext cx="824400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is given (explicitly) in terms of n.  This means it is easy to find the actual value of any term    e.g. 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 without knowing the earlier one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shown 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orked Exampl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Implicit Formula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9120" y="1716120"/>
            <a:ext cx="78627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each term is determined (or implied) from the previous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5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0·8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0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7840" y="3952800"/>
            <a:ext cx="83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known as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currence Rel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they form a recurring sequence based on the previous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Linear Recurrence Relatio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52480"/>
            <a:ext cx="8399520" cy="43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 far we have looked at the following types of recurrence relation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ultiplyin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addin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happens when we combine these ide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ultiplying and addin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6600"/>
                </a:solidFill>
                <a:latin typeface="Comic Sans MS"/>
                <a:ea typeface="Arial"/>
              </a:rPr>
              <a:t>Linear Recurrenc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720" y="2097000"/>
            <a:ext cx="809136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called a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  <a:ea typeface="Arial"/>
              </a:rPr>
              <a:t>Linear Recurrence Rel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and in general look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a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can you see why it`s called linear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y = mx + c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720" y="4459320"/>
            <a:ext cx="67197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much more difficult to find a general (explicit) formula for u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his time, though you should not be asked to do this by the SQ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31200" y="5813280"/>
            <a:ext cx="712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O'Neill</dc:creator>
  <dc:description/>
  <dc:language>en-US</dc:language>
  <cp:lastModifiedBy>East Lothian Council</cp:lastModifiedBy>
  <dcterms:modified xsi:type="dcterms:W3CDTF">2002-09-30T07:47:30Z</dcterms:modified>
  <cp:revision>19</cp:revision>
  <dc:subject>Recurrence Relations</dc:subject>
  <dc:title>PowerPoint Presentation</dc:title>
</cp:coreProperties>
</file>