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6.docx" ContentType="application/vnd.openxmlformats-officedocument.wordprocessingml.document"/>
  <Override PartName="/ppt/embeddings/oleObject23.bin" ContentType="application/vnd.openxmlformats-officedocument.oleObject"/>
  <Override PartName="/ppt/embeddings/oleObject1.docx" ContentType="application/vnd.openxmlformats-officedocument.wordprocessingml.documen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38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0.bin" ContentType="application/vnd.openxmlformats-officedocument.oleObject"/>
  <Override PartName="/ppt/embeddings/oleObject34.bin" ContentType="application/vnd.openxmlformats-officedocument.oleObject"/>
  <Override PartName="/ppt/embeddings/oleObject7.docx" ContentType="application/vnd.openxmlformats-officedocument.wordprocessingml.documen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.bin" ContentType="application/vnd.openxmlformats-officedocument.oleObject"/>
  <Override PartName="/ppt/embeddings/oleObject39.bin" ContentType="application/vnd.openxmlformats-officedocument.oleObject"/>
  <Override PartName="/ppt/embeddings/oleObject8.docx" ContentType="application/vnd.openxmlformats-officedocument.wordprocessingml.document"/>
  <Override PartName="/ppt/embeddings/oleObject44.bin" ContentType="application/vnd.openxmlformats-officedocument.oleObject"/>
  <Override PartName="/ppt/embeddings/oleObject42.bin" ContentType="application/vnd.openxmlformats-officedocument.oleObject"/>
  <Override PartName="/ppt/embeddings/oleObject3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43.bin" ContentType="application/vnd.openxmlformats-officedocument.oleObject"/>
  <Override PartName="/ppt/embeddings/oleObject9.docx" ContentType="application/vnd.openxmlformats-officedocument.wordprocessingml.document"/>
  <Override PartName="/ppt/embeddings/oleObject8.bin" ContentType="application/vnd.openxmlformats-officedocument.oleObject"/>
  <Override PartName="/ppt/embeddings/oleObject2.docx" ContentType="application/vnd.openxmlformats-officedocument.wordprocessingml.document"/>
  <Override PartName="/ppt/embeddings/oleObject33.bin" ContentType="application/vnd.openxmlformats-officedocument.oleObject"/>
  <Override PartName="/ppt/embeddings/oleObject32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7.bin" ContentType="application/vnd.openxmlformats-officedocument.oleObject"/>
  <Override PartName="/ppt/embeddings/oleObject4.docx" ContentType="application/vnd.openxmlformats-officedocument.wordprocessingml.document"/>
  <Override PartName="/ppt/embeddings/oleObject6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48.png" ContentType="image/png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70.wmf" ContentType="image/x-wmf"/>
  <Override PartName="/ppt/media/image167.wmf" ContentType="image/x-wmf"/>
  <Override PartName="/ppt/media/image51.wmf" ContentType="image/x-wmf"/>
  <Override PartName="/ppt/media/image148.wmf" ContentType="image/x-wmf"/>
  <Override PartName="/ppt/media/image50.wmf" ContentType="image/x-wmf"/>
  <Override PartName="/ppt/media/image147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56.wmf" ContentType="image/x-wmf"/>
  <Override PartName="/ppt/media/image129.wmf" ContentType="image/x-wmf"/>
  <Override PartName="/ppt/media/image32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151.wmf" ContentType="image/x-wmf"/>
  <Override PartName="/ppt/media/image163.wmf" ContentType="image/x-wmf"/>
  <Override PartName="/ppt/media/image152.wmf" ContentType="image/x-wmf"/>
  <Override PartName="/ppt/media/image128.wmf" ContentType="image/x-wmf"/>
  <Override PartName="/ppt/media/image39.jpeg" ContentType="image/jpeg"/>
  <Override PartName="/ppt/media/image136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42.wmf" ContentType="image/x-wmf"/>
  <Override PartName="/ppt/media/image139.wmf" ContentType="image/x-wmf"/>
  <Override PartName="/ppt/media/image165.wmf" ContentType="image/x-wmf"/>
  <Override PartName="/ppt/media/image44.wmf" ContentType="image/x-wmf"/>
  <Override PartName="/ppt/media/image130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43.wmf" ContentType="image/x-wmf"/>
  <Override PartName="/ppt/media/image166.wmf" ContentType="image/x-wmf"/>
  <Override PartName="/ppt/media/image45.wmf" ContentType="image/x-wmf"/>
  <Override PartName="/ppt/media/image168.wmf" ContentType="image/x-wmf"/>
  <Override PartName="/ppt/media/image131.wmf" ContentType="image/x-wmf"/>
  <Override PartName="/ppt/media/image55.wmf" ContentType="image/x-wmf"/>
  <Override PartName="/ppt/media/image178.wmf" ContentType="image/x-wmf"/>
  <Override PartName="/ppt/media/image13.wmf" ContentType="image/x-wmf"/>
  <Override PartName="/ppt/media/image81.wmf" ContentType="image/x-wmf"/>
  <Override PartName="/ppt/media/image143.wmf" ContentType="image/x-wmf"/>
  <Override PartName="/ppt/media/image1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09.wmf" ContentType="image/x-wmf"/>
  <Override PartName="/ppt/media/image177.wmf" ContentType="image/x-wmf"/>
  <Override PartName="/ppt/media/image12.wmf" ContentType="image/x-wmf"/>
  <Override PartName="/ppt/media/image80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7.wmf" ContentType="image/x-wmf"/>
  <Override PartName="/ppt/media/image135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33.wmf" ContentType="image/x-wmf"/>
  <Override PartName="/ppt/media/image3.wmf" ContentType="image/x-wmf"/>
  <Override PartName="/ppt/media/image155.wmf" ContentType="image/x-wmf"/>
  <Override PartName="/ppt/media/image94.wmf" ContentType="image/x-wmf"/>
  <Override PartName="/ppt/media/image26.wmf" ContentType="image/x-wmf"/>
  <Override PartName="/ppt/media/image75.png" ContentType="image/png"/>
  <Override PartName="/ppt/media/image142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74.png" ContentType="image/png"/>
  <Override PartName="/ppt/media/image141.wmf" ContentType="image/x-wmf"/>
  <Override PartName="/ppt/media/image92.wmf" ContentType="image/x-wmf"/>
  <Override PartName="/ppt/media/image24.wmf" ContentType="image/x-wmf"/>
  <Override PartName="/ppt/media/image67.png" ContentType="image/png"/>
  <Override PartName="/ppt/media/image13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6.png" ContentType="image/png"/>
  <Override PartName="/ppt/media/image1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0" end="5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711-3C4B-4A16-84D5-B642DF5B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663-43B0-408E-8120-84CD7724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646-AAA0-4E35-BA1F-A044F524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180-EC34-4C1E-A92E-7223679D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7D0-45A2-43BD-A0A7-E5C423ED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D78-68B3-4212-B3BE-5C7DB56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732-A550-46AF-A14A-31791854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73A-B222-447D-9227-F5D47D0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8D3-FD5D-41B2-AD75-164F81BB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869-2621-40B4-9B02-539374F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763-04DF-442A-9BBF-7BC02891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43A-FA15-46AB-B922-8EB6605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7BCB-12DE-41E6-9D5A-544BEFBC6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4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5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5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5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6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7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7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7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7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7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7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7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7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17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17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18.wmf"/><Relationship Id="rId8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.wmf"/><Relationship Id="rId4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hyperlink" Target="file:///Higher%20Maths%201.3.ppt#Slide 9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7.wmf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2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52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52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52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52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52.wmf"/><Relationship Id="rId2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9.wmf"/><Relationship Id="rId2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png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Mathematicians/Briggs.html" TargetMode="External"/><Relationship Id="rId2" Type="http://schemas.openxmlformats.org/officeDocument/2006/relationships/hyperlink" Target="file:///../Mathematicians/Huygens.html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9.wmf"/><Relationship Id="rId1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0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0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0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0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0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0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10.wmf"/><Relationship Id="rId5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7.wmf"/><Relationship Id="rId2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2.wmf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6.wmf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4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9.wmf"/><Relationship Id="rId2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0.wmf"/><Relationship Id="rId1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56.wmf"/><Relationship Id="rId3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5.wmf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0.wmf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2.wmf"/><Relationship Id="rId1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9.wmf"/><Relationship Id="rId1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7.wm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ackground and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371600"/>
            <a:ext cx="64008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 work done with Powerpoint 1999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Advanced Higher mechanics unit 1 projectiles) Beeslack High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udy done in England on teaching A level showed that 40% teachers time spent writing notes on board with back t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me study revealed that students studied using example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876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im was to reduce note taking and increase examples done as well as increase “classroom efficienc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380880"/>
          <a:ext cx="6248520" cy="44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24852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362320" y="4343400"/>
          <a:ext cx="3412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343400"/>
                    <a:ext cx="341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flipV="1">
            <a:off x="2514600" y="40384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86200" y="4267080"/>
          <a:ext cx="92880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267080"/>
                    <a:ext cx="928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V="1">
            <a:off x="4267080" y="1980720"/>
            <a:ext cx="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14600" y="1980720"/>
            <a:ext cx="175248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343400" y="1676520"/>
          <a:ext cx="40968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1676520"/>
                    <a:ext cx="409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209680" y="3657600"/>
          <a:ext cx="40968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3657600"/>
                    <a:ext cx="409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019920" y="2743200"/>
          <a:ext cx="2249280" cy="107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2743200"/>
                    <a:ext cx="22492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343400" y="2133720"/>
          <a:ext cx="2133720" cy="38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3400" y="2133720"/>
                    <a:ext cx="21337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600200" y="3352680"/>
          <a:ext cx="129708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3352680"/>
                    <a:ext cx="1297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4724280" y="5029200"/>
            <a:ext cx="3581640" cy="990720"/>
            <a:chOff x="4724280" y="5029200"/>
            <a:chExt cx="3581640" cy="990720"/>
          </a:xfrm>
        </p:grpSpPr>
        <p:sp>
          <p:nvSpPr>
            <p:cNvPr id="78" name=""/>
            <p:cNvSpPr/>
            <p:nvPr/>
          </p:nvSpPr>
          <p:spPr>
            <a:xfrm>
              <a:off x="4724280" y="5029200"/>
              <a:ext cx="3581640" cy="99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24280" y="5257800"/>
            <a:ext cx="1106640" cy="53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5257800"/>
                      <a:ext cx="110664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"/>
            <p:cNvSpPr/>
            <p:nvPr/>
          </p:nvSpPr>
          <p:spPr>
            <a:xfrm>
              <a:off x="5867280" y="548640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5105520" y="2590920"/>
          <a:ext cx="1079280" cy="3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2590920"/>
                    <a:ext cx="1079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952880" y="3124080"/>
          <a:ext cx="1079640" cy="38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3124080"/>
                    <a:ext cx="1079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952880" y="3657600"/>
          <a:ext cx="10796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52880" y="36576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410080" y="4114800"/>
          <a:ext cx="1079640" cy="388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10080" y="41148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715000" y="4648320"/>
          <a:ext cx="1079640" cy="38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15000" y="464832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867280" y="5029200"/>
          <a:ext cx="1079640" cy="388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867280" y="5029200"/>
                    <a:ext cx="107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934320" y="5160960"/>
          <a:ext cx="312480" cy="249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934320" y="5160960"/>
                    <a:ext cx="31248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590920" y="3886200"/>
          <a:ext cx="658800" cy="388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590920" y="38862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895480" y="4343400"/>
          <a:ext cx="658800" cy="388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95480" y="43434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429000" y="4572000"/>
          <a:ext cx="658800" cy="3888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29000" y="45720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91120" y="4648320"/>
          <a:ext cx="658800" cy="388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191120" y="46483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952880" y="4419720"/>
          <a:ext cx="658800" cy="388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952880" y="44197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638680" y="4419720"/>
          <a:ext cx="658800" cy="3888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638680" y="44197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48520" y="4495680"/>
          <a:ext cx="658800" cy="3891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248520" y="4495680"/>
                    <a:ext cx="658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934320" y="4648320"/>
          <a:ext cx="658800" cy="3888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464832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315200" y="5029200"/>
          <a:ext cx="658800" cy="3888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315200" y="5029200"/>
                    <a:ext cx="658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572000" y="2743200"/>
          <a:ext cx="853920" cy="3888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572000" y="274320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648320" y="3276720"/>
          <a:ext cx="853920" cy="3888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648320" y="327672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876920" y="3809880"/>
          <a:ext cx="853920" cy="38916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876920" y="3809880"/>
                    <a:ext cx="8539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105520" y="4343400"/>
          <a:ext cx="853920" cy="3888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5105520" y="434340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334120" y="4876920"/>
          <a:ext cx="853920" cy="3888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876920"/>
                    <a:ext cx="8539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080040" y="5554800"/>
          <a:ext cx="854280" cy="3888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080040" y="5554800"/>
                    <a:ext cx="854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926400" y="5638680"/>
          <a:ext cx="312480" cy="2494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26400" y="5638680"/>
                    <a:ext cx="312480" cy="2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3809880"/>
          <a:ext cx="443160" cy="38916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1752480" y="38098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905120" y="4267080"/>
          <a:ext cx="442800" cy="38916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05120" y="42670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057400" y="4724280"/>
          <a:ext cx="442800" cy="38916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2057400" y="47242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438280" y="5105520"/>
          <a:ext cx="443160" cy="38880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2438280" y="51055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971800" y="5410080"/>
          <a:ext cx="442800" cy="38916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2971800" y="5410080"/>
                    <a:ext cx="442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581280" y="5638680"/>
          <a:ext cx="443160" cy="38916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3581280" y="56386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267080" y="5791320"/>
          <a:ext cx="443160" cy="38880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4267080" y="57913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952880" y="5943600"/>
          <a:ext cx="443160" cy="38880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4952880" y="594360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638680" y="6019920"/>
          <a:ext cx="443160" cy="38880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5638680" y="601992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324480" y="6172200"/>
          <a:ext cx="443160" cy="38880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6324480" y="6172200"/>
                    <a:ext cx="443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010280" y="6095880"/>
          <a:ext cx="443160" cy="38916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7010280" y="6095880"/>
                    <a:ext cx="4431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391520" y="5562720"/>
          <a:ext cx="442800" cy="38880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7391520" y="5562720"/>
                    <a:ext cx="4428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09480" y="1522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dien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09680" y="990720"/>
          <a:ext cx="35816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35816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33520" y="304920"/>
            <a:ext cx="7696080" cy="657360"/>
            <a:chOff x="533520" y="304920"/>
            <a:chExt cx="7696080" cy="657360"/>
          </a:xfrm>
        </p:grpSpPr>
        <p:sp>
          <p:nvSpPr>
            <p:cNvPr id="156" name=""/>
            <p:cNvSpPr/>
            <p:nvPr/>
          </p:nvSpPr>
          <p:spPr>
            <a:xfrm>
              <a:off x="533520" y="3808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at happens if we make        smaller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5029200" y="304920"/>
            <a:ext cx="43488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304920"/>
                      <a:ext cx="4348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9" name=""/>
          <p:cNvGrpSpPr/>
          <p:nvPr/>
        </p:nvGrpSpPr>
        <p:grpSpPr>
          <a:xfrm>
            <a:off x="609480" y="1190520"/>
            <a:ext cx="8000640" cy="5667120"/>
            <a:chOff x="609480" y="1190520"/>
            <a:chExt cx="8000640" cy="5667120"/>
          </a:xfrm>
        </p:grpSpPr>
        <p:graphicFrame>
          <p:nvGraphicFramePr>
            <p:cNvPr id="160" name=""/>
            <p:cNvGraphicFramePr/>
            <p:nvPr/>
          </p:nvGraphicFramePr>
          <p:xfrm>
            <a:off x="609480" y="1190520"/>
            <a:ext cx="8000640" cy="566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1190520"/>
                      <a:ext cx="8000640" cy="56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3048840" y="6264000"/>
            <a:ext cx="436680" cy="487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840" y="6264000"/>
                      <a:ext cx="4366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 flipV="1">
              <a:off x="3243600" y="5873760"/>
              <a:ext cx="0" cy="19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000040" y="6166440"/>
            <a:ext cx="1189080" cy="615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00040" y="6166440"/>
                      <a:ext cx="1189080" cy="61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 flipV="1">
              <a:off x="5487480" y="3239280"/>
              <a:ext cx="0" cy="282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243600" y="3238920"/>
              <a:ext cx="2243880" cy="263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5585400" y="2849400"/>
            <a:ext cx="524520" cy="570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85400" y="2849400"/>
                      <a:ext cx="52452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2853360" y="5385960"/>
            <a:ext cx="524520" cy="570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53360" y="5385960"/>
                      <a:ext cx="52452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5585400" y="3434760"/>
            <a:ext cx="2732040" cy="497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85400" y="3434760"/>
                      <a:ext cx="2732040" cy="4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2072880" y="4995360"/>
            <a:ext cx="1660680" cy="498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72880" y="4995360"/>
                      <a:ext cx="166068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7" name=""/>
          <p:cNvGrpSpPr/>
          <p:nvPr/>
        </p:nvGrpSpPr>
        <p:grpSpPr>
          <a:xfrm>
            <a:off x="3238560" y="4340160"/>
            <a:ext cx="2517840" cy="2119320"/>
            <a:chOff x="3238560" y="4340160"/>
            <a:chExt cx="2517840" cy="2119320"/>
          </a:xfrm>
        </p:grpSpPr>
        <p:grpSp>
          <p:nvGrpSpPr>
            <p:cNvPr id="178" name=""/>
            <p:cNvGrpSpPr/>
            <p:nvPr/>
          </p:nvGrpSpPr>
          <p:grpSpPr>
            <a:xfrm>
              <a:off x="3238560" y="4340160"/>
              <a:ext cx="1869840" cy="1679400"/>
              <a:chOff x="3238560" y="4340160"/>
              <a:chExt cx="1869840" cy="1679400"/>
            </a:xfrm>
          </p:grpSpPr>
          <p:sp>
            <p:nvSpPr>
              <p:cNvPr id="179" name=""/>
              <p:cNvSpPr/>
              <p:nvPr/>
            </p:nvSpPr>
            <p:spPr>
              <a:xfrm flipV="1">
                <a:off x="5105520" y="43430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3238560" y="4340160"/>
                <a:ext cx="1869840" cy="154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1" name=""/>
            <p:cNvGraphicFramePr/>
            <p:nvPr/>
          </p:nvGraphicFramePr>
          <p:xfrm>
            <a:off x="4876920" y="6019920"/>
            <a:ext cx="879480" cy="439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769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3" name=""/>
          <p:cNvGrpSpPr/>
          <p:nvPr/>
        </p:nvGrpSpPr>
        <p:grpSpPr>
          <a:xfrm>
            <a:off x="3247920" y="3962160"/>
            <a:ext cx="2360880" cy="2497320"/>
            <a:chOff x="3247920" y="3962160"/>
            <a:chExt cx="2360880" cy="2497320"/>
          </a:xfrm>
        </p:grpSpPr>
        <p:grpSp>
          <p:nvGrpSpPr>
            <p:cNvPr id="184" name=""/>
            <p:cNvGrpSpPr/>
            <p:nvPr/>
          </p:nvGrpSpPr>
          <p:grpSpPr>
            <a:xfrm>
              <a:off x="3247920" y="3962160"/>
              <a:ext cx="2016360" cy="2057400"/>
              <a:chOff x="3247920" y="3962160"/>
              <a:chExt cx="2016360" cy="205740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257800" y="39621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247920" y="3975120"/>
                <a:ext cx="2016360" cy="19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7" name=""/>
            <p:cNvGraphicFramePr/>
            <p:nvPr/>
          </p:nvGraphicFramePr>
          <p:xfrm>
            <a:off x="4729320" y="6019920"/>
            <a:ext cx="879480" cy="439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293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"/>
          <p:cNvGrpSpPr/>
          <p:nvPr/>
        </p:nvGrpSpPr>
        <p:grpSpPr>
          <a:xfrm>
            <a:off x="3244680" y="4648320"/>
            <a:ext cx="2206800" cy="1811160"/>
            <a:chOff x="3244680" y="4648320"/>
            <a:chExt cx="2206800" cy="1811160"/>
          </a:xfrm>
        </p:grpSpPr>
        <p:grpSp>
          <p:nvGrpSpPr>
            <p:cNvPr id="190" name=""/>
            <p:cNvGrpSpPr/>
            <p:nvPr/>
          </p:nvGrpSpPr>
          <p:grpSpPr>
            <a:xfrm>
              <a:off x="3244680" y="4648320"/>
              <a:ext cx="1708200" cy="1371600"/>
              <a:chOff x="3244680" y="4648320"/>
              <a:chExt cx="1708200" cy="137160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4952880" y="464832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244680" y="4654080"/>
                <a:ext cx="1708200" cy="12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3" name=""/>
            <p:cNvGraphicFramePr/>
            <p:nvPr/>
          </p:nvGraphicFramePr>
          <p:xfrm>
            <a:off x="4572000" y="6019920"/>
            <a:ext cx="879480" cy="439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5720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5" name=""/>
          <p:cNvGrpSpPr/>
          <p:nvPr/>
        </p:nvGrpSpPr>
        <p:grpSpPr>
          <a:xfrm>
            <a:off x="3244680" y="4876560"/>
            <a:ext cx="2054520" cy="1582920"/>
            <a:chOff x="3244680" y="4876560"/>
            <a:chExt cx="2054520" cy="1582920"/>
          </a:xfrm>
        </p:grpSpPr>
        <p:grpSp>
          <p:nvGrpSpPr>
            <p:cNvPr id="196" name=""/>
            <p:cNvGrpSpPr/>
            <p:nvPr/>
          </p:nvGrpSpPr>
          <p:grpSpPr>
            <a:xfrm>
              <a:off x="3244680" y="4876560"/>
              <a:ext cx="1555920" cy="1143000"/>
              <a:chOff x="3244680" y="4876560"/>
              <a:chExt cx="1555920" cy="1143000"/>
            </a:xfrm>
          </p:grpSpPr>
          <p:sp>
            <p:nvSpPr>
              <p:cNvPr id="197" name=""/>
              <p:cNvSpPr/>
              <p:nvPr/>
            </p:nvSpPr>
            <p:spPr>
              <a:xfrm flipV="1">
                <a:off x="4800600" y="487656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3244680" y="4889520"/>
                <a:ext cx="155592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9" name=""/>
            <p:cNvGraphicFramePr/>
            <p:nvPr/>
          </p:nvGraphicFramePr>
          <p:xfrm>
            <a:off x="4419720" y="6019920"/>
            <a:ext cx="879480" cy="439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4197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1" name=""/>
          <p:cNvGrpSpPr/>
          <p:nvPr/>
        </p:nvGrpSpPr>
        <p:grpSpPr>
          <a:xfrm>
            <a:off x="3200400" y="5275080"/>
            <a:ext cx="1832040" cy="1202040"/>
            <a:chOff x="3200400" y="5275080"/>
            <a:chExt cx="1832040" cy="1202040"/>
          </a:xfrm>
        </p:grpSpPr>
        <p:grpSp>
          <p:nvGrpSpPr>
            <p:cNvPr id="202" name=""/>
            <p:cNvGrpSpPr/>
            <p:nvPr/>
          </p:nvGrpSpPr>
          <p:grpSpPr>
            <a:xfrm>
              <a:off x="3200400" y="5275080"/>
              <a:ext cx="1257120" cy="762120"/>
              <a:chOff x="3200400" y="5275080"/>
              <a:chExt cx="1257120" cy="7621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4457520" y="5275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200400" y="5288040"/>
                <a:ext cx="12571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4152960" y="6037560"/>
            <a:ext cx="879480" cy="4395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152960" y="603756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7" name=""/>
          <p:cNvGrpSpPr/>
          <p:nvPr/>
        </p:nvGrpSpPr>
        <p:grpSpPr>
          <a:xfrm>
            <a:off x="3238560" y="5410080"/>
            <a:ext cx="1608120" cy="1049400"/>
            <a:chOff x="3238560" y="5410080"/>
            <a:chExt cx="1608120" cy="1049400"/>
          </a:xfrm>
        </p:grpSpPr>
        <p:grpSp>
          <p:nvGrpSpPr>
            <p:cNvPr id="208" name=""/>
            <p:cNvGrpSpPr/>
            <p:nvPr/>
          </p:nvGrpSpPr>
          <p:grpSpPr>
            <a:xfrm>
              <a:off x="3238560" y="5410080"/>
              <a:ext cx="1104840" cy="609840"/>
              <a:chOff x="3238560" y="5410080"/>
              <a:chExt cx="1104840" cy="60984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4343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238560" y="5423040"/>
                <a:ext cx="1104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1" name=""/>
            <p:cNvGraphicFramePr/>
            <p:nvPr/>
          </p:nvGraphicFramePr>
          <p:xfrm>
            <a:off x="3967200" y="6019920"/>
            <a:ext cx="879480" cy="4395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9672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3" name=""/>
          <p:cNvGrpSpPr/>
          <p:nvPr/>
        </p:nvGrpSpPr>
        <p:grpSpPr>
          <a:xfrm>
            <a:off x="3238560" y="5562720"/>
            <a:ext cx="1450800" cy="896760"/>
            <a:chOff x="3238560" y="5562720"/>
            <a:chExt cx="1450800" cy="896760"/>
          </a:xfrm>
        </p:grpSpPr>
        <p:grpSp>
          <p:nvGrpSpPr>
            <p:cNvPr id="214" name=""/>
            <p:cNvGrpSpPr/>
            <p:nvPr/>
          </p:nvGrpSpPr>
          <p:grpSpPr>
            <a:xfrm>
              <a:off x="3238560" y="5562720"/>
              <a:ext cx="952560" cy="457200"/>
              <a:chOff x="3238560" y="5562720"/>
              <a:chExt cx="952560" cy="457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419112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3238560" y="5568480"/>
                <a:ext cx="952560" cy="31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7" name=""/>
            <p:cNvGraphicFramePr/>
            <p:nvPr/>
          </p:nvGraphicFramePr>
          <p:xfrm>
            <a:off x="3809880" y="6019920"/>
            <a:ext cx="879480" cy="439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80988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9" name=""/>
          <p:cNvGrpSpPr/>
          <p:nvPr/>
        </p:nvGrpSpPr>
        <p:grpSpPr>
          <a:xfrm>
            <a:off x="3238560" y="5638320"/>
            <a:ext cx="1298520" cy="821160"/>
            <a:chOff x="3238560" y="5638320"/>
            <a:chExt cx="1298520" cy="821160"/>
          </a:xfrm>
        </p:grpSpPr>
        <p:grpSp>
          <p:nvGrpSpPr>
            <p:cNvPr id="220" name=""/>
            <p:cNvGrpSpPr/>
            <p:nvPr/>
          </p:nvGrpSpPr>
          <p:grpSpPr>
            <a:xfrm>
              <a:off x="3238560" y="5638320"/>
              <a:ext cx="806400" cy="381240"/>
              <a:chOff x="3238560" y="5638320"/>
              <a:chExt cx="806400" cy="381240"/>
            </a:xfrm>
          </p:grpSpPr>
          <p:sp>
            <p:nvSpPr>
              <p:cNvPr id="221" name=""/>
              <p:cNvSpPr/>
              <p:nvPr/>
            </p:nvSpPr>
            <p:spPr>
              <a:xfrm flipV="1">
                <a:off x="4038480" y="56383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3238560" y="5644800"/>
                <a:ext cx="8064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23" name=""/>
            <p:cNvGraphicFramePr/>
            <p:nvPr/>
          </p:nvGraphicFramePr>
          <p:xfrm>
            <a:off x="3657600" y="6019920"/>
            <a:ext cx="879480" cy="4395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6576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5" name=""/>
          <p:cNvGrpSpPr/>
          <p:nvPr/>
        </p:nvGrpSpPr>
        <p:grpSpPr>
          <a:xfrm>
            <a:off x="3244680" y="5714640"/>
            <a:ext cx="1140120" cy="744840"/>
            <a:chOff x="3244680" y="5714640"/>
            <a:chExt cx="1140120" cy="744840"/>
          </a:xfrm>
        </p:grpSpPr>
        <p:grpSp>
          <p:nvGrpSpPr>
            <p:cNvPr id="226" name=""/>
            <p:cNvGrpSpPr/>
            <p:nvPr/>
          </p:nvGrpSpPr>
          <p:grpSpPr>
            <a:xfrm>
              <a:off x="3244680" y="5714640"/>
              <a:ext cx="648000" cy="304920"/>
              <a:chOff x="3244680" y="5714640"/>
              <a:chExt cx="648000" cy="30492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3886200" y="57146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244680" y="5721120"/>
                <a:ext cx="648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29" name=""/>
            <p:cNvGraphicFramePr/>
            <p:nvPr/>
          </p:nvGraphicFramePr>
          <p:xfrm>
            <a:off x="3505320" y="6019920"/>
            <a:ext cx="879480" cy="4395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35053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"/>
          <p:cNvGrpSpPr/>
          <p:nvPr/>
        </p:nvGrpSpPr>
        <p:grpSpPr>
          <a:xfrm>
            <a:off x="3244680" y="5790960"/>
            <a:ext cx="987480" cy="668520"/>
            <a:chOff x="3244680" y="5790960"/>
            <a:chExt cx="987480" cy="668520"/>
          </a:xfrm>
        </p:grpSpPr>
        <p:grpSp>
          <p:nvGrpSpPr>
            <p:cNvPr id="232" name=""/>
            <p:cNvGrpSpPr/>
            <p:nvPr/>
          </p:nvGrpSpPr>
          <p:grpSpPr>
            <a:xfrm>
              <a:off x="3244680" y="5790960"/>
              <a:ext cx="489240" cy="228600"/>
              <a:chOff x="3244680" y="5790960"/>
              <a:chExt cx="489240" cy="22860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3733920" y="5790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3244680" y="5797440"/>
                <a:ext cx="489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35" name=""/>
            <p:cNvGraphicFramePr/>
            <p:nvPr/>
          </p:nvGraphicFramePr>
          <p:xfrm>
            <a:off x="3352680" y="6019920"/>
            <a:ext cx="879480" cy="4395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35268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7" name=""/>
          <p:cNvGrpSpPr/>
          <p:nvPr/>
        </p:nvGrpSpPr>
        <p:grpSpPr>
          <a:xfrm>
            <a:off x="3200400" y="5790960"/>
            <a:ext cx="879480" cy="668520"/>
            <a:chOff x="3200400" y="5790960"/>
            <a:chExt cx="879480" cy="668520"/>
          </a:xfrm>
        </p:grpSpPr>
        <p:grpSp>
          <p:nvGrpSpPr>
            <p:cNvPr id="238" name=""/>
            <p:cNvGrpSpPr/>
            <p:nvPr/>
          </p:nvGrpSpPr>
          <p:grpSpPr>
            <a:xfrm>
              <a:off x="3276720" y="5790960"/>
              <a:ext cx="304560" cy="228600"/>
              <a:chOff x="3276720" y="5790960"/>
              <a:chExt cx="304560" cy="228600"/>
            </a:xfrm>
          </p:grpSpPr>
          <p:sp>
            <p:nvSpPr>
              <p:cNvPr id="239" name=""/>
              <p:cNvSpPr/>
              <p:nvPr/>
            </p:nvSpPr>
            <p:spPr>
              <a:xfrm flipV="1">
                <a:off x="3581280" y="5790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276720" y="5800320"/>
                <a:ext cx="30456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41" name=""/>
            <p:cNvGraphicFramePr/>
            <p:nvPr/>
          </p:nvGraphicFramePr>
          <p:xfrm>
            <a:off x="3200400" y="6019920"/>
            <a:ext cx="879480" cy="43956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320040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3" name=""/>
          <p:cNvGrpSpPr/>
          <p:nvPr/>
        </p:nvGrpSpPr>
        <p:grpSpPr>
          <a:xfrm>
            <a:off x="3048120" y="5867280"/>
            <a:ext cx="879480" cy="592200"/>
            <a:chOff x="3048120" y="5867280"/>
            <a:chExt cx="879480" cy="592200"/>
          </a:xfrm>
        </p:grpSpPr>
        <p:grpSp>
          <p:nvGrpSpPr>
            <p:cNvPr id="244" name=""/>
            <p:cNvGrpSpPr/>
            <p:nvPr/>
          </p:nvGrpSpPr>
          <p:grpSpPr>
            <a:xfrm>
              <a:off x="3238560" y="5867280"/>
              <a:ext cx="190440" cy="152640"/>
              <a:chOff x="3238560" y="5867280"/>
              <a:chExt cx="190440" cy="152640"/>
            </a:xfrm>
          </p:grpSpPr>
          <p:sp>
            <p:nvSpPr>
              <p:cNvPr id="245" name=""/>
              <p:cNvSpPr/>
              <p:nvPr/>
            </p:nvSpPr>
            <p:spPr>
              <a:xfrm flipV="1">
                <a:off x="3429000" y="5867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238560" y="5879880"/>
                <a:ext cx="19044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47" name=""/>
            <p:cNvGraphicFramePr/>
            <p:nvPr/>
          </p:nvGraphicFramePr>
          <p:xfrm>
            <a:off x="3048120" y="6019920"/>
            <a:ext cx="879480" cy="4395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3048120" y="6019920"/>
                      <a:ext cx="87948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9" name=""/>
          <p:cNvGrpSpPr/>
          <p:nvPr/>
        </p:nvGrpSpPr>
        <p:grpSpPr>
          <a:xfrm>
            <a:off x="3238560" y="5105520"/>
            <a:ext cx="1908000" cy="1371600"/>
            <a:chOff x="3238560" y="5105520"/>
            <a:chExt cx="1908000" cy="1371600"/>
          </a:xfrm>
        </p:grpSpPr>
        <p:grpSp>
          <p:nvGrpSpPr>
            <p:cNvPr id="250" name=""/>
            <p:cNvGrpSpPr/>
            <p:nvPr/>
          </p:nvGrpSpPr>
          <p:grpSpPr>
            <a:xfrm>
              <a:off x="3238560" y="5105520"/>
              <a:ext cx="1415880" cy="914400"/>
              <a:chOff x="3238560" y="5105520"/>
              <a:chExt cx="1415880" cy="91440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4648320" y="51055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238560" y="5105520"/>
                <a:ext cx="141588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3" name=""/>
            <p:cNvGraphicFramePr/>
            <p:nvPr/>
          </p:nvGraphicFramePr>
          <p:xfrm>
            <a:off x="4267080" y="6037200"/>
            <a:ext cx="879480" cy="4399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267080" y="6037200"/>
                      <a:ext cx="87948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5" name=""/>
          <p:cNvGraphicFramePr/>
          <p:nvPr/>
        </p:nvGraphicFramePr>
        <p:xfrm>
          <a:off x="2590920" y="5961240"/>
          <a:ext cx="1460520" cy="4395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590920" y="5961240"/>
                    <a:ext cx="14605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flipV="1">
            <a:off x="1371600" y="5181120"/>
            <a:ext cx="48769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616800" y="4038480"/>
            <a:ext cx="2298600" cy="2113200"/>
            <a:chOff x="6616800" y="4038480"/>
            <a:chExt cx="2298600" cy="2113200"/>
          </a:xfrm>
        </p:grpSpPr>
        <p:sp>
          <p:nvSpPr>
            <p:cNvPr id="259" name=""/>
            <p:cNvSpPr/>
            <p:nvPr/>
          </p:nvSpPr>
          <p:spPr>
            <a:xfrm>
              <a:off x="6616800" y="4038480"/>
              <a:ext cx="2298600" cy="2113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gradient of AB is the gradient of the tangent at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7454880" y="4038480"/>
            <a:ext cx="1460520" cy="43992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7454880" y="4038480"/>
                      <a:ext cx="14605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1038240"/>
            <a:ext cx="8001000" cy="5667480"/>
            <a:chOff x="838080" y="1038240"/>
            <a:chExt cx="8001000" cy="5667480"/>
          </a:xfrm>
        </p:grpSpPr>
        <p:graphicFrame>
          <p:nvGraphicFramePr>
            <p:cNvPr id="265" name=""/>
            <p:cNvGraphicFramePr/>
            <p:nvPr/>
          </p:nvGraphicFramePr>
          <p:xfrm>
            <a:off x="4190760" y="4619880"/>
            <a:ext cx="52380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760" y="4619880"/>
                      <a:ext cx="52380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838080" y="1038240"/>
            <a:ext cx="8001000" cy="566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1038240"/>
                      <a:ext cx="8001000" cy="56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9" name=""/>
          <p:cNvSpPr/>
          <p:nvPr/>
        </p:nvSpPr>
        <p:spPr>
          <a:xfrm flipV="1">
            <a:off x="2819520" y="3962160"/>
            <a:ext cx="358128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200400" y="4228920"/>
            <a:ext cx="281952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390840" y="4381200"/>
            <a:ext cx="243864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33920" y="4609800"/>
            <a:ext cx="175248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4800600"/>
            <a:ext cx="11430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305240" y="4991040"/>
            <a:ext cx="6098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495680" y="5143320"/>
            <a:ext cx="2286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962520" y="4572000"/>
          <a:ext cx="12952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57200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1219320" y="457200"/>
            <a:ext cx="4800600" cy="825480"/>
            <a:chOff x="1219320" y="457200"/>
            <a:chExt cx="4800600" cy="825480"/>
          </a:xfrm>
        </p:grpSpPr>
        <p:sp>
          <p:nvSpPr>
            <p:cNvPr id="279" name=""/>
            <p:cNvSpPr/>
            <p:nvPr/>
          </p:nvSpPr>
          <p:spPr>
            <a:xfrm>
              <a:off x="1219320" y="457200"/>
              <a:ext cx="480060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hrinking the tangent line is the same as letting        get very sm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2576520" y="880920"/>
            <a:ext cx="263520" cy="37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76520" y="880920"/>
                      <a:ext cx="26352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2" name=""/>
          <p:cNvSpPr/>
          <p:nvPr/>
        </p:nvSpPr>
        <p:spPr>
          <a:xfrm>
            <a:off x="6705720" y="2362320"/>
            <a:ext cx="213336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radient doesn't change as the line gets smaller and so the gradient at B must be the same as the gradient of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304920"/>
            <a:ext cx="297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are we say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143000" y="1600200"/>
          <a:ext cx="358128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35812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914400" y="2819520"/>
            <a:ext cx="83808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70080" y="3479760"/>
          <a:ext cx="409104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0080" y="3479760"/>
                    <a:ext cx="40910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143000" y="99072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066680" y="4952880"/>
            <a:ext cx="7086600" cy="927360"/>
            <a:chOff x="1066680" y="4952880"/>
            <a:chExt cx="7086600" cy="927360"/>
          </a:xfrm>
        </p:grpSpPr>
        <p:sp>
          <p:nvSpPr>
            <p:cNvPr id="291" name=""/>
            <p:cNvSpPr/>
            <p:nvPr/>
          </p:nvSpPr>
          <p:spPr>
            <a:xfrm>
              <a:off x="1066680" y="4952880"/>
              <a:ext cx="708660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is is the basic, first principle definition of the derived function. Usually writt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4343400" y="5257800"/>
            <a:ext cx="1066680" cy="62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5257800"/>
                      <a:ext cx="106668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4" name=""/>
          <p:cNvSpPr/>
          <p:nvPr/>
        </p:nvSpPr>
        <p:spPr>
          <a:xfrm>
            <a:off x="7772400" y="6095880"/>
            <a:ext cx="12193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782720" y="2203560"/>
            <a:ext cx="5305320" cy="3341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00"/>
                </a:solidFill>
                <a:latin typeface="Times New Roman"/>
              </a:rPr>
              <a:t>Sketching Graphs of Derived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864360" y="1335240"/>
            <a:ext cx="9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sider the gradient of the function at key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773360"/>
            <a:ext cx="2808360" cy="1150920"/>
          </a:xfrm>
          <a:prstGeom prst="cloudCallout">
            <a:avLst>
              <a:gd name="adj1" fmla="val 77305"/>
              <a:gd name="adj2" fmla="val 5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angent is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35480" y="3252960"/>
            <a:ext cx="136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627280" y="3644640"/>
            <a:ext cx="720720" cy="1576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70360" y="3429000"/>
            <a:ext cx="457200" cy="351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88000" y="4005360"/>
            <a:ext cx="136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867280" y="2276640"/>
            <a:ext cx="576360" cy="1576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2303280" cy="1584360"/>
          </a:xfrm>
          <a:prstGeom prst="cloudCallout">
            <a:avLst>
              <a:gd name="adj1" fmla="val 67504"/>
              <a:gd name="adj2" fmla="val -42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dient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11640" y="4581360"/>
            <a:ext cx="4392720" cy="1008360"/>
          </a:xfrm>
          <a:prstGeom prst="cloudCallout">
            <a:avLst>
              <a:gd name="adj1" fmla="val -11078"/>
              <a:gd name="adj2" fmla="val -95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angent is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40360" y="1989000"/>
            <a:ext cx="2303640" cy="1584360"/>
          </a:xfrm>
          <a:prstGeom prst="cloudCallout">
            <a:avLst>
              <a:gd name="adj1" fmla="val -77013"/>
              <a:gd name="adj2" fmla="val 12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dient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95640" y="1628640"/>
            <a:ext cx="2303640" cy="1584360"/>
          </a:xfrm>
          <a:prstGeom prst="cloudCallout">
            <a:avLst>
              <a:gd name="adj1" fmla="val -5064"/>
              <a:gd name="adj2" fmla="val 73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dient is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0880" y="594360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can be summarised o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00"/>
                </a:solidFill>
                <a:latin typeface="Times New Roman"/>
              </a:rPr>
              <a:t>Sketching Graphs of Derived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6408720" cy="3745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611440" y="2703600"/>
            <a:ext cx="15620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690560" y="3103560"/>
            <a:ext cx="822600" cy="1604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35320" y="2882880"/>
            <a:ext cx="522360" cy="357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56200" y="3470400"/>
            <a:ext cx="1560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386320" y="1707840"/>
            <a:ext cx="658800" cy="160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5280" y="5300640"/>
            <a:ext cx="8209080" cy="1095480"/>
            <a:chOff x="395280" y="5300640"/>
            <a:chExt cx="8209080" cy="1095480"/>
          </a:xfrm>
        </p:grpSpPr>
        <p:sp>
          <p:nvSpPr>
            <p:cNvPr id="317" name=""/>
            <p:cNvSpPr/>
            <p:nvPr/>
          </p:nvSpPr>
          <p:spPr>
            <a:xfrm>
              <a:off x="7236000" y="5878440"/>
              <a:ext cx="136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67280" y="5878440"/>
              <a:ext cx="1368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00720" y="5878440"/>
              <a:ext cx="13665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2000" y="5878440"/>
              <a:ext cx="1368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63640" y="5878440"/>
              <a:ext cx="136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5280" y="5878440"/>
              <a:ext cx="136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69900"/>
                  </a:solidFill>
                  <a:latin typeface="Times New Roman"/>
                </a:rPr>
                <a:t>f </a:t>
              </a:r>
              <a:r>
                <a:rPr b="0" lang="en-GB" sz="2800" spc="-1" strike="noStrike">
                  <a:solidFill>
                    <a:srgbClr val="669900"/>
                  </a:solidFill>
                  <a:latin typeface="Times New Roman"/>
                  <a:ea typeface="Arial"/>
                </a:rPr>
                <a:t>′ </a:t>
              </a:r>
              <a:r>
                <a:rPr b="0" lang="en-GB" sz="2800" spc="-1" strike="noStrike">
                  <a:solidFill>
                    <a:srgbClr val="669900"/>
                  </a:solidFill>
                  <a:latin typeface="Times New Roman"/>
                </a:rPr>
                <a:t>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6000" y="5300640"/>
              <a:ext cx="1368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Times New Roman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67280" y="5300640"/>
              <a:ext cx="13687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00720" y="5300640"/>
              <a:ext cx="1366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Times New Roman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32000" y="5300640"/>
              <a:ext cx="13687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63640" y="5300640"/>
              <a:ext cx="1368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Times New Roman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5280" y="5300640"/>
              <a:ext cx="1368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280" y="5300640"/>
              <a:ext cx="820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280" y="5878440"/>
              <a:ext cx="82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5280" y="6396120"/>
              <a:ext cx="820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5280" y="5300640"/>
              <a:ext cx="0" cy="1095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6364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3200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072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728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36000" y="5300640"/>
              <a:ext cx="0" cy="10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04360" y="5300640"/>
              <a:ext cx="0" cy="1095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909440" y="5845320"/>
            <a:ext cx="9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+ 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95040" y="585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1880" y="584532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- 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59040" y="585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98880" y="5845320"/>
            <a:ext cx="9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9900"/>
                </a:solidFill>
                <a:latin typeface="Times New Roman"/>
              </a:rPr>
              <a:t>+ 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1905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Integ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74760" y="1773360"/>
            <a:ext cx="27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imes New Roman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6120" y="2468520"/>
            <a:ext cx="19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multip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y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92680" y="24703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decre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wer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398952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Times New Roman"/>
              </a:rPr>
              <a:t>Integra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00680" y="33163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ncre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wer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17560" y="3338640"/>
            <a:ext cx="22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divi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n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4320" y="3371760"/>
            <a:ext cx="746280" cy="319320"/>
          </a:xfrm>
          <a:prstGeom prst="leftArrow">
            <a:avLst>
              <a:gd name="adj1" fmla="val 34324"/>
              <a:gd name="adj2" fmla="val 586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3911760" y="2522520"/>
            <a:ext cx="745920" cy="318960"/>
          </a:xfrm>
          <a:prstGeom prst="leftArrow">
            <a:avLst>
              <a:gd name="adj1" fmla="val 27370"/>
              <a:gd name="adj2" fmla="val 547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811680" y="220680"/>
          <a:ext cx="143028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220680"/>
                    <a:ext cx="143028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3110040" y="4292640"/>
          <a:ext cx="20811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0040" y="4292640"/>
                    <a:ext cx="20811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189400" y="4610160"/>
          <a:ext cx="675000" cy="48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9400" y="4610160"/>
                    <a:ext cx="6750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2143080" y="5697360"/>
            <a:ext cx="52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does this </a:t>
            </a: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+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1126440" y="2240640"/>
            <a:ext cx="568080" cy="595440"/>
          </a:xfrm>
          <a:custGeom>
            <a:avLst/>
            <a:gdLst>
              <a:gd name="textAreaLeft" fmla="*/ 212040 w 568080"/>
              <a:gd name="textAreaRight" fmla="*/ 460440 w 568080"/>
              <a:gd name="textAreaTop" fmla="*/ 397440 h 595440"/>
              <a:gd name="textAreaBottom" fmla="*/ 4824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18523"/>
                </a:moveTo>
                <a:lnTo>
                  <a:pt x="14420" y="18523"/>
                </a:lnTo>
                <a:lnTo>
                  <a:pt x="14420" y="8063"/>
                </a:lnTo>
                <a:lnTo>
                  <a:pt x="10317" y="8063"/>
                </a:lnTo>
                <a:lnTo>
                  <a:pt x="15959" y="0"/>
                </a:lnTo>
                <a:lnTo>
                  <a:pt x="21600" y="8063"/>
                </a:lnTo>
                <a:lnTo>
                  <a:pt x="17497" y="8063"/>
                </a:lnTo>
                <a:lnTo>
                  <a:pt x="174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7495200" y="3365640"/>
            <a:ext cx="568440" cy="595440"/>
          </a:xfrm>
          <a:custGeom>
            <a:avLst/>
            <a:gdLst>
              <a:gd name="textAreaLeft" fmla="*/ 212040 w 568440"/>
              <a:gd name="textAreaRight" fmla="*/ 460440 w 568440"/>
              <a:gd name="textAreaTop" fmla="*/ 397440 h 595440"/>
              <a:gd name="textAreaBottom" fmla="*/ 4824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18523"/>
                </a:moveTo>
                <a:lnTo>
                  <a:pt x="14420" y="18523"/>
                </a:lnTo>
                <a:lnTo>
                  <a:pt x="14420" y="8063"/>
                </a:lnTo>
                <a:lnTo>
                  <a:pt x="10317" y="8063"/>
                </a:lnTo>
                <a:lnTo>
                  <a:pt x="15959" y="0"/>
                </a:lnTo>
                <a:lnTo>
                  <a:pt x="21600" y="8063"/>
                </a:lnTo>
                <a:lnTo>
                  <a:pt x="17497" y="8063"/>
                </a:lnTo>
                <a:lnTo>
                  <a:pt x="174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-88200" y="51228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grating is the opposite of differentiating, s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536840" y="1719360"/>
          <a:ext cx="12175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19360"/>
                    <a:ext cx="12175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570640" y="1758960"/>
          <a:ext cx="13078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0640" y="1758960"/>
                    <a:ext cx="1307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 flipH="1">
            <a:off x="2822040" y="2255760"/>
            <a:ext cx="262764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86040" y="230040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integ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69880" y="3427560"/>
          <a:ext cx="2143080" cy="14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880" y="3427560"/>
                    <a:ext cx="214308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524640" y="3384720"/>
          <a:ext cx="125244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4640" y="3384720"/>
                    <a:ext cx="12524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417600" y="26989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3240" y="3427560"/>
            <a:ext cx="262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90920" y="295920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differen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30680" y="3711600"/>
            <a:ext cx="2706480" cy="37152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93960" y="4137120"/>
            <a:ext cx="2733840" cy="9504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793960" y="4355640"/>
            <a:ext cx="2724120" cy="260280"/>
          </a:xfrm>
          <a:prstGeom prst="line">
            <a:avLst/>
          </a:prstGeom>
          <a:ln cap="rnd" w="2844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46240" y="1971720"/>
            <a:ext cx="262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3920" y="150336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differen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849040" y="5087880"/>
            <a:ext cx="262764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13040" y="5132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integ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410080"/>
            <a:ext cx="7956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ating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6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.......which function do we get back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859360" y="3911760"/>
          <a:ext cx="55260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9360" y="3911760"/>
                    <a:ext cx="5526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64960" y="560520"/>
            <a:ext cx="18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65440" y="596880"/>
            <a:ext cx="56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you integrate a function remember to ad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52360" y="1450800"/>
            <a:ext cx="691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tant of Integr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i="1" lang="en-GB" sz="4400" spc="-1" strike="noStrike">
                <a:solidFill>
                  <a:srgbClr val="ff0000"/>
                </a:solidFill>
                <a:latin typeface="Times New Roman"/>
              </a:rPr>
              <a:t>+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ults of initia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371600"/>
            <a:ext cx="64008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point does not work in the classro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as sole item for teacher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 moves to fast and does not take their explanations out with the text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getting the whole example on one slide confuses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 interaction was reduced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 on screen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 teac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im of current material is an attempt to solve these within the original a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895400" y="1817640"/>
          <a:ext cx="11019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5400" y="1817640"/>
                    <a:ext cx="11019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3535200" y="1995480"/>
            <a:ext cx="53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“integra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respect to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914480" y="2970360"/>
          <a:ext cx="1438200" cy="67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4480" y="2970360"/>
                    <a:ext cx="14382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3557520" y="309420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s            “integra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93640"/>
            <a:ext cx="25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352680" y="0"/>
          <a:ext cx="4498920" cy="52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0"/>
                    <a:ext cx="44989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1650960" y="3683160"/>
            <a:ext cx="6834240" cy="2828880"/>
            <a:chOff x="1650960" y="3683160"/>
            <a:chExt cx="6834240" cy="2828880"/>
          </a:xfrm>
        </p:grpSpPr>
        <p:sp>
          <p:nvSpPr>
            <p:cNvPr id="399" name=""/>
            <p:cNvSpPr/>
            <p:nvPr/>
          </p:nvSpPr>
          <p:spPr>
            <a:xfrm>
              <a:off x="1650960" y="4664160"/>
              <a:ext cx="451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is notation was “invented”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ttfried Wilhelm von Leibniz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7"/>
            <a:stretch/>
          </p:blipFill>
          <p:spPr>
            <a:xfrm>
              <a:off x="6159240" y="3683160"/>
              <a:ext cx="2325960" cy="28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372240" y="4038840"/>
            <a:ext cx="1358640" cy="2819520"/>
            <a:chOff x="372240" y="4038840"/>
            <a:chExt cx="1358640" cy="2819520"/>
          </a:xfrm>
        </p:grpSpPr>
        <p:sp>
          <p:nvSpPr>
            <p:cNvPr id="402" name=""/>
            <p:cNvSpPr/>
            <p:nvPr/>
          </p:nvSpPr>
          <p:spPr>
            <a:xfrm>
              <a:off x="372240" y="4038840"/>
              <a:ext cx="135864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</a:t>
              </a:r>
              <a:endParaRPr b="0" lang="en-US" sz="18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60280" y="15228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Part 2    The Area Under a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2080" y="793800"/>
            <a:ext cx="83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gral of a function can be used to determine the area between the x-axis and the graph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69520" y="1839240"/>
            <a:ext cx="3444480" cy="2179440"/>
            <a:chOff x="569520" y="1839240"/>
            <a:chExt cx="3444480" cy="2179440"/>
          </a:xfrm>
        </p:grpSpPr>
        <p:grpSp>
          <p:nvGrpSpPr>
            <p:cNvPr id="406" name=""/>
            <p:cNvGrpSpPr/>
            <p:nvPr/>
          </p:nvGrpSpPr>
          <p:grpSpPr>
            <a:xfrm>
              <a:off x="841680" y="1860480"/>
              <a:ext cx="3013560" cy="1804320"/>
              <a:chOff x="841680" y="1860480"/>
              <a:chExt cx="3013560" cy="1804320"/>
            </a:xfrm>
          </p:grpSpPr>
          <p:sp>
            <p:nvSpPr>
              <p:cNvPr id="407" name=""/>
              <p:cNvSpPr/>
              <p:nvPr/>
            </p:nvSpPr>
            <p:spPr>
              <a:xfrm rot="10800000">
                <a:off x="1594800" y="2762640"/>
                <a:ext cx="1380960" cy="902160"/>
              </a:xfrm>
              <a:prstGeom prst="flowChartDocumen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41680" y="3664800"/>
                <a:ext cx="75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76120" y="3664800"/>
                <a:ext cx="87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41680" y="1860480"/>
                <a:ext cx="0" cy="180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981000">
                <a:off x="916200" y="2481480"/>
                <a:ext cx="717840" cy="421200"/>
              </a:xfrm>
              <a:custGeom>
                <a:avLst/>
                <a:gdLst/>
                <a:ahLst/>
                <a:rect l="l" t="t" r="r" b="b"/>
                <a:pathLst>
                  <a:path w="720" h="420">
                    <a:moveTo>
                      <a:pt x="720" y="360"/>
                    </a:moveTo>
                    <a:cubicBezTo>
                      <a:pt x="600" y="390"/>
                      <a:pt x="480" y="420"/>
                      <a:pt x="360" y="360"/>
                    </a:cubicBezTo>
                    <a:cubicBezTo>
                      <a:pt x="240" y="300"/>
                      <a:pt x="60" y="6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098400">
                <a:off x="2997360" y="2740320"/>
                <a:ext cx="668880" cy="157680"/>
              </a:xfrm>
              <a:custGeom>
                <a:avLst/>
                <a:gdLst/>
                <a:ahLst/>
                <a:rect l="l" t="t" r="r" b="b"/>
                <a:pathLst>
                  <a:path w="960" h="220">
                    <a:moveTo>
                      <a:pt x="0" y="60"/>
                    </a:moveTo>
                    <a:cubicBezTo>
                      <a:pt x="152" y="140"/>
                      <a:pt x="305" y="220"/>
                      <a:pt x="465" y="210"/>
                    </a:cubicBezTo>
                    <a:cubicBezTo>
                      <a:pt x="625" y="200"/>
                      <a:pt x="877" y="35"/>
                      <a:pt x="96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3" name=""/>
            <p:cNvGraphicFramePr/>
            <p:nvPr/>
          </p:nvGraphicFramePr>
          <p:xfrm>
            <a:off x="3832920" y="3773880"/>
            <a:ext cx="181080" cy="19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32920" y="3773880"/>
                      <a:ext cx="1810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569520" y="1839240"/>
            <a:ext cx="195120" cy="243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9520" y="1839240"/>
                      <a:ext cx="19512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2833560" y="3704040"/>
            <a:ext cx="195120" cy="31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833560" y="3704040"/>
                      <a:ext cx="195120" cy="3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1451880" y="3734640"/>
            <a:ext cx="22320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51880" y="3734640"/>
                      <a:ext cx="2232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1" name=""/>
            <p:cNvGraphicFramePr/>
            <p:nvPr/>
          </p:nvGraphicFramePr>
          <p:xfrm>
            <a:off x="2543760" y="2370240"/>
            <a:ext cx="920520" cy="300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2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43760" y="2370240"/>
                      <a:ext cx="920520" cy="3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"/>
          <p:cNvGraphicFramePr/>
          <p:nvPr/>
        </p:nvGraphicFramePr>
        <p:xfrm>
          <a:off x="4087800" y="2343240"/>
          <a:ext cx="3727440" cy="1076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87800" y="2343240"/>
                    <a:ext cx="3727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27160" y="4119480"/>
          <a:ext cx="8637480" cy="822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7160" y="4119480"/>
                    <a:ext cx="86374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320760" y="5024520"/>
            <a:ext cx="4174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B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ite integ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t h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er li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pper li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51055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There is no need to bother about the constant of integration (+ c) when working out a definit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021200" y="550800"/>
            <a:ext cx="4519440" cy="2805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17520" y="409680"/>
            <a:ext cx="3416400" cy="1762200"/>
            <a:chOff x="317520" y="409680"/>
            <a:chExt cx="3416400" cy="1762200"/>
          </a:xfrm>
        </p:grpSpPr>
        <p:grpSp>
          <p:nvGrpSpPr>
            <p:cNvPr id="431" name=""/>
            <p:cNvGrpSpPr/>
            <p:nvPr/>
          </p:nvGrpSpPr>
          <p:grpSpPr>
            <a:xfrm>
              <a:off x="317520" y="409680"/>
              <a:ext cx="2647800" cy="1762200"/>
              <a:chOff x="317520" y="409680"/>
              <a:chExt cx="2647800" cy="1762200"/>
            </a:xfrm>
          </p:grpSpPr>
          <p:graphicFrame>
            <p:nvGraphicFramePr>
              <p:cNvPr id="432" name=""/>
              <p:cNvGraphicFramePr/>
              <p:nvPr/>
            </p:nvGraphicFramePr>
            <p:xfrm>
              <a:off x="317520" y="409680"/>
              <a:ext cx="2647800" cy="1762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7520" y="409680"/>
                        <a:ext cx="2647800" cy="176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34" name=""/>
              <p:cNvSpPr/>
              <p:nvPr/>
            </p:nvSpPr>
            <p:spPr>
              <a:xfrm>
                <a:off x="684360" y="15080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57480" y="15192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08280" y="12333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03360" y="1233360"/>
                <a:ext cx="37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2359080" y="593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=f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65040" y="2733840"/>
            <a:ext cx="1339920" cy="780840"/>
            <a:chOff x="365040" y="2733840"/>
            <a:chExt cx="1339920" cy="780840"/>
          </a:xfrm>
        </p:grpSpPr>
        <p:sp>
          <p:nvSpPr>
            <p:cNvPr id="440" name=""/>
            <p:cNvSpPr/>
            <p:nvPr/>
          </p:nvSpPr>
          <p:spPr>
            <a:xfrm>
              <a:off x="365040" y="2733840"/>
              <a:ext cx="1339920" cy="780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1" name=""/>
            <p:cNvGraphicFramePr/>
            <p:nvPr/>
          </p:nvGraphicFramePr>
          <p:xfrm>
            <a:off x="417240" y="2789280"/>
            <a:ext cx="1219320" cy="67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7240" y="2789280"/>
                      <a:ext cx="1219320" cy="67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3" name=""/>
          <p:cNvGrpSpPr/>
          <p:nvPr/>
        </p:nvGrpSpPr>
        <p:grpSpPr>
          <a:xfrm>
            <a:off x="1979640" y="2733840"/>
            <a:ext cx="1339920" cy="780840"/>
            <a:chOff x="1979640" y="2733840"/>
            <a:chExt cx="1339920" cy="780840"/>
          </a:xfrm>
        </p:grpSpPr>
        <p:sp>
          <p:nvSpPr>
            <p:cNvPr id="444" name=""/>
            <p:cNvSpPr/>
            <p:nvPr/>
          </p:nvSpPr>
          <p:spPr>
            <a:xfrm>
              <a:off x="1979640" y="2733840"/>
              <a:ext cx="1339920" cy="780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5" name=""/>
            <p:cNvGraphicFramePr/>
            <p:nvPr/>
          </p:nvGraphicFramePr>
          <p:xfrm>
            <a:off x="2092320" y="2771640"/>
            <a:ext cx="1206360" cy="67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92320" y="2771640"/>
                      <a:ext cx="120636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7" name=""/>
          <p:cNvSpPr/>
          <p:nvPr/>
        </p:nvSpPr>
        <p:spPr>
          <a:xfrm>
            <a:off x="4041720" y="457200"/>
            <a:ext cx="30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ery Important 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56200" y="1420920"/>
            <a:ext cx="43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alculated by integ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92640" y="1828800"/>
            <a:ext cx="45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above the x-axis are pos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14960" y="2602080"/>
            <a:ext cx="41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below the x-axis are neg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3886200"/>
            <a:ext cx="65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alculating the area between a curve and the x-ax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33520" y="467028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 a ske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33520" y="506880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areas above and below the x-axis separ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44680" y="5514840"/>
            <a:ext cx="59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gnore the negative signs and ad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1676520" y="685800"/>
          <a:ext cx="5378400" cy="3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858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838080" y="31240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e Exponential &amp; Logarithmic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828800" y="838080"/>
          <a:ext cx="5378400" cy="370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80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981080" y="990720"/>
          <a:ext cx="5378400" cy="369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9907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2133720" y="1143000"/>
          <a:ext cx="5378400" cy="369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11430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2286000" y="1295280"/>
          <a:ext cx="5378400" cy="370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2952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2438280" y="1447920"/>
          <a:ext cx="5378400" cy="369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14479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2590920" y="1600200"/>
          <a:ext cx="5378400" cy="3697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6002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743200" y="1752480"/>
          <a:ext cx="5378400" cy="3700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3200" y="1752480"/>
                    <a:ext cx="5378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895480" y="1905120"/>
          <a:ext cx="5378400" cy="36972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5480" y="190512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3048120" y="2057400"/>
          <a:ext cx="5378400" cy="36972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2057400"/>
                    <a:ext cx="5378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8080" y="6248520"/>
            <a:ext cx="44960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nential Growth &amp;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121932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orked 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an puts £2500 into a savings account earning 13% interest per annum.  How much money will she have if she leaves it there for 15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£A(n) be the amount in her account after n year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795240" y="3886200"/>
          <a:ext cx="175284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3886200"/>
                    <a:ext cx="17528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795240" y="4299120"/>
          <a:ext cx="542628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240" y="4299120"/>
                    <a:ext cx="54262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795240" y="4770360"/>
          <a:ext cx="531360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5240" y="4770360"/>
                    <a:ext cx="5313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795240" y="5243400"/>
          <a:ext cx="5399280" cy="5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240" y="5243400"/>
                    <a:ext cx="53992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795240" y="5715000"/>
          <a:ext cx="624708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5240" y="5715000"/>
                    <a:ext cx="62470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5715000" y="3124080"/>
          <a:ext cx="1569960" cy="175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3124080"/>
                    <a:ext cx="15699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6400800" y="3733920"/>
          <a:ext cx="1569960" cy="175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733920"/>
                    <a:ext cx="15699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781680" y="4191120"/>
          <a:ext cx="1228680" cy="137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1680" y="4191120"/>
                    <a:ext cx="12286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7086600" y="4800600"/>
          <a:ext cx="88740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4800600"/>
                    <a:ext cx="887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7238880" y="5334120"/>
          <a:ext cx="682920" cy="76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5334120"/>
                    <a:ext cx="682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010280" y="5486400"/>
          <a:ext cx="54612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10280" y="5486400"/>
                    <a:ext cx="546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6858000" y="5638680"/>
          <a:ext cx="40968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0" y="5638680"/>
                    <a:ext cx="409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838080" y="6172200"/>
          <a:ext cx="4494240" cy="509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6172200"/>
                    <a:ext cx="44942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048120" y="5638680"/>
            <a:ext cx="2666880" cy="838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380880"/>
            <a:ext cx="838224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 of an urban district is decreasing at the rate of 2% per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the initial population, find a formula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pulation,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fter n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will it take for the population to drop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0 000 to 800 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43000" y="3657600"/>
          <a:ext cx="403848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4038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1173240" y="4208400"/>
          <a:ext cx="397656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208400"/>
                    <a:ext cx="39765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5257800" y="4229280"/>
          <a:ext cx="3200400" cy="49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29280"/>
                    <a:ext cx="32004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"/>
          <p:cNvGrpSpPr/>
          <p:nvPr/>
        </p:nvGrpSpPr>
        <p:grpSpPr>
          <a:xfrm>
            <a:off x="1781280" y="3276720"/>
            <a:ext cx="6245280" cy="1009440"/>
            <a:chOff x="1781280" y="3276720"/>
            <a:chExt cx="6245280" cy="1009440"/>
          </a:xfrm>
        </p:grpSpPr>
        <p:sp>
          <p:nvSpPr>
            <p:cNvPr id="514" name=""/>
            <p:cNvSpPr/>
            <p:nvPr/>
          </p:nvSpPr>
          <p:spPr>
            <a:xfrm>
              <a:off x="1781280" y="3914640"/>
              <a:ext cx="6245280" cy="371520"/>
            </a:xfrm>
            <a:custGeom>
              <a:avLst/>
              <a:gdLst/>
              <a:ahLst/>
              <a:rect l="l" t="t" r="r" b="b"/>
              <a:pathLst>
                <a:path w="3934" h="234">
                  <a:moveTo>
                    <a:pt x="0" y="234"/>
                  </a:moveTo>
                  <a:cubicBezTo>
                    <a:pt x="137" y="189"/>
                    <a:pt x="219" y="158"/>
                    <a:pt x="367" y="145"/>
                  </a:cubicBezTo>
                  <a:cubicBezTo>
                    <a:pt x="670" y="155"/>
                    <a:pt x="952" y="164"/>
                    <a:pt x="1256" y="156"/>
                  </a:cubicBezTo>
                  <a:cubicBezTo>
                    <a:pt x="1478" y="173"/>
                    <a:pt x="1701" y="175"/>
                    <a:pt x="1923" y="189"/>
                  </a:cubicBezTo>
                  <a:cubicBezTo>
                    <a:pt x="2069" y="181"/>
                    <a:pt x="2203" y="159"/>
                    <a:pt x="2345" y="134"/>
                  </a:cubicBezTo>
                  <a:cubicBezTo>
                    <a:pt x="2387" y="127"/>
                    <a:pt x="2425" y="106"/>
                    <a:pt x="2467" y="100"/>
                  </a:cubicBezTo>
                  <a:cubicBezTo>
                    <a:pt x="2507" y="94"/>
                    <a:pt x="2680" y="81"/>
                    <a:pt x="2712" y="78"/>
                  </a:cubicBezTo>
                  <a:cubicBezTo>
                    <a:pt x="2840" y="52"/>
                    <a:pt x="2959" y="16"/>
                    <a:pt x="3090" y="0"/>
                  </a:cubicBezTo>
                  <a:cubicBezTo>
                    <a:pt x="3294" y="6"/>
                    <a:pt x="3439" y="4"/>
                    <a:pt x="3623" y="34"/>
                  </a:cubicBezTo>
                  <a:cubicBezTo>
                    <a:pt x="3671" y="53"/>
                    <a:pt x="3719" y="62"/>
                    <a:pt x="3768" y="78"/>
                  </a:cubicBezTo>
                  <a:cubicBezTo>
                    <a:pt x="3888" y="160"/>
                    <a:pt x="3790" y="94"/>
                    <a:pt x="3868" y="145"/>
                  </a:cubicBezTo>
                  <a:cubicBezTo>
                    <a:pt x="3879" y="152"/>
                    <a:pt x="3901" y="167"/>
                    <a:pt x="3901" y="167"/>
                  </a:cubicBezTo>
                  <a:cubicBezTo>
                    <a:pt x="3928" y="207"/>
                    <a:pt x="3917" y="188"/>
                    <a:pt x="3934" y="223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72200" y="32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66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6" name=""/>
          <p:cNvGraphicFramePr/>
          <p:nvPr/>
        </p:nvGraphicFramePr>
        <p:xfrm>
          <a:off x="1190520" y="4724280"/>
          <a:ext cx="410076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90520" y="4724280"/>
                    <a:ext cx="41007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5381640" y="4737240"/>
          <a:ext cx="3305160" cy="49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81640" y="4737240"/>
                    <a:ext cx="33051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1933560" y="4505400"/>
            <a:ext cx="6245280" cy="371520"/>
          </a:xfrm>
          <a:custGeom>
            <a:avLst/>
            <a:gdLst/>
            <a:ahLst/>
            <a:rect l="l" t="t" r="r" b="b"/>
            <a:pathLst>
              <a:path w="3934" h="234">
                <a:moveTo>
                  <a:pt x="0" y="234"/>
                </a:moveTo>
                <a:cubicBezTo>
                  <a:pt x="137" y="189"/>
                  <a:pt x="219" y="158"/>
                  <a:pt x="367" y="145"/>
                </a:cubicBezTo>
                <a:cubicBezTo>
                  <a:pt x="670" y="155"/>
                  <a:pt x="952" y="164"/>
                  <a:pt x="1256" y="156"/>
                </a:cubicBezTo>
                <a:cubicBezTo>
                  <a:pt x="1478" y="173"/>
                  <a:pt x="1701" y="175"/>
                  <a:pt x="1923" y="189"/>
                </a:cubicBezTo>
                <a:cubicBezTo>
                  <a:pt x="2069" y="181"/>
                  <a:pt x="2203" y="159"/>
                  <a:pt x="2345" y="134"/>
                </a:cubicBezTo>
                <a:cubicBezTo>
                  <a:pt x="2387" y="127"/>
                  <a:pt x="2425" y="106"/>
                  <a:pt x="2467" y="100"/>
                </a:cubicBezTo>
                <a:cubicBezTo>
                  <a:pt x="2507" y="94"/>
                  <a:pt x="2680" y="81"/>
                  <a:pt x="2712" y="78"/>
                </a:cubicBezTo>
                <a:cubicBezTo>
                  <a:pt x="2840" y="52"/>
                  <a:pt x="2959" y="16"/>
                  <a:pt x="3090" y="0"/>
                </a:cubicBezTo>
                <a:cubicBezTo>
                  <a:pt x="3294" y="6"/>
                  <a:pt x="3439" y="4"/>
                  <a:pt x="3623" y="34"/>
                </a:cubicBezTo>
                <a:cubicBezTo>
                  <a:pt x="3671" y="53"/>
                  <a:pt x="3719" y="62"/>
                  <a:pt x="3768" y="78"/>
                </a:cubicBezTo>
                <a:cubicBezTo>
                  <a:pt x="3888" y="160"/>
                  <a:pt x="3790" y="94"/>
                  <a:pt x="3868" y="145"/>
                </a:cubicBezTo>
                <a:cubicBezTo>
                  <a:pt x="3879" y="152"/>
                  <a:pt x="3901" y="167"/>
                  <a:pt x="3901" y="167"/>
                </a:cubicBezTo>
                <a:cubicBezTo>
                  <a:pt x="3928" y="207"/>
                  <a:pt x="3917" y="188"/>
                  <a:pt x="3934" y="223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6668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048120" y="5638680"/>
          <a:ext cx="266688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5638680"/>
                    <a:ext cx="266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4572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838080" y="457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ing our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514600" y="1066680"/>
          <a:ext cx="26668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2666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990720" y="2209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setting up the graphing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5410080"/>
            <a:ext cx="53337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fifth year the population drops below 80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295280" y="3048120"/>
          <a:ext cx="2886120" cy="19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8120"/>
                    <a:ext cx="288612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4343400" y="3048120"/>
          <a:ext cx="2895480" cy="19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28954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38080" y="6094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abbit population on an island increases by 15% each year.  How many years will it take for the population to at least dou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143000" y="3048120"/>
          <a:ext cx="4006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4006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7" name=""/>
          <p:cNvGrpSpPr/>
          <p:nvPr/>
        </p:nvGrpSpPr>
        <p:grpSpPr>
          <a:xfrm>
            <a:off x="1066680" y="2362320"/>
            <a:ext cx="4952880" cy="555480"/>
            <a:chOff x="1066680" y="2362320"/>
            <a:chExt cx="4952880" cy="555480"/>
          </a:xfrm>
        </p:grpSpPr>
        <p:graphicFrame>
          <p:nvGraphicFramePr>
            <p:cNvPr id="538" name=""/>
            <p:cNvGraphicFramePr/>
            <p:nvPr/>
          </p:nvGraphicFramePr>
          <p:xfrm>
            <a:off x="1600200" y="2362320"/>
            <a:ext cx="396720" cy="5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2362320"/>
                      <a:ext cx="39672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>
              <a:off x="1066680" y="23623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et       be the initial 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1" name=""/>
          <p:cNvGraphicFramePr/>
          <p:nvPr/>
        </p:nvGraphicFramePr>
        <p:xfrm>
          <a:off x="1143000" y="3568680"/>
          <a:ext cx="5424480" cy="5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568680"/>
                    <a:ext cx="5424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1143000" y="4114800"/>
          <a:ext cx="548640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114800"/>
                    <a:ext cx="54864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1219320" y="4724280"/>
          <a:ext cx="2249280" cy="58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724280"/>
                    <a:ext cx="22492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7" name=""/>
          <p:cNvGrpSpPr/>
          <p:nvPr/>
        </p:nvGrpSpPr>
        <p:grpSpPr>
          <a:xfrm>
            <a:off x="1219320" y="5380200"/>
            <a:ext cx="2514600" cy="639720"/>
            <a:chOff x="1219320" y="5380200"/>
            <a:chExt cx="2514600" cy="639720"/>
          </a:xfrm>
        </p:grpSpPr>
        <p:sp>
          <p:nvSpPr>
            <p:cNvPr id="548" name=""/>
            <p:cNvSpPr/>
            <p:nvPr/>
          </p:nvSpPr>
          <p:spPr>
            <a:xfrm>
              <a:off x="1219320" y="5410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9" name=""/>
            <p:cNvGraphicFramePr/>
            <p:nvPr/>
          </p:nvGraphicFramePr>
          <p:xfrm>
            <a:off x="1752480" y="5380200"/>
            <a:ext cx="1067040" cy="639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5380200"/>
                      <a:ext cx="106704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"/>
          <p:cNvSpPr/>
          <p:nvPr/>
        </p:nvSpPr>
        <p:spPr>
          <a:xfrm>
            <a:off x="6019920" y="5334120"/>
            <a:ext cx="24382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4 years the populatio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81280" y="5257800"/>
          <a:ext cx="1981440" cy="1371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5257800"/>
                    <a:ext cx="1981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pecial Exponential Function – the “Number”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90720" y="8701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etter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presents the value 2.718….. (a never ending decimal). This number occurs often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219320" y="2209680"/>
            <a:ext cx="6933960" cy="914400"/>
            <a:chOff x="1219320" y="2209680"/>
            <a:chExt cx="6933960" cy="914400"/>
          </a:xfrm>
        </p:grpSpPr>
        <p:sp>
          <p:nvSpPr>
            <p:cNvPr id="557" name=""/>
            <p:cNvSpPr/>
            <p:nvPr/>
          </p:nvSpPr>
          <p:spPr>
            <a:xfrm>
              <a:off x="1219320" y="2209680"/>
              <a:ext cx="6553080" cy="91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19320" y="2286000"/>
              <a:ext cx="69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(x) = 2.718..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GB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is called the exponential function to the base </a:t>
              </a:r>
              <a:r>
                <a:rPr b="0" lang="en-GB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457200" y="3429000"/>
            <a:ext cx="84582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though we now think of logarithms as the exponents to which one must raise the base to get the required number, this is a modern way of thinking. In 1624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lmost made it into the mathematical literature, but not quite. In that yea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rigg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gave a numerical approximation to the base 10 logarithm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ut did not menti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tself in his wor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rtainly by 1661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uyge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nderstood the relation between the rectangular hyperbola and the logarithm. He examined explicitly the relation between the area under the rectangular hyperbol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1 and the logarithm. Of course, the numbe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such that the area under the rectangular hyperbola from 1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equal to 1. This is the property that make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base of natural logarithms, but this was not understood by mathematicians at this time, although they were slowly approaching such a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ss of a fixed quantity of radioactive substance decays according to the formula  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50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0.0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    whe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mass in grams                                      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time in years.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mass after 12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2666880" y="2971800"/>
          <a:ext cx="361980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61980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urren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923760"/>
            <a:ext cx="6400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point does work in the classroom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he sole item for teacher delivery you need your blackboar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 moves at pace dictated by them and does  take their explanations out with the text provided onto the 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rt introductory examples on screen others required on 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 interaction enhanced by “gaps” in th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 shifts between teacher and scre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066680" y="457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ing the Exponential Function and the Logarithm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57200" y="1371600"/>
            <a:ext cx="4341960" cy="3201840"/>
            <a:chOff x="457200" y="1371600"/>
            <a:chExt cx="4341960" cy="3201840"/>
          </a:xfrm>
        </p:grpSpPr>
        <p:graphicFrame>
          <p:nvGraphicFramePr>
            <p:cNvPr id="565" name=""/>
            <p:cNvGraphicFramePr/>
            <p:nvPr/>
          </p:nvGraphicFramePr>
          <p:xfrm>
            <a:off x="457200" y="1371600"/>
            <a:ext cx="4267080" cy="32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371600"/>
                      <a:ext cx="4267080" cy="32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7" name=""/>
            <p:cNvGraphicFramePr/>
            <p:nvPr/>
          </p:nvGraphicFramePr>
          <p:xfrm>
            <a:off x="2362320" y="1371600"/>
            <a:ext cx="99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1371600"/>
                      <a:ext cx="99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9" name=""/>
            <p:cNvGraphicFramePr/>
            <p:nvPr/>
          </p:nvGraphicFramePr>
          <p:xfrm>
            <a:off x="3886200" y="1981080"/>
            <a:ext cx="912960" cy="36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981080"/>
                      <a:ext cx="9129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1066680" y="2362320"/>
            <a:ext cx="533520" cy="325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6232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3" name=""/>
            <p:cNvGraphicFramePr/>
            <p:nvPr/>
          </p:nvGraphicFramePr>
          <p:xfrm>
            <a:off x="2438280" y="3429000"/>
            <a:ext cx="533520" cy="325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38280" y="342900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5" name=""/>
          <p:cNvSpPr/>
          <p:nvPr/>
        </p:nvSpPr>
        <p:spPr>
          <a:xfrm>
            <a:off x="5486400" y="10666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hapter 2.2 we found that the exponential function has an inverse function, called the logarithmic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5638680" y="3505320"/>
          <a:ext cx="274320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505320"/>
                    <a:ext cx="2743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4724280" y="1981080"/>
          <a:ext cx="685800" cy="363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1981080"/>
                    <a:ext cx="685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99072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g function is the inverse of the exponential function, so it ‘undoes’ the exponentia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"/>
          <p:cNvGraphicFramePr/>
          <p:nvPr/>
        </p:nvGraphicFramePr>
        <p:xfrm>
          <a:off x="152280" y="304920"/>
          <a:ext cx="8763120" cy="29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763120" cy="29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69040" y="124308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69040" y="158904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720" y="20574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276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38862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1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. to what power gives   ….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520" y="464832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. to what power gives   ….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33520" y="5334120"/>
            <a:ext cx="7848360" cy="834840"/>
            <a:chOff x="533520" y="5334120"/>
            <a:chExt cx="7848360" cy="834840"/>
          </a:xfrm>
        </p:grpSpPr>
        <p:graphicFrame>
          <p:nvGraphicFramePr>
            <p:cNvPr id="590" name=""/>
            <p:cNvGraphicFramePr/>
            <p:nvPr/>
          </p:nvGraphicFramePr>
          <p:xfrm>
            <a:off x="1523880" y="5334120"/>
            <a:ext cx="741600" cy="83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5334120"/>
                      <a:ext cx="741600" cy="8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2" name=""/>
            <p:cNvSpPr/>
            <p:nvPr/>
          </p:nvSpPr>
          <p:spPr>
            <a:xfrm>
              <a:off x="533520" y="5410080"/>
              <a:ext cx="784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c)log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3            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“…. to what power gives     ….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362320" y="38862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63920" y="38862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38862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63920" y="464832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05720" y="464832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62320" y="548640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63920" y="5486400"/>
            <a:ext cx="38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1960" y="4419720"/>
          <a:ext cx="3603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1960" y="4419720"/>
                    <a:ext cx="360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6649920" y="5257800"/>
          <a:ext cx="74160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49920" y="5257800"/>
                    <a:ext cx="741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0666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les of Loga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les for Log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les for indi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80880" y="2057400"/>
          <a:ext cx="358164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35816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80880" y="3352680"/>
          <a:ext cx="358164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35816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685800" y="4800600"/>
          <a:ext cx="274320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00600"/>
                    <a:ext cx="27432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267080" y="2133720"/>
          <a:ext cx="464832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133720"/>
                    <a:ext cx="4648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4343400" y="3200400"/>
          <a:ext cx="434340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3200400"/>
                    <a:ext cx="434340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4572000" y="4952880"/>
          <a:ext cx="388620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952880"/>
                    <a:ext cx="38862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68580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ample 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38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198108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+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19051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3 –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828800" y="2514600"/>
          <a:ext cx="220968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2209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828800" y="3048120"/>
          <a:ext cx="17002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048120"/>
                    <a:ext cx="1700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8800" y="3581280"/>
          <a:ext cx="50976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581280"/>
                    <a:ext cx="5097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9" name=""/>
          <p:cNvGrpSpPr/>
          <p:nvPr/>
        </p:nvGrpSpPr>
        <p:grpSpPr>
          <a:xfrm>
            <a:off x="0" y="2438280"/>
            <a:ext cx="1676520" cy="1219320"/>
            <a:chOff x="0" y="2438280"/>
            <a:chExt cx="1676520" cy="1219320"/>
          </a:xfrm>
        </p:grpSpPr>
        <p:sp>
          <p:nvSpPr>
            <p:cNvPr id="630" name=""/>
            <p:cNvSpPr/>
            <p:nvPr/>
          </p:nvSpPr>
          <p:spPr>
            <a:xfrm>
              <a:off x="0" y="2438280"/>
              <a:ext cx="1676520" cy="1219320"/>
            </a:xfrm>
            <a:prstGeom prst="cloudCallout">
              <a:avLst>
                <a:gd name="adj1" fmla="val 63541"/>
                <a:gd name="adj2" fmla="val 4466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1" name=""/>
            <p:cNvGraphicFramePr/>
            <p:nvPr/>
          </p:nvGraphicFramePr>
          <p:xfrm>
            <a:off x="304920" y="3048120"/>
            <a:ext cx="1066680" cy="314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3048120"/>
                      <a:ext cx="10666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33" name=""/>
          <p:cNvGraphicFramePr/>
          <p:nvPr/>
        </p:nvGraphicFramePr>
        <p:xfrm>
          <a:off x="5867280" y="2362320"/>
          <a:ext cx="170028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362320"/>
                    <a:ext cx="1700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5867280" y="3352680"/>
          <a:ext cx="113364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3352680"/>
                    <a:ext cx="11336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5867280" y="3959280"/>
          <a:ext cx="53496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3959280"/>
                    <a:ext cx="5349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"/>
          <p:cNvGrpSpPr/>
          <p:nvPr/>
        </p:nvGrpSpPr>
        <p:grpSpPr>
          <a:xfrm>
            <a:off x="7467480" y="2895480"/>
            <a:ext cx="1676520" cy="1219320"/>
            <a:chOff x="7467480" y="2895480"/>
            <a:chExt cx="1676520" cy="1219320"/>
          </a:xfrm>
        </p:grpSpPr>
        <p:sp>
          <p:nvSpPr>
            <p:cNvPr id="640" name=""/>
            <p:cNvSpPr/>
            <p:nvPr/>
          </p:nvSpPr>
          <p:spPr>
            <a:xfrm>
              <a:off x="7467480" y="2895480"/>
              <a:ext cx="1676520" cy="1219320"/>
            </a:xfrm>
            <a:prstGeom prst="cloudCallout">
              <a:avLst>
                <a:gd name="adj1" fmla="val -108615"/>
                <a:gd name="adj2" fmla="val 429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1" name=""/>
            <p:cNvGraphicFramePr/>
            <p:nvPr/>
          </p:nvGraphicFramePr>
          <p:xfrm>
            <a:off x="7848720" y="3505320"/>
            <a:ext cx="630000" cy="314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48720" y="3505320"/>
                      <a:ext cx="63000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676520" y="1371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2666880" y="1066680"/>
          <a:ext cx="346104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066680"/>
                    <a:ext cx="34610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5791320" y="2590920"/>
          <a:ext cx="1396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590920"/>
                    <a:ext cx="139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971800" y="2438280"/>
          <a:ext cx="2635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438280"/>
                    <a:ext cx="26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3276720" y="2286000"/>
          <a:ext cx="2635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286000"/>
                    <a:ext cx="26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3657600" y="2362320"/>
          <a:ext cx="20484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362320"/>
                    <a:ext cx="204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3886200" y="2362320"/>
          <a:ext cx="20484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362320"/>
                    <a:ext cx="204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4114800" y="2438280"/>
          <a:ext cx="15084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2438280"/>
                    <a:ext cx="15084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4267080" y="2590920"/>
          <a:ext cx="15084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67080" y="2590920"/>
                    <a:ext cx="1508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0" name=""/>
          <p:cNvGrpSpPr/>
          <p:nvPr/>
        </p:nvGrpSpPr>
        <p:grpSpPr>
          <a:xfrm>
            <a:off x="2743200" y="2514600"/>
            <a:ext cx="3152880" cy="1066680"/>
            <a:chOff x="2743200" y="2514600"/>
            <a:chExt cx="3152880" cy="1066680"/>
          </a:xfrm>
        </p:grpSpPr>
        <p:graphicFrame>
          <p:nvGraphicFramePr>
            <p:cNvPr id="661" name=""/>
            <p:cNvGraphicFramePr/>
            <p:nvPr/>
          </p:nvGraphicFramePr>
          <p:xfrm>
            <a:off x="3051000" y="2754360"/>
            <a:ext cx="2845080" cy="577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51000" y="2754360"/>
                      <a:ext cx="28450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4648320" y="2590920"/>
            <a:ext cx="353880" cy="990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648320" y="2590920"/>
                      <a:ext cx="3538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2743200" y="2514600"/>
            <a:ext cx="382680" cy="990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743200" y="2514600"/>
                      <a:ext cx="3826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7" name=""/>
          <p:cNvSpPr/>
          <p:nvPr/>
        </p:nvSpPr>
        <p:spPr>
          <a:xfrm>
            <a:off x="2743200" y="2514600"/>
            <a:ext cx="304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89640" y="2590920"/>
            <a:ext cx="304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5562720" y="2286000"/>
          <a:ext cx="2174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62720" y="2286000"/>
                    <a:ext cx="217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5280120" y="2133720"/>
          <a:ext cx="27144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80120" y="2133720"/>
                    <a:ext cx="271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5002200" y="2209680"/>
          <a:ext cx="24444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02200" y="2209680"/>
                    <a:ext cx="24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4724280" y="2133720"/>
          <a:ext cx="271440" cy="761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24280" y="2133720"/>
                    <a:ext cx="271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2362320" y="2819520"/>
          <a:ext cx="533160" cy="479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62320" y="2819520"/>
                    <a:ext cx="5331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2362320" y="3483000"/>
          <a:ext cx="533160" cy="479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362320" y="348300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2971800" y="3276720"/>
          <a:ext cx="3505320" cy="71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971800" y="3276720"/>
                    <a:ext cx="35053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2362320" y="4092480"/>
          <a:ext cx="533160" cy="479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40924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971800" y="3924360"/>
          <a:ext cx="2666880" cy="641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971800" y="3924360"/>
                    <a:ext cx="2666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2362320" y="4549680"/>
          <a:ext cx="533160" cy="479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362320" y="45496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3048120" y="4495680"/>
          <a:ext cx="909360" cy="489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48120" y="4495680"/>
                    <a:ext cx="9093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2362320" y="5006880"/>
          <a:ext cx="533160" cy="479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362320" y="5006880"/>
                    <a:ext cx="533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3124080" y="4876920"/>
          <a:ext cx="262080" cy="4888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124080" y="4876920"/>
                    <a:ext cx="2620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5" name=""/>
          <p:cNvGrpSpPr/>
          <p:nvPr/>
        </p:nvGrpSpPr>
        <p:grpSpPr>
          <a:xfrm>
            <a:off x="914400" y="3276720"/>
            <a:ext cx="1676520" cy="1218960"/>
            <a:chOff x="914400" y="3276720"/>
            <a:chExt cx="1676520" cy="1218960"/>
          </a:xfrm>
        </p:grpSpPr>
        <p:sp>
          <p:nvSpPr>
            <p:cNvPr id="696" name=""/>
            <p:cNvSpPr/>
            <p:nvPr/>
          </p:nvSpPr>
          <p:spPr>
            <a:xfrm>
              <a:off x="914400" y="3276720"/>
              <a:ext cx="1676520" cy="1218960"/>
            </a:xfrm>
            <a:prstGeom prst="cloudCallout">
              <a:avLst>
                <a:gd name="adj1" fmla="val 80300"/>
                <a:gd name="adj2" fmla="val 638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7" name=""/>
            <p:cNvGraphicFramePr/>
            <p:nvPr/>
          </p:nvGraphicFramePr>
          <p:xfrm>
            <a:off x="1258920" y="3876840"/>
            <a:ext cx="985680" cy="33480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698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1258920" y="3876840"/>
                      <a:ext cx="98568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9" name=""/>
          <p:cNvGrpSpPr/>
          <p:nvPr/>
        </p:nvGrpSpPr>
        <p:grpSpPr>
          <a:xfrm>
            <a:off x="5105520" y="4800600"/>
            <a:ext cx="1676160" cy="1219320"/>
            <a:chOff x="5105520" y="4800600"/>
            <a:chExt cx="1676160" cy="1219320"/>
          </a:xfrm>
        </p:grpSpPr>
        <p:sp>
          <p:nvSpPr>
            <p:cNvPr id="700" name=""/>
            <p:cNvSpPr/>
            <p:nvPr/>
          </p:nvSpPr>
          <p:spPr>
            <a:xfrm>
              <a:off x="5105520" y="4800600"/>
              <a:ext cx="1676160" cy="1219320"/>
            </a:xfrm>
            <a:prstGeom prst="cloudCallout">
              <a:avLst>
                <a:gd name="adj1" fmla="val -122254"/>
                <a:gd name="adj2" fmla="val -5390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1" name=""/>
            <p:cNvGraphicFramePr/>
            <p:nvPr/>
          </p:nvGraphicFramePr>
          <p:xfrm>
            <a:off x="5410080" y="5410080"/>
            <a:ext cx="928800" cy="33516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410080" y="5410080"/>
                      <a:ext cx="928800" cy="3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990720" y="533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your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2 logarithm  buttons on your calcul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2133720"/>
            <a:ext cx="64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stands for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00200" y="29718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stands for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 its 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8080" y="2133720"/>
            <a:ext cx="609840" cy="4572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629400" y="1752480"/>
            <a:ext cx="609480" cy="838080"/>
            <a:chOff x="6629400" y="1752480"/>
            <a:chExt cx="609480" cy="838080"/>
          </a:xfrm>
        </p:grpSpPr>
        <p:sp>
          <p:nvSpPr>
            <p:cNvPr id="709" name=""/>
            <p:cNvSpPr/>
            <p:nvPr/>
          </p:nvSpPr>
          <p:spPr>
            <a:xfrm>
              <a:off x="6629400" y="213336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0" name=""/>
            <p:cNvGraphicFramePr/>
            <p:nvPr/>
          </p:nvGraphicFramePr>
          <p:xfrm>
            <a:off x="6632280" y="1752480"/>
            <a:ext cx="45432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32280" y="1752480"/>
                      <a:ext cx="4543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2" name=""/>
          <p:cNvSpPr/>
          <p:nvPr/>
        </p:nvSpPr>
        <p:spPr>
          <a:xfrm>
            <a:off x="838080" y="2971800"/>
            <a:ext cx="609840" cy="4572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705720" y="2666880"/>
            <a:ext cx="609480" cy="838440"/>
            <a:chOff x="6705720" y="2666880"/>
            <a:chExt cx="609480" cy="838440"/>
          </a:xfrm>
        </p:grpSpPr>
        <p:graphicFrame>
          <p:nvGraphicFramePr>
            <p:cNvPr id="714" name=""/>
            <p:cNvGraphicFramePr/>
            <p:nvPr/>
          </p:nvGraphicFramePr>
          <p:xfrm>
            <a:off x="6705720" y="2666880"/>
            <a:ext cx="309600" cy="3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5720" y="2666880"/>
                      <a:ext cx="3096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6" name=""/>
            <p:cNvSpPr/>
            <p:nvPr/>
          </p:nvSpPr>
          <p:spPr>
            <a:xfrm>
              <a:off x="6705720" y="304812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838080" y="3809880"/>
            <a:ext cx="76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finding 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on your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38098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0666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295280" y="838080"/>
            <a:ext cx="3048120" cy="772920"/>
            <a:chOff x="1295280" y="838080"/>
            <a:chExt cx="3048120" cy="772920"/>
          </a:xfrm>
        </p:grpSpPr>
        <p:sp>
          <p:nvSpPr>
            <p:cNvPr id="721" name=""/>
            <p:cNvSpPr/>
            <p:nvPr/>
          </p:nvSpPr>
          <p:spPr>
            <a:xfrm>
              <a:off x="1295280" y="9903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2" name=""/>
            <p:cNvGraphicFramePr/>
            <p:nvPr/>
          </p:nvGraphicFramePr>
          <p:xfrm>
            <a:off x="2590920" y="838080"/>
            <a:ext cx="1752480" cy="77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838080"/>
                      <a:ext cx="175248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"/>
          <p:cNvSpPr/>
          <p:nvPr/>
        </p:nvSpPr>
        <p:spPr>
          <a:xfrm>
            <a:off x="99072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5   and   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25   so we can see that x lies between ……and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38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657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066680" y="2590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ing logs of both sides and applying th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295280" y="3043080"/>
          <a:ext cx="4137120" cy="91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3080"/>
                    <a:ext cx="41371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2819520" y="3809880"/>
          <a:ext cx="38232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809880"/>
                    <a:ext cx="3823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2438280" y="3733920"/>
          <a:ext cx="382680" cy="73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2133720" y="3733920"/>
          <a:ext cx="382320" cy="73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733920"/>
                    <a:ext cx="38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1828800" y="3733920"/>
          <a:ext cx="3826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1523880" y="3733920"/>
          <a:ext cx="3826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733920"/>
                    <a:ext cx="382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1219320" y="3733920"/>
          <a:ext cx="382320" cy="73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3733920"/>
                    <a:ext cx="38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838080" y="3809880"/>
          <a:ext cx="51912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3809880"/>
                    <a:ext cx="519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1049400" y="3962520"/>
          <a:ext cx="638280" cy="121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9400" y="3962520"/>
                    <a:ext cx="6382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1447920" y="3962520"/>
          <a:ext cx="3894120" cy="876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47920" y="3962520"/>
                    <a:ext cx="3894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>
            <a:off x="2930400" y="392760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838080" y="4800600"/>
          <a:ext cx="4673880" cy="164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8080" y="4800600"/>
                    <a:ext cx="46738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formula P(t) = 50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2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 P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what value of t is P(t) = ½P(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2057400" y="1905120"/>
          <a:ext cx="358128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3581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11430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430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63800" y="2425680"/>
          <a:ext cx="377028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3800" y="2425680"/>
                    <a:ext cx="37702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2752560" y="3635280"/>
          <a:ext cx="207360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2560" y="3635280"/>
                    <a:ext cx="2073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3048120" y="4267080"/>
          <a:ext cx="14652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267080"/>
                    <a:ext cx="14652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228600" y="3733920"/>
            <a:ext cx="2286000" cy="1371600"/>
          </a:xfrm>
          <a:prstGeom prst="cloudCallout">
            <a:avLst>
              <a:gd name="adj1" fmla="val 73541"/>
              <a:gd name="adj2" fmla="val 328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n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2141640" y="5276880"/>
          <a:ext cx="3127320" cy="127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1640" y="5276880"/>
                    <a:ext cx="31273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5" name=""/>
          <p:cNvGraphicFramePr/>
          <p:nvPr/>
        </p:nvGraphicFramePr>
        <p:xfrm>
          <a:off x="2286000" y="380880"/>
          <a:ext cx="312732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31273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2192400" y="2092320"/>
          <a:ext cx="346716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2400" y="2092320"/>
                    <a:ext cx="3467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2610000" y="3160800"/>
          <a:ext cx="29718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0000" y="3160800"/>
                    <a:ext cx="2971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3268800" y="3795840"/>
          <a:ext cx="2073240" cy="116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8800" y="3795840"/>
                    <a:ext cx="20732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3429000" y="5257800"/>
          <a:ext cx="17287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5257800"/>
                    <a:ext cx="1728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914400" y="762120"/>
            <a:ext cx="76960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rmula    A = 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k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s the amount of a radioactive substance after time t minutes.  After 4 minutes 50g is reduced to 45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value of k to two significant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does it take for the substance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to half it original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92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295280" y="3384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2133720" y="3352680"/>
          <a:ext cx="9363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9363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3452760" y="3314880"/>
          <a:ext cx="187812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2760" y="3314880"/>
                    <a:ext cx="18781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5715000" y="3314880"/>
          <a:ext cx="187812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314880"/>
                    <a:ext cx="18781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2057400" y="4191120"/>
          <a:ext cx="728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1911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2819520" y="4114800"/>
          <a:ext cx="2141280" cy="59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4114800"/>
                    <a:ext cx="21412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"/>
          <p:cNvSpPr/>
          <p:nvPr/>
        </p:nvSpPr>
        <p:spPr>
          <a:xfrm>
            <a:off x="0" y="4191120"/>
            <a:ext cx="2590920" cy="1600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 log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057400" y="4800600"/>
          <a:ext cx="728640" cy="5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4800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2819520" y="4648320"/>
          <a:ext cx="35766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4648320"/>
                    <a:ext cx="35766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057400" y="541008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7400" y="541008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2819520" y="5334120"/>
          <a:ext cx="4029120" cy="679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19520" y="5334120"/>
                    <a:ext cx="4029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2057400" y="6019920"/>
          <a:ext cx="728640" cy="577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60199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2819520" y="5983200"/>
          <a:ext cx="3765600" cy="598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5983200"/>
                    <a:ext cx="3765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urrent work: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523880"/>
            <a:ext cx="6400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int the “notes” for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 presentation alongsid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own examples/ extra notes o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exercises from texts as per u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1911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System does not replace current practice but runs along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1" name=""/>
          <p:cNvGraphicFramePr/>
          <p:nvPr/>
        </p:nvGraphicFramePr>
        <p:xfrm>
          <a:off x="1905120" y="304920"/>
          <a:ext cx="37656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37656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2057400" y="914400"/>
          <a:ext cx="335124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914400"/>
                    <a:ext cx="3351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1143000" y="1219320"/>
          <a:ext cx="72864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193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2057400" y="2590920"/>
          <a:ext cx="278748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590920"/>
                    <a:ext cx="27874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1143000" y="2590920"/>
          <a:ext cx="728640" cy="57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5909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1" name=""/>
          <p:cNvGrpSpPr/>
          <p:nvPr/>
        </p:nvGrpSpPr>
        <p:grpSpPr>
          <a:xfrm>
            <a:off x="5181480" y="762120"/>
            <a:ext cx="3353040" cy="2743200"/>
            <a:chOff x="5181480" y="762120"/>
            <a:chExt cx="3353040" cy="2743200"/>
          </a:xfrm>
        </p:grpSpPr>
        <p:sp>
          <p:nvSpPr>
            <p:cNvPr id="812" name=""/>
            <p:cNvSpPr/>
            <p:nvPr/>
          </p:nvSpPr>
          <p:spPr>
            <a:xfrm>
              <a:off x="5181480" y="762120"/>
              <a:ext cx="3353040" cy="27432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eme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3" name=""/>
            <p:cNvGraphicFramePr/>
            <p:nvPr/>
          </p:nvGraphicFramePr>
          <p:xfrm>
            <a:off x="5943600" y="2286360"/>
            <a:ext cx="1523880" cy="58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43600" y="2286360"/>
                      <a:ext cx="152388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5" name=""/>
          <p:cNvGraphicFramePr/>
          <p:nvPr/>
        </p:nvGraphicFramePr>
        <p:xfrm>
          <a:off x="2057400" y="3352680"/>
          <a:ext cx="2406600" cy="11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3352680"/>
                    <a:ext cx="24066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1143000" y="365760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3657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1143000" y="4800600"/>
          <a:ext cx="72864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48006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2057400" y="4740120"/>
          <a:ext cx="2073240" cy="52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7400" y="4740120"/>
                    <a:ext cx="2073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219320" y="609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How long does it take for the substance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to half it original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2038320" y="1449360"/>
          <a:ext cx="380844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449360"/>
                    <a:ext cx="38084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2082960" y="2514600"/>
          <a:ext cx="2073240" cy="11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2960" y="2514600"/>
                    <a:ext cx="20732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2082960" y="3657600"/>
          <a:ext cx="3728880" cy="12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2960" y="3657600"/>
                    <a:ext cx="372888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066680" y="2971800"/>
          <a:ext cx="728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2082960" y="5029200"/>
          <a:ext cx="44845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2960" y="5029200"/>
                    <a:ext cx="4484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2082960" y="5867280"/>
          <a:ext cx="5689440" cy="52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82960" y="5867280"/>
                    <a:ext cx="5689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1066680" y="3886200"/>
          <a:ext cx="728640" cy="57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388620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1066680" y="5105520"/>
          <a:ext cx="728640" cy="5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510552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1066680" y="5867280"/>
          <a:ext cx="72864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66680" y="5867280"/>
                    <a:ext cx="728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21932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ment and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106668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conducting an experiment scientists may analyse the data to find if a formula connecting the variables exis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from an experiment may result in a graph of the form shown in the diagram, indicating exponential growth.  A graph such as this implies a formula of the typ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724280" y="1143000"/>
          <a:ext cx="44197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419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838080" y="6858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find this formula by using loga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3132000" y="1370160"/>
          <a:ext cx="1425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37016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13716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71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3124080" y="2057400"/>
          <a:ext cx="2673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057400"/>
                    <a:ext cx="2673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"/>
          <p:cNvSpPr/>
          <p:nvPr/>
        </p:nvSpPr>
        <p:spPr>
          <a:xfrm>
            <a:off x="14479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013200" y="2989440"/>
            <a:ext cx="3049560" cy="679320"/>
            <a:chOff x="3013200" y="2989440"/>
            <a:chExt cx="3049560" cy="679320"/>
          </a:xfrm>
        </p:grpSpPr>
        <p:graphicFrame>
          <p:nvGraphicFramePr>
            <p:cNvPr id="855" name=""/>
            <p:cNvGraphicFramePr/>
            <p:nvPr/>
          </p:nvGraphicFramePr>
          <p:xfrm>
            <a:off x="3013200" y="2989440"/>
            <a:ext cx="3049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29894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7" name=""/>
            <p:cNvSpPr/>
            <p:nvPr/>
          </p:nvSpPr>
          <p:spPr>
            <a:xfrm>
              <a:off x="4343400" y="30657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8" name=""/>
          <p:cNvGraphicFramePr/>
          <p:nvPr/>
        </p:nvGraphicFramePr>
        <p:xfrm>
          <a:off x="4572000" y="3030480"/>
          <a:ext cx="101268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030480"/>
                    <a:ext cx="101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"/>
          <p:cNvGraphicFramePr/>
          <p:nvPr/>
        </p:nvGraphicFramePr>
        <p:xfrm>
          <a:off x="6021360" y="2990880"/>
          <a:ext cx="116208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1360" y="2990880"/>
                    <a:ext cx="116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2" name=""/>
          <p:cNvGrpSpPr/>
          <p:nvPr/>
        </p:nvGrpSpPr>
        <p:grpSpPr>
          <a:xfrm>
            <a:off x="3046320" y="3740040"/>
            <a:ext cx="3049560" cy="679320"/>
            <a:chOff x="3046320" y="3740040"/>
            <a:chExt cx="3049560" cy="679320"/>
          </a:xfrm>
        </p:grpSpPr>
        <p:graphicFrame>
          <p:nvGraphicFramePr>
            <p:cNvPr id="863" name=""/>
            <p:cNvGraphicFramePr/>
            <p:nvPr/>
          </p:nvGraphicFramePr>
          <p:xfrm>
            <a:off x="3046320" y="3740040"/>
            <a:ext cx="3049560" cy="67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6320" y="37400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5" name=""/>
            <p:cNvSpPr/>
            <p:nvPr/>
          </p:nvSpPr>
          <p:spPr>
            <a:xfrm>
              <a:off x="4376520" y="38163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6" name=""/>
          <p:cNvGraphicFramePr/>
          <p:nvPr/>
        </p:nvGraphicFramePr>
        <p:xfrm>
          <a:off x="4627440" y="3821040"/>
          <a:ext cx="101304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27440" y="3821040"/>
                    <a:ext cx="1013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6021360" y="3821040"/>
          <a:ext cx="127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21360" y="3821040"/>
                    <a:ext cx="127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6858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e th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3505320" y="4419720"/>
          <a:ext cx="214128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419720"/>
                    <a:ext cx="214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1143000" y="5106960"/>
          <a:ext cx="1770120" cy="598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5106960"/>
                    <a:ext cx="17701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3733920" y="5197320"/>
          <a:ext cx="1163520" cy="416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5197320"/>
                    <a:ext cx="11635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5467320" y="5105520"/>
          <a:ext cx="165888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67320" y="5105520"/>
                    <a:ext cx="165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9" name=""/>
          <p:cNvGrpSpPr/>
          <p:nvPr/>
        </p:nvGrpSpPr>
        <p:grpSpPr>
          <a:xfrm>
            <a:off x="762120" y="5715000"/>
            <a:ext cx="4952880" cy="838080"/>
            <a:chOff x="762120" y="5715000"/>
            <a:chExt cx="4952880" cy="838080"/>
          </a:xfrm>
        </p:grpSpPr>
        <p:sp>
          <p:nvSpPr>
            <p:cNvPr id="880" name=""/>
            <p:cNvSpPr/>
            <p:nvPr/>
          </p:nvSpPr>
          <p:spPr>
            <a:xfrm>
              <a:off x="762120" y="5715000"/>
              <a:ext cx="49528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8080" y="6019920"/>
              <a:ext cx="914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1390680" y="5862600"/>
              <a:ext cx="4249800" cy="679320"/>
              <a:chOff x="1390680" y="5862600"/>
              <a:chExt cx="4249800" cy="6793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1390680" y="5862600"/>
                <a:ext cx="3049560" cy="679320"/>
                <a:chOff x="1390680" y="5862600"/>
                <a:chExt cx="3049560" cy="679320"/>
              </a:xfrm>
            </p:grpSpPr>
            <p:graphicFrame>
              <p:nvGraphicFramePr>
                <p:cNvPr id="884" name=""/>
                <p:cNvGraphicFramePr/>
                <p:nvPr/>
              </p:nvGraphicFramePr>
              <p:xfrm>
                <a:off x="1390680" y="5862600"/>
                <a:ext cx="3049560" cy="67932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885" name="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1390680" y="5862600"/>
                          <a:ext cx="3049560" cy="679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86" name=""/>
                <p:cNvSpPr/>
                <p:nvPr/>
              </p:nvSpPr>
              <p:spPr>
                <a:xfrm>
                  <a:off x="2720880" y="5938920"/>
                  <a:ext cx="129528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87" name=""/>
              <p:cNvGraphicFramePr/>
              <p:nvPr/>
            </p:nvGraphicFramePr>
            <p:xfrm>
              <a:off x="2971800" y="5943600"/>
              <a:ext cx="1012680" cy="5983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888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2971800" y="5943600"/>
                        <a:ext cx="101268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9" name=""/>
              <p:cNvGraphicFramePr/>
              <p:nvPr/>
            </p:nvGraphicFramePr>
            <p:xfrm>
              <a:off x="4365720" y="5943600"/>
              <a:ext cx="1274760" cy="5983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890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365720" y="5943600"/>
                        <a:ext cx="127476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891" name=""/>
          <p:cNvSpPr/>
          <p:nvPr/>
        </p:nvSpPr>
        <p:spPr>
          <a:xfrm>
            <a:off x="5943600" y="5715000"/>
            <a:ext cx="25909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equation of a straight 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6477120" y="1143000"/>
          <a:ext cx="2438280" cy="1995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77120" y="1143000"/>
                    <a:ext cx="243828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"/>
          <p:cNvGraphicFramePr/>
          <p:nvPr/>
        </p:nvGraphicFramePr>
        <p:xfrm>
          <a:off x="457200" y="685800"/>
          <a:ext cx="4800600" cy="39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480060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5486400" y="533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6553080" y="457200"/>
          <a:ext cx="142560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5720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/>
          <p:nvPr/>
        </p:nvSpPr>
        <p:spPr>
          <a:xfrm>
            <a:off x="5562720" y="15238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see by taking logs that we can reduce this problem to a straight line problem 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286000" y="4572000"/>
            <a:ext cx="4952880" cy="838080"/>
            <a:chOff x="2286000" y="4572000"/>
            <a:chExt cx="4952880" cy="838080"/>
          </a:xfrm>
        </p:grpSpPr>
        <p:sp>
          <p:nvSpPr>
            <p:cNvPr id="901" name=""/>
            <p:cNvSpPr/>
            <p:nvPr/>
          </p:nvSpPr>
          <p:spPr>
            <a:xfrm>
              <a:off x="2286000" y="4572000"/>
              <a:ext cx="49528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61960" y="4876920"/>
              <a:ext cx="914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2914560" y="4719600"/>
              <a:ext cx="4249800" cy="679320"/>
              <a:chOff x="2914560" y="4719600"/>
              <a:chExt cx="4249800" cy="67932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2914560" y="4719600"/>
                <a:ext cx="3049560" cy="679320"/>
                <a:chOff x="2914560" y="4719600"/>
                <a:chExt cx="3049560" cy="679320"/>
              </a:xfrm>
            </p:grpSpPr>
            <p:graphicFrame>
              <p:nvGraphicFramePr>
                <p:cNvPr id="905" name=""/>
                <p:cNvGraphicFramePr/>
                <p:nvPr/>
              </p:nvGraphicFramePr>
              <p:xfrm>
                <a:off x="2914560" y="4719600"/>
                <a:ext cx="3049560" cy="679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906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914560" y="4719600"/>
                          <a:ext cx="3049560" cy="679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07" name=""/>
                <p:cNvSpPr/>
                <p:nvPr/>
              </p:nvSpPr>
              <p:spPr>
                <a:xfrm>
                  <a:off x="4244760" y="4795920"/>
                  <a:ext cx="129528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08" name=""/>
              <p:cNvGraphicFramePr/>
              <p:nvPr/>
            </p:nvGraphicFramePr>
            <p:xfrm>
              <a:off x="4495680" y="4800600"/>
              <a:ext cx="1012680" cy="598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0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495680" y="4800600"/>
                        <a:ext cx="101268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0" name=""/>
              <p:cNvGraphicFramePr/>
              <p:nvPr/>
            </p:nvGraphicFramePr>
            <p:xfrm>
              <a:off x="5889600" y="4800600"/>
              <a:ext cx="1274760" cy="598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1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889600" y="4800600"/>
                        <a:ext cx="1274760" cy="59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912" name=""/>
          <p:cNvSpPr/>
          <p:nvPr/>
        </p:nvSpPr>
        <p:spPr>
          <a:xfrm>
            <a:off x="685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676520" y="5929200"/>
          <a:ext cx="1770120" cy="59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929200"/>
                    <a:ext cx="17701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267080" y="6019920"/>
          <a:ext cx="1163880" cy="41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6019920"/>
                    <a:ext cx="1163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"/>
          <p:cNvGraphicFramePr/>
          <p:nvPr/>
        </p:nvGraphicFramePr>
        <p:xfrm>
          <a:off x="6000840" y="5927760"/>
          <a:ext cx="1658880" cy="60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00840" y="5927760"/>
                    <a:ext cx="16588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68580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orked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52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ata was collected during an 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457200" y="1600200"/>
          <a:ext cx="9982080" cy="121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998208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"/>
          <p:cNvSpPr/>
          <p:nvPr/>
        </p:nvSpPr>
        <p:spPr>
          <a:xfrm>
            <a:off x="609480" y="281952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  Show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related by the formul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  Find the values of k and n and state the formula that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572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logs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228600" y="1066680"/>
          <a:ext cx="8229600" cy="90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2296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447920" y="25146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524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954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76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5248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89548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862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876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otting thes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762120" y="2514600"/>
          <a:ext cx="5562360" cy="390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14600"/>
                    <a:ext cx="556236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6858000" y="2286000"/>
            <a:ext cx="198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get a straight line and hence the formula connecting X and Y i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6781680" y="5105520"/>
          <a:ext cx="19908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5105520"/>
                    <a:ext cx="1990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838080" y="6858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Since the points lie on a straight line, we can sa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3132000" y="1370160"/>
          <a:ext cx="1425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370160"/>
                    <a:ext cx="1425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13716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371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3124080" y="2057400"/>
          <a:ext cx="2673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057400"/>
                    <a:ext cx="2673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"/>
          <p:cNvSpPr/>
          <p:nvPr/>
        </p:nvSpPr>
        <p:spPr>
          <a:xfrm>
            <a:off x="14479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013200" y="2989440"/>
            <a:ext cx="3049560" cy="679320"/>
            <a:chOff x="3013200" y="2989440"/>
            <a:chExt cx="3049560" cy="679320"/>
          </a:xfrm>
        </p:grpSpPr>
        <p:graphicFrame>
          <p:nvGraphicFramePr>
            <p:cNvPr id="951" name=""/>
            <p:cNvGraphicFramePr/>
            <p:nvPr/>
          </p:nvGraphicFramePr>
          <p:xfrm>
            <a:off x="3013200" y="2989440"/>
            <a:ext cx="3049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29894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4343400" y="30657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4" name=""/>
          <p:cNvGraphicFramePr/>
          <p:nvPr/>
        </p:nvGraphicFramePr>
        <p:xfrm>
          <a:off x="4572000" y="3030480"/>
          <a:ext cx="101268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030480"/>
                    <a:ext cx="101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6021360" y="2990880"/>
          <a:ext cx="116208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21360" y="2990880"/>
                    <a:ext cx="116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"/>
          <p:cNvGrpSpPr/>
          <p:nvPr/>
        </p:nvGrpSpPr>
        <p:grpSpPr>
          <a:xfrm>
            <a:off x="3046320" y="3740040"/>
            <a:ext cx="3049560" cy="679320"/>
            <a:chOff x="3046320" y="3740040"/>
            <a:chExt cx="3049560" cy="679320"/>
          </a:xfrm>
        </p:grpSpPr>
        <p:graphicFrame>
          <p:nvGraphicFramePr>
            <p:cNvPr id="959" name=""/>
            <p:cNvGraphicFramePr/>
            <p:nvPr/>
          </p:nvGraphicFramePr>
          <p:xfrm>
            <a:off x="3046320" y="3740040"/>
            <a:ext cx="3049560" cy="67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6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6320" y="374004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1" name=""/>
            <p:cNvSpPr/>
            <p:nvPr/>
          </p:nvSpPr>
          <p:spPr>
            <a:xfrm>
              <a:off x="4376520" y="381636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62" name=""/>
          <p:cNvGraphicFramePr/>
          <p:nvPr/>
        </p:nvGraphicFramePr>
        <p:xfrm>
          <a:off x="4627440" y="3821040"/>
          <a:ext cx="101304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27440" y="3821040"/>
                    <a:ext cx="1013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"/>
          <p:cNvGraphicFramePr/>
          <p:nvPr/>
        </p:nvGraphicFramePr>
        <p:xfrm>
          <a:off x="6021360" y="3821040"/>
          <a:ext cx="127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21360" y="3821040"/>
                    <a:ext cx="127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6" name=""/>
          <p:cNvSpPr/>
          <p:nvPr/>
        </p:nvSpPr>
        <p:spPr>
          <a:xfrm>
            <a:off x="6858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e thi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3505320" y="4419720"/>
          <a:ext cx="214128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419720"/>
                    <a:ext cx="214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762120" y="457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electing points on the graph and substituting into this equation we get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1600200" y="1219320"/>
          <a:ext cx="21398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2139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3890880" y="1219320"/>
          <a:ext cx="222084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0880" y="1219320"/>
                    <a:ext cx="2220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1828800" y="2057400"/>
          <a:ext cx="30114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057400"/>
                    <a:ext cx="30114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773360" y="2666880"/>
          <a:ext cx="3124080" cy="5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3360" y="2666880"/>
                    <a:ext cx="3124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22860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1828800" y="3581280"/>
          <a:ext cx="244620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3581280"/>
                    <a:ext cx="2446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"/>
          <p:cNvGraphicFramePr/>
          <p:nvPr/>
        </p:nvGraphicFramePr>
        <p:xfrm>
          <a:off x="2057400" y="4114800"/>
          <a:ext cx="1768320" cy="11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4114800"/>
                    <a:ext cx="176832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2057400" y="5562720"/>
          <a:ext cx="14637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5562720"/>
                    <a:ext cx="1463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"/>
          <p:cNvGraphicFramePr/>
          <p:nvPr/>
        </p:nvGraphicFramePr>
        <p:xfrm>
          <a:off x="5203800" y="3657600"/>
          <a:ext cx="3576600" cy="52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03800" y="3657600"/>
                    <a:ext cx="3576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"/>
          <p:cNvSpPr/>
          <p:nvPr/>
        </p:nvSpPr>
        <p:spPr>
          <a:xfrm>
            <a:off x="6172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208560" y="4572000"/>
          <a:ext cx="1354320" cy="52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08560" y="4572000"/>
                    <a:ext cx="13543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914400" y="609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8580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2573280" y="609480"/>
          <a:ext cx="278604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3280" y="609480"/>
                    <a:ext cx="27860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28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e th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076480" y="1747800"/>
            <a:ext cx="3049560" cy="679320"/>
            <a:chOff x="2076480" y="1747800"/>
            <a:chExt cx="3049560" cy="679320"/>
          </a:xfrm>
        </p:grpSpPr>
        <p:graphicFrame>
          <p:nvGraphicFramePr>
            <p:cNvPr id="996" name=""/>
            <p:cNvGraphicFramePr/>
            <p:nvPr/>
          </p:nvGraphicFramePr>
          <p:xfrm>
            <a:off x="2076480" y="1747800"/>
            <a:ext cx="3049560" cy="67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76480" y="1747800"/>
                      <a:ext cx="3049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3406680" y="1824120"/>
              <a:ext cx="1295280" cy="533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99" name=""/>
          <p:cNvGraphicFramePr/>
          <p:nvPr/>
        </p:nvGraphicFramePr>
        <p:xfrm>
          <a:off x="3657600" y="1828800"/>
          <a:ext cx="101268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828800"/>
                    <a:ext cx="10126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"/>
          <p:cNvGraphicFramePr/>
          <p:nvPr/>
        </p:nvGraphicFramePr>
        <p:xfrm>
          <a:off x="5051520" y="1828800"/>
          <a:ext cx="1274760" cy="5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1520" y="1828800"/>
                    <a:ext cx="12747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"/>
          <p:cNvGraphicFramePr/>
          <p:nvPr/>
        </p:nvGraphicFramePr>
        <p:xfrm>
          <a:off x="1981080" y="2835360"/>
          <a:ext cx="71136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2835360"/>
                    <a:ext cx="7113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"/>
          <p:cNvSpPr/>
          <p:nvPr/>
        </p:nvSpPr>
        <p:spPr>
          <a:xfrm>
            <a:off x="3657600" y="281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4495680" y="2743200"/>
          <a:ext cx="135756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2743200"/>
                    <a:ext cx="13575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2819520" y="2781360"/>
          <a:ext cx="7095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2781360"/>
                    <a:ext cx="709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5943600" y="2781360"/>
          <a:ext cx="677880" cy="52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2781360"/>
                    <a:ext cx="6778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2" name=""/>
          <p:cNvSpPr/>
          <p:nvPr/>
        </p:nvSpPr>
        <p:spPr>
          <a:xfrm>
            <a:off x="6858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2120" y="3733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3200400" y="4419720"/>
          <a:ext cx="1579680" cy="59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4419720"/>
                    <a:ext cx="15796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3048120" y="3657600"/>
          <a:ext cx="1357200" cy="598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3657600"/>
                    <a:ext cx="13572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4495680" y="3695760"/>
          <a:ext cx="677880" cy="523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5680" y="3695760"/>
                    <a:ext cx="6778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0" name=""/>
          <p:cNvGraphicFramePr/>
          <p:nvPr/>
        </p:nvGraphicFramePr>
        <p:xfrm>
          <a:off x="3200400" y="5181480"/>
          <a:ext cx="157968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00400" y="5181480"/>
                    <a:ext cx="1579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2" name=""/>
          <p:cNvSpPr/>
          <p:nvPr/>
        </p:nvSpPr>
        <p:spPr>
          <a:xfrm>
            <a:off x="16765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2514600" y="5867280"/>
          <a:ext cx="4140360" cy="679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14600" y="5867280"/>
                    <a:ext cx="41403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"/>
          <p:cNvSpPr/>
          <p:nvPr/>
        </p:nvSpPr>
        <p:spPr>
          <a:xfrm>
            <a:off x="7162920" y="2590920"/>
            <a:ext cx="1676160" cy="228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always check this on your graphics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cope of curren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143000"/>
            <a:ext cx="6400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ing for three years as pi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te set of notes for Higher as well as presentations which match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se have changed in nature as they have been used and are ev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 thinking is that there is still not enough “gaps” in the notes although these can be added by teacher prior to printing to cust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es have been seen by inspect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295280" y="45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me facts about the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295280" y="1523880"/>
            <a:ext cx="7086600" cy="825480"/>
            <a:chOff x="1295280" y="1523880"/>
            <a:chExt cx="7086600" cy="825480"/>
          </a:xfrm>
        </p:grpSpPr>
        <p:sp>
          <p:nvSpPr>
            <p:cNvPr id="1028" name=""/>
            <p:cNvSpPr/>
            <p:nvPr/>
          </p:nvSpPr>
          <p:spPr>
            <a:xfrm>
              <a:off x="1295280" y="1523880"/>
              <a:ext cx="708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rrently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gone into the production of notes and presentat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9" name=""/>
            <p:cNvGraphicFramePr/>
            <p:nvPr/>
          </p:nvGraphicFramePr>
          <p:xfrm>
            <a:off x="2819520" y="1595160"/>
            <a:ext cx="1447560" cy="38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1595160"/>
                      <a:ext cx="144756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1" name=""/>
          <p:cNvSpPr/>
          <p:nvPr/>
        </p:nvSpPr>
        <p:spPr>
          <a:xfrm>
            <a:off x="1295280" y="2514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arly all units have been tried in one school or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295280" y="3581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pilot schools have tended to use particular presentations rather than the whole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71600" y="4724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units that “go public” will be basic units as nearly everyone wants to custom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295280" y="45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ow do you ge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19320" y="144792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£10 you can have 3 units as a starter here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uncertainty as to how to get whole course o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47920" y="297180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ftwar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 no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ure what/if to charge problems with school orders vat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at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3880"/>
            <a:ext cx="6400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 a comprehensive well tested set of presentations and notes ready for SMC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 pilots available to anyon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(£10 to cover co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pport it through MaDmaths websit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WWW.madmaths.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pe that users will contribute their additions through th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52480" y="1752480"/>
            <a:ext cx="5813640" cy="375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Some highlights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838080"/>
            <a:ext cx="7086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ffer one section from each unit in |Hig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ogs and Exponent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1905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ifferent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8:22:59Z</dcterms:created>
  <dc:creator>East Lothian Council</dc:creator>
  <dc:description/>
  <dc:language>en-US</dc:language>
  <cp:lastModifiedBy>East Lothian Council</cp:lastModifiedBy>
  <dcterms:modified xsi:type="dcterms:W3CDTF">2003-03-18T12:31:21Z</dcterms:modified>
  <cp:revision>11</cp:revision>
  <dc:subject/>
  <dc:title>No Slide Title</dc:title>
</cp:coreProperties>
</file>