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0.bin" ContentType="application/vnd.openxmlformats-officedocument.oleObject"/>
  <Override PartName="/ppt/embeddings/oleObject9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4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10.docx" ContentType="application/vnd.openxmlformats-officedocument.wordprocessingml.document"/>
  <Override PartName="/ppt/embeddings/oleObject25.bin" ContentType="application/vnd.openxmlformats-officedocument.oleObject"/>
  <Override PartName="/ppt/embeddings/oleObject9.docx" ContentType="application/vnd.openxmlformats-officedocument.wordprocessingml.document"/>
  <Override PartName="/ppt/embeddings/oleObject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1.bin" ContentType="application/vnd.openxmlformats-officedocument.oleObject"/>
  <Override PartName="/ppt/embeddings/oleObject5.docx" ContentType="application/vnd.openxmlformats-officedocument.wordprocessingml.documen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2.bin" ContentType="application/vnd.openxmlformats-officedocument.oleObject"/>
  <Override PartName="/ppt/embeddings/oleObject26.bin" ContentType="application/vnd.openxmlformats-officedocument.oleObject"/>
  <Override PartName="/ppt/embeddings/oleObject24.bin" ContentType="application/vnd.openxmlformats-officedocument.oleObject"/>
  <Override PartName="/ppt/embeddings/oleObject6.docx" ContentType="application/vnd.openxmlformats-officedocument.wordprocessingml.document"/>
  <Override PartName="/ppt/embeddings/oleObject11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8.docx" ContentType="application/vnd.openxmlformats-officedocument.wordprocessingml.document"/>
  <Override PartName="/ppt/embeddings/oleObject14.bin" ContentType="application/vnd.openxmlformats-officedocument.oleObject"/>
  <Override PartName="/ppt/embeddings/oleObject7.docx" ContentType="application/vnd.openxmlformats-officedocument.wordprocessingml.document"/>
  <Override PartName="/ppt/embeddings/oleObject23.bin" ContentType="application/vnd.openxmlformats-officedocument.oleObject"/>
  <Override PartName="/ppt/embeddings/oleObject1.docx" ContentType="application/vnd.openxmlformats-officedocument.wordprocessingml.document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127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25.png" ContentType="image/png"/>
  <Override PartName="/ppt/media/image35.wmf" ContentType="image/x-wmf"/>
  <Override PartName="/ppt/media/image5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31.wmf" ContentType="image/x-wmf"/>
  <Override PartName="/ppt/media/image56.wmf" ContentType="image/x-wmf"/>
  <Override PartName="/ppt/media/image16.png" ContentType="image/png"/>
  <Override PartName="/ppt/media/image57.wmf" ContentType="image/x-wmf"/>
  <Override PartName="/ppt/media/image17.png" ContentType="image/png"/>
  <Override PartName="/ppt/media/image78.wmf" ContentType="image/x-wmf"/>
  <Override PartName="/ppt/media/image87.wmf" ContentType="image/x-wmf"/>
  <Override PartName="/ppt/media/image88.wmf" ContentType="image/x-wmf"/>
  <Override PartName="/ppt/media/image90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02.wmf" ContentType="image/x-wmf"/>
  <Override PartName="/ppt/media/image95.wmf" ContentType="image/x-wmf"/>
  <Override PartName="/ppt/media/image103.wmf" ContentType="image/x-wmf"/>
  <Override PartName="/ppt/media/image96.wmf" ContentType="image/x-wmf"/>
  <Override PartName="/ppt/media/image126.wmf" ContentType="image/x-wmf"/>
  <Override PartName="/ppt/media/image114.wmf" ContentType="image/x-wmf"/>
  <Override PartName="/ppt/media/image70.wmf" ContentType="image/x-wmf"/>
  <Override PartName="/ppt/media/image125.wmf" ContentType="image/x-wmf"/>
  <Override PartName="/ppt/media/image113.wmf" ContentType="image/x-wmf"/>
  <Override PartName="/ppt/media/image124.wmf" ContentType="image/x-wmf"/>
  <Override PartName="/ppt/media/image112.wmf" ContentType="image/x-wmf"/>
  <Override PartName="/ppt/media/image123.wmf" ContentType="image/x-wmf"/>
  <Override PartName="/ppt/media/image89.wmf" ContentType="image/x-wmf"/>
  <Override PartName="/ppt/media/image11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116.wmf" ContentType="image/x-wmf"/>
  <Override PartName="/ppt/media/image72.wmf" ContentType="image/x-wmf"/>
  <Override PartName="/ppt/media/image115.wmf" ContentType="image/x-wmf"/>
  <Override PartName="/ppt/media/image71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4.png" ContentType="image/png"/>
  <Override PartName="/ppt/media/image63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59.wmf" ContentType="image/x-wmf"/>
  <Override PartName="/ppt/media/image110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F76-4049-4E6D-9AF0-34BFA5E4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B03-9676-4990-89B1-F3C4EBC7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5AE-1F10-4140-A5AB-589E7D08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3D9-4DCE-4D1F-A267-B5FCDC7F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489-7108-44E2-B9D7-9CDDA894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0FC-B4B9-4573-97BD-8AE7CD9F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00B5-9028-4F42-B6F1-D86435A5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1EE0-2369-4490-8956-7911769F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847-FFBC-4EB6-BBC2-FA2453BC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0B6-4950-48FA-9D8E-B48E7A51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D7DD-E993-4235-814E-06316706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285-797F-4D59-93D9-FB8652B0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20EE-68FA-405A-AC65-42B3EAE2F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2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2.wmf"/><Relationship Id="rId17" Type="http://schemas.openxmlformats.org/officeDocument/2006/relationships/package" Target="../embeddings/oleObject9.docx"/><Relationship Id="rId18" Type="http://schemas.openxmlformats.org/officeDocument/2006/relationships/image" Target="../media/image2.wmf"/><Relationship Id="rId19" Type="http://schemas.openxmlformats.org/officeDocument/2006/relationships/package" Target="../embeddings/oleObject10.docx"/><Relationship Id="rId20" Type="http://schemas.openxmlformats.org/officeDocument/2006/relationships/image" Target="../media/image2.wmf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9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5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5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5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54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57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54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58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5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60.wmf"/><Relationship Id="rId5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7.wmf"/><Relationship Id="rId2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6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4.wmf"/><Relationship Id="rId2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9.wmf"/><Relationship Id="rId2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0.wmf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wmf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06.wmf"/><Relationship Id="rId3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5.wmf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0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2.wmf"/><Relationship Id="rId1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9.wmf"/><Relationship Id="rId1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7.wmf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Mathematicians/Briggs.html" TargetMode="External"/><Relationship Id="rId2" Type="http://schemas.openxmlformats.org/officeDocument/2006/relationships/hyperlink" Target="file:///../Mathematicians/Huygens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76520" y="685800"/>
          <a:ext cx="5378400" cy="36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8580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838080" y="312408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Exponential &amp; Logarithmic F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828800" y="838080"/>
          <a:ext cx="5378400" cy="370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8080"/>
                    <a:ext cx="53784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981080" y="990720"/>
          <a:ext cx="5378400" cy="369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99072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133720" y="1143000"/>
          <a:ext cx="5378400" cy="369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114300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286000" y="1295280"/>
          <a:ext cx="5378400" cy="3700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1295280"/>
                    <a:ext cx="53784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438280" y="1447920"/>
          <a:ext cx="5378400" cy="3697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144792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590920" y="1600200"/>
          <a:ext cx="5378400" cy="36972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160020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743200" y="1752480"/>
          <a:ext cx="5378400" cy="37008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43200" y="1752480"/>
                    <a:ext cx="53784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895480" y="1905120"/>
          <a:ext cx="5378400" cy="36972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95480" y="190512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048120" y="2057400"/>
          <a:ext cx="5378400" cy="369720"/>
        </p:xfrm>
        <a:graphic>
          <a:graphicData uri="http://schemas.openxmlformats.org/presentationml/2006/ole">
            <p:oleObj progId="Word.Document.12" r:id="rId1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48120" y="205740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609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s of Loga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s for Log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s for indic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80880" y="2057400"/>
          <a:ext cx="358164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358164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80880" y="3352680"/>
          <a:ext cx="3581640" cy="8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358164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85800" y="4800600"/>
          <a:ext cx="2743200" cy="103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800600"/>
                    <a:ext cx="274320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267080" y="2133720"/>
          <a:ext cx="464832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2133720"/>
                    <a:ext cx="4648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343400" y="3200400"/>
          <a:ext cx="4343400" cy="12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3200400"/>
                    <a:ext cx="434340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572000" y="4952880"/>
          <a:ext cx="3886200" cy="83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952880"/>
                    <a:ext cx="38862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533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1981080"/>
            <a:ext cx="39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+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190512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3 –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828800" y="2514600"/>
          <a:ext cx="220968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14600"/>
                    <a:ext cx="22096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828800" y="3048120"/>
          <a:ext cx="170028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048120"/>
                    <a:ext cx="17002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828800" y="3581280"/>
          <a:ext cx="50976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581280"/>
                    <a:ext cx="5097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"/>
          <p:cNvGrpSpPr/>
          <p:nvPr/>
        </p:nvGrpSpPr>
        <p:grpSpPr>
          <a:xfrm>
            <a:off x="0" y="2438280"/>
            <a:ext cx="1676520" cy="1219320"/>
            <a:chOff x="0" y="2438280"/>
            <a:chExt cx="1676520" cy="1219320"/>
          </a:xfrm>
        </p:grpSpPr>
        <p:sp>
          <p:nvSpPr>
            <p:cNvPr id="216" name=""/>
            <p:cNvSpPr/>
            <p:nvPr/>
          </p:nvSpPr>
          <p:spPr>
            <a:xfrm>
              <a:off x="0" y="2438280"/>
              <a:ext cx="1676520" cy="1219320"/>
            </a:xfrm>
            <a:prstGeom prst="cloudCallout">
              <a:avLst>
                <a:gd name="adj1" fmla="val 63541"/>
                <a:gd name="adj2" fmla="val 4466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7" name=""/>
            <p:cNvGraphicFramePr/>
            <p:nvPr/>
          </p:nvGraphicFramePr>
          <p:xfrm>
            <a:off x="304920" y="3048120"/>
            <a:ext cx="1066680" cy="314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3048120"/>
                      <a:ext cx="10666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9" name=""/>
          <p:cNvGraphicFramePr/>
          <p:nvPr/>
        </p:nvGraphicFramePr>
        <p:xfrm>
          <a:off x="5867280" y="2362320"/>
          <a:ext cx="1700280" cy="96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2362320"/>
                    <a:ext cx="17002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867280" y="3352680"/>
          <a:ext cx="1133640" cy="51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3352680"/>
                    <a:ext cx="11336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867280" y="3959280"/>
          <a:ext cx="534960" cy="365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67280" y="3959280"/>
                    <a:ext cx="5349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5" name=""/>
          <p:cNvGrpSpPr/>
          <p:nvPr/>
        </p:nvGrpSpPr>
        <p:grpSpPr>
          <a:xfrm>
            <a:off x="7467480" y="2895480"/>
            <a:ext cx="1676520" cy="1219320"/>
            <a:chOff x="7467480" y="2895480"/>
            <a:chExt cx="1676520" cy="1219320"/>
          </a:xfrm>
        </p:grpSpPr>
        <p:sp>
          <p:nvSpPr>
            <p:cNvPr id="226" name=""/>
            <p:cNvSpPr/>
            <p:nvPr/>
          </p:nvSpPr>
          <p:spPr>
            <a:xfrm>
              <a:off x="7467480" y="2895480"/>
              <a:ext cx="1676520" cy="1219320"/>
            </a:xfrm>
            <a:prstGeom prst="cloudCallout">
              <a:avLst>
                <a:gd name="adj1" fmla="val -108615"/>
                <a:gd name="adj2" fmla="val 429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7" name=""/>
            <p:cNvGraphicFramePr/>
            <p:nvPr/>
          </p:nvGraphicFramePr>
          <p:xfrm>
            <a:off x="7848720" y="3505320"/>
            <a:ext cx="630000" cy="314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848720" y="3505320"/>
                      <a:ext cx="63000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676520" y="1371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666880" y="1066680"/>
          <a:ext cx="346104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066680"/>
                    <a:ext cx="34610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5791320" y="2590920"/>
          <a:ext cx="13968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2590920"/>
                    <a:ext cx="1396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2971800" y="2438280"/>
          <a:ext cx="26352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438280"/>
                    <a:ext cx="263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276720" y="2286000"/>
          <a:ext cx="26352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2286000"/>
                    <a:ext cx="263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657600" y="2362320"/>
          <a:ext cx="204840" cy="53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2362320"/>
                    <a:ext cx="2048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3886200" y="2362320"/>
          <a:ext cx="204840" cy="53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2362320"/>
                    <a:ext cx="2048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114800" y="2438280"/>
          <a:ext cx="150840" cy="39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14800" y="2438280"/>
                    <a:ext cx="15084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267080" y="2590920"/>
          <a:ext cx="150840" cy="392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67080" y="2590920"/>
                    <a:ext cx="1508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6" name=""/>
          <p:cNvGrpSpPr/>
          <p:nvPr/>
        </p:nvGrpSpPr>
        <p:grpSpPr>
          <a:xfrm>
            <a:off x="2743200" y="2514600"/>
            <a:ext cx="3152880" cy="1066680"/>
            <a:chOff x="2743200" y="2514600"/>
            <a:chExt cx="3152880" cy="1066680"/>
          </a:xfrm>
        </p:grpSpPr>
        <p:graphicFrame>
          <p:nvGraphicFramePr>
            <p:cNvPr id="247" name=""/>
            <p:cNvGraphicFramePr/>
            <p:nvPr/>
          </p:nvGraphicFramePr>
          <p:xfrm>
            <a:off x="3051000" y="2754360"/>
            <a:ext cx="2845080" cy="577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051000" y="2754360"/>
                      <a:ext cx="284508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9" name=""/>
            <p:cNvGraphicFramePr/>
            <p:nvPr/>
          </p:nvGraphicFramePr>
          <p:xfrm>
            <a:off x="4648320" y="2590920"/>
            <a:ext cx="353880" cy="990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648320" y="2590920"/>
                      <a:ext cx="35388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1" name=""/>
            <p:cNvGraphicFramePr/>
            <p:nvPr/>
          </p:nvGraphicFramePr>
          <p:xfrm>
            <a:off x="2743200" y="2514600"/>
            <a:ext cx="382680" cy="9907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743200" y="2514600"/>
                      <a:ext cx="3826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3" name=""/>
          <p:cNvSpPr/>
          <p:nvPr/>
        </p:nvSpPr>
        <p:spPr>
          <a:xfrm>
            <a:off x="2743200" y="2514600"/>
            <a:ext cx="304920" cy="1066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89640" y="2590920"/>
            <a:ext cx="30456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562720" y="2286000"/>
          <a:ext cx="217440" cy="609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62720" y="2286000"/>
                    <a:ext cx="217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280120" y="2133720"/>
          <a:ext cx="271440" cy="761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80120" y="2133720"/>
                    <a:ext cx="271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002200" y="2209680"/>
          <a:ext cx="244440" cy="685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002200" y="2209680"/>
                    <a:ext cx="244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724280" y="2133720"/>
          <a:ext cx="271440" cy="7617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724280" y="2133720"/>
                    <a:ext cx="271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2362320" y="2819520"/>
          <a:ext cx="533160" cy="479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362320" y="2819520"/>
                    <a:ext cx="53316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2362320" y="3483000"/>
          <a:ext cx="533160" cy="479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362320" y="3483000"/>
                    <a:ext cx="533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2971800" y="3276720"/>
          <a:ext cx="3505320" cy="717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971800" y="3276720"/>
                    <a:ext cx="35053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2362320" y="4092480"/>
          <a:ext cx="533160" cy="479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362320" y="4092480"/>
                    <a:ext cx="533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2971800" y="3924360"/>
          <a:ext cx="2666880" cy="6411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971800" y="3924360"/>
                    <a:ext cx="26668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362320" y="4549680"/>
          <a:ext cx="533160" cy="4795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362320" y="4549680"/>
                    <a:ext cx="533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048120" y="4495680"/>
          <a:ext cx="909360" cy="4892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048120" y="4495680"/>
                    <a:ext cx="90936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362320" y="5006880"/>
          <a:ext cx="533160" cy="479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362320" y="5006880"/>
                    <a:ext cx="533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124080" y="4876920"/>
          <a:ext cx="262080" cy="4888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124080" y="4876920"/>
                    <a:ext cx="26208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1" name=""/>
          <p:cNvGrpSpPr/>
          <p:nvPr/>
        </p:nvGrpSpPr>
        <p:grpSpPr>
          <a:xfrm>
            <a:off x="914400" y="3276720"/>
            <a:ext cx="1676520" cy="1218960"/>
            <a:chOff x="914400" y="3276720"/>
            <a:chExt cx="1676520" cy="1218960"/>
          </a:xfrm>
        </p:grpSpPr>
        <p:sp>
          <p:nvSpPr>
            <p:cNvPr id="282" name=""/>
            <p:cNvSpPr/>
            <p:nvPr/>
          </p:nvSpPr>
          <p:spPr>
            <a:xfrm>
              <a:off x="914400" y="3276720"/>
              <a:ext cx="1676520" cy="1218960"/>
            </a:xfrm>
            <a:prstGeom prst="cloudCallout">
              <a:avLst>
                <a:gd name="adj1" fmla="val 80300"/>
                <a:gd name="adj2" fmla="val 638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3" name=""/>
            <p:cNvGraphicFramePr/>
            <p:nvPr/>
          </p:nvGraphicFramePr>
          <p:xfrm>
            <a:off x="1258920" y="3876840"/>
            <a:ext cx="985680" cy="334800"/>
          </p:xfrm>
          <a:graphic>
            <a:graphicData uri="http://schemas.openxmlformats.org/presentationml/2006/ole">
              <p:oleObj r:id="rId49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1258920" y="3876840"/>
                      <a:ext cx="98568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5" name=""/>
          <p:cNvGrpSpPr/>
          <p:nvPr/>
        </p:nvGrpSpPr>
        <p:grpSpPr>
          <a:xfrm>
            <a:off x="5105520" y="4800600"/>
            <a:ext cx="1676160" cy="1219320"/>
            <a:chOff x="5105520" y="4800600"/>
            <a:chExt cx="1676160" cy="1219320"/>
          </a:xfrm>
        </p:grpSpPr>
        <p:sp>
          <p:nvSpPr>
            <p:cNvPr id="286" name=""/>
            <p:cNvSpPr/>
            <p:nvPr/>
          </p:nvSpPr>
          <p:spPr>
            <a:xfrm>
              <a:off x="5105520" y="4800600"/>
              <a:ext cx="1676160" cy="1219320"/>
            </a:xfrm>
            <a:prstGeom prst="cloudCallout">
              <a:avLst>
                <a:gd name="adj1" fmla="val -122254"/>
                <a:gd name="adj2" fmla="val -5390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7" name=""/>
            <p:cNvGraphicFramePr/>
            <p:nvPr/>
          </p:nvGraphicFramePr>
          <p:xfrm>
            <a:off x="5410080" y="5410080"/>
            <a:ext cx="928800" cy="33516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5410080" y="5410080"/>
                      <a:ext cx="928800" cy="3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90720" y="533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your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295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2 logarithm  buttons on your calcula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2133720"/>
            <a:ext cx="647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nds for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its in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971800"/>
            <a:ext cx="64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nds for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its in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8080" y="2133720"/>
            <a:ext cx="609840" cy="4572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629400" y="1752480"/>
            <a:ext cx="609480" cy="838080"/>
            <a:chOff x="6629400" y="1752480"/>
            <a:chExt cx="609480" cy="838080"/>
          </a:xfrm>
        </p:grpSpPr>
        <p:sp>
          <p:nvSpPr>
            <p:cNvPr id="295" name=""/>
            <p:cNvSpPr/>
            <p:nvPr/>
          </p:nvSpPr>
          <p:spPr>
            <a:xfrm>
              <a:off x="6629400" y="2133360"/>
              <a:ext cx="609480" cy="457200"/>
            </a:xfrm>
            <a:prstGeom prst="flowChartAlternateProcess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6" name=""/>
            <p:cNvGraphicFramePr/>
            <p:nvPr/>
          </p:nvGraphicFramePr>
          <p:xfrm>
            <a:off x="6632280" y="1752480"/>
            <a:ext cx="45432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32280" y="1752480"/>
                      <a:ext cx="4543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8" name=""/>
          <p:cNvSpPr/>
          <p:nvPr/>
        </p:nvSpPr>
        <p:spPr>
          <a:xfrm>
            <a:off x="838080" y="2971800"/>
            <a:ext cx="609840" cy="4572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705720" y="2666880"/>
            <a:ext cx="609480" cy="838440"/>
            <a:chOff x="6705720" y="2666880"/>
            <a:chExt cx="609480" cy="838440"/>
          </a:xfrm>
        </p:grpSpPr>
        <p:graphicFrame>
          <p:nvGraphicFramePr>
            <p:cNvPr id="300" name=""/>
            <p:cNvGraphicFramePr/>
            <p:nvPr/>
          </p:nvGraphicFramePr>
          <p:xfrm>
            <a:off x="6705720" y="2666880"/>
            <a:ext cx="309600" cy="38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05720" y="2666880"/>
                      <a:ext cx="3096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6705720" y="3048120"/>
              <a:ext cx="609480" cy="457200"/>
            </a:xfrm>
            <a:prstGeom prst="flowChartAlternateProcess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l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838080" y="3809880"/>
            <a:ext cx="76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finding 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on your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38098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66680" y="380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Expon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295280" y="838080"/>
            <a:ext cx="3048120" cy="772920"/>
            <a:chOff x="1295280" y="838080"/>
            <a:chExt cx="3048120" cy="772920"/>
          </a:xfrm>
        </p:grpSpPr>
        <p:sp>
          <p:nvSpPr>
            <p:cNvPr id="307" name=""/>
            <p:cNvSpPr/>
            <p:nvPr/>
          </p:nvSpPr>
          <p:spPr>
            <a:xfrm>
              <a:off x="1295280" y="99036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2590920" y="838080"/>
            <a:ext cx="1752480" cy="77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90920" y="838080"/>
                      <a:ext cx="1752480" cy="77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0" name=""/>
          <p:cNvSpPr/>
          <p:nvPr/>
        </p:nvSpPr>
        <p:spPr>
          <a:xfrm>
            <a:off x="990720" y="1676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   and  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5   so we can see that x lies between ……and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382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576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25909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ng logs of both sides and applying th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295280" y="3043080"/>
          <a:ext cx="4137120" cy="91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043080"/>
                    <a:ext cx="413712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819520" y="3809880"/>
          <a:ext cx="382320" cy="73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3809880"/>
                    <a:ext cx="38232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438280" y="3733920"/>
          <a:ext cx="382680" cy="73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3733920"/>
                    <a:ext cx="382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133720" y="3733920"/>
          <a:ext cx="382320" cy="730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3733920"/>
                    <a:ext cx="38232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1828800" y="3733920"/>
          <a:ext cx="382680" cy="73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3733920"/>
                    <a:ext cx="382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523880" y="3733920"/>
          <a:ext cx="3826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3733920"/>
                    <a:ext cx="382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219320" y="3733920"/>
          <a:ext cx="382320" cy="730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19320" y="3733920"/>
                    <a:ext cx="38232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838080" y="3809880"/>
          <a:ext cx="519120" cy="990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38080" y="3809880"/>
                    <a:ext cx="519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1049400" y="3962520"/>
          <a:ext cx="638280" cy="121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49400" y="3962520"/>
                    <a:ext cx="6382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1447920" y="3962520"/>
          <a:ext cx="3894120" cy="876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47920" y="3962520"/>
                    <a:ext cx="38941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2930400" y="3927600"/>
            <a:ext cx="2286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838080" y="4800600"/>
          <a:ext cx="4673880" cy="1649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38080" y="4800600"/>
                    <a:ext cx="46738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088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ormula P(t) = 50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P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value of t is P(t) = ½P(0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057400" y="1905120"/>
          <a:ext cx="358128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35812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11430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30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963800" y="2425680"/>
          <a:ext cx="3770280" cy="116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3800" y="2425680"/>
                    <a:ext cx="37702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2752560" y="3635280"/>
          <a:ext cx="207360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52560" y="3635280"/>
                    <a:ext cx="2073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3048120" y="4267080"/>
          <a:ext cx="146520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4267080"/>
                    <a:ext cx="146520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228600" y="3733920"/>
            <a:ext cx="2286000" cy="1371600"/>
          </a:xfrm>
          <a:prstGeom prst="cloudCallout">
            <a:avLst>
              <a:gd name="adj1" fmla="val 73541"/>
              <a:gd name="adj2" fmla="val 328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141640" y="5276880"/>
          <a:ext cx="3127320" cy="127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1640" y="5276880"/>
                    <a:ext cx="31273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2286000" y="380880"/>
          <a:ext cx="3127320" cy="12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31273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2192400" y="2092320"/>
          <a:ext cx="346716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2400" y="2092320"/>
                    <a:ext cx="34671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2610000" y="3160800"/>
          <a:ext cx="297180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10000" y="3160800"/>
                    <a:ext cx="29718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3268800" y="3795840"/>
          <a:ext cx="2073240" cy="116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68800" y="3795840"/>
                    <a:ext cx="207324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3429000" y="5257800"/>
          <a:ext cx="172872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5257800"/>
                    <a:ext cx="1728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14400" y="762120"/>
            <a:ext cx="76960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rmula    A = A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k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ives the amount of a radioactive substance after time t minutes.  After 4 minutes 50g is reduced to 45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the value of k to two significant fig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How long does it take for the substance t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 to half it original we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228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3384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133720" y="3352680"/>
          <a:ext cx="93636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352680"/>
                    <a:ext cx="9363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3452760" y="3314880"/>
          <a:ext cx="1878120" cy="59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2760" y="3314880"/>
                    <a:ext cx="187812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715000" y="3314880"/>
          <a:ext cx="1878120" cy="59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3314880"/>
                    <a:ext cx="187812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2057400" y="4191120"/>
          <a:ext cx="728640" cy="57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41911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819520" y="4114800"/>
          <a:ext cx="2141280" cy="59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4114800"/>
                    <a:ext cx="21412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0" y="4191120"/>
            <a:ext cx="2590920" cy="16002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log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057400" y="4800600"/>
          <a:ext cx="728640" cy="5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48006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2819520" y="4648320"/>
          <a:ext cx="3576600" cy="83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19520" y="4648320"/>
                    <a:ext cx="35766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2057400" y="5410080"/>
          <a:ext cx="728640" cy="577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57400" y="541008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2819520" y="5334120"/>
          <a:ext cx="4029120" cy="679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19520" y="5334120"/>
                    <a:ext cx="402912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2057400" y="6019920"/>
          <a:ext cx="728640" cy="577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7400" y="60199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2819520" y="5983200"/>
          <a:ext cx="3765600" cy="598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19520" y="5983200"/>
                    <a:ext cx="376560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1905120" y="304920"/>
          <a:ext cx="376560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920"/>
                    <a:ext cx="376560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2057400" y="914400"/>
          <a:ext cx="3351240" cy="12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914400"/>
                    <a:ext cx="335124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1143000" y="1219320"/>
          <a:ext cx="728640" cy="57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2193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2057400" y="2590920"/>
          <a:ext cx="278748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590920"/>
                    <a:ext cx="27874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1143000" y="2590920"/>
          <a:ext cx="728640" cy="57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25909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7" name=""/>
          <p:cNvGrpSpPr/>
          <p:nvPr/>
        </p:nvGrpSpPr>
        <p:grpSpPr>
          <a:xfrm>
            <a:off x="5181480" y="762120"/>
            <a:ext cx="3353040" cy="2743200"/>
            <a:chOff x="5181480" y="762120"/>
            <a:chExt cx="3353040" cy="2743200"/>
          </a:xfrm>
        </p:grpSpPr>
        <p:sp>
          <p:nvSpPr>
            <p:cNvPr id="398" name=""/>
            <p:cNvSpPr/>
            <p:nvPr/>
          </p:nvSpPr>
          <p:spPr>
            <a:xfrm>
              <a:off x="5181480" y="762120"/>
              <a:ext cx="3353040" cy="27432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e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9" name=""/>
            <p:cNvGraphicFramePr/>
            <p:nvPr/>
          </p:nvGraphicFramePr>
          <p:xfrm>
            <a:off x="5943600" y="2286360"/>
            <a:ext cx="1523880" cy="587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0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943600" y="2286360"/>
                      <a:ext cx="152388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1" name=""/>
          <p:cNvGraphicFramePr/>
          <p:nvPr/>
        </p:nvGraphicFramePr>
        <p:xfrm>
          <a:off x="2057400" y="3352680"/>
          <a:ext cx="2406600" cy="11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7400" y="3352680"/>
                    <a:ext cx="24066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143000" y="3657600"/>
          <a:ext cx="728640" cy="577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36576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1143000" y="4800600"/>
          <a:ext cx="728640" cy="577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48006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2057400" y="4740120"/>
          <a:ext cx="2073240" cy="524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7400" y="4740120"/>
                    <a:ext cx="2073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219320" y="609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How long does it take for the substance t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o half it original we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038320" y="1449360"/>
          <a:ext cx="380844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8320" y="1449360"/>
                    <a:ext cx="38084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2082960" y="2514600"/>
          <a:ext cx="2073240" cy="116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2960" y="2514600"/>
                    <a:ext cx="20732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2082960" y="3657600"/>
          <a:ext cx="3728880" cy="12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2960" y="3657600"/>
                    <a:ext cx="372888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1066680" y="2971800"/>
          <a:ext cx="728640" cy="57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9718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2082960" y="5029200"/>
          <a:ext cx="44845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82960" y="5029200"/>
                    <a:ext cx="44845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2082960" y="5867280"/>
          <a:ext cx="5689440" cy="52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82960" y="5867280"/>
                    <a:ext cx="56894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1066680" y="3886200"/>
          <a:ext cx="728640" cy="577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66680" y="38862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1066680" y="5105520"/>
          <a:ext cx="728640" cy="577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66680" y="51055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066680" y="5867280"/>
          <a:ext cx="728640" cy="577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66680" y="586728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6248520"/>
            <a:ext cx="449604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6858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nential Growth &amp; Dec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21932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ked 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an puts £2500 into a savings account earning 13% interest per annum.  How much money will she have if she leaves it there for 15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£A(n) be the amount in her account after n year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95240" y="3886200"/>
          <a:ext cx="175284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3886200"/>
                    <a:ext cx="175284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795240" y="4299120"/>
          <a:ext cx="5426280" cy="50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240" y="4299120"/>
                    <a:ext cx="542628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795240" y="4770360"/>
          <a:ext cx="531360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5240" y="4770360"/>
                    <a:ext cx="53136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795240" y="5243400"/>
          <a:ext cx="5399280" cy="509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5240" y="5243400"/>
                    <a:ext cx="53992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795240" y="5715000"/>
          <a:ext cx="6247080" cy="50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5240" y="5715000"/>
                    <a:ext cx="62470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715000" y="3124080"/>
          <a:ext cx="1569960" cy="175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5000" y="3124080"/>
                    <a:ext cx="15699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400800" y="3733920"/>
          <a:ext cx="1569960" cy="1752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3733920"/>
                    <a:ext cx="15699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6781680" y="4191120"/>
          <a:ext cx="1228680" cy="1371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81680" y="4191120"/>
                    <a:ext cx="12286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086600" y="4800600"/>
          <a:ext cx="887400" cy="990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86600" y="4800600"/>
                    <a:ext cx="8874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238880" y="5334120"/>
          <a:ext cx="682920" cy="761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38880" y="5334120"/>
                    <a:ext cx="6829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7010280" y="5486400"/>
          <a:ext cx="546120" cy="609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10280" y="5486400"/>
                    <a:ext cx="546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0" y="5638680"/>
          <a:ext cx="409680" cy="457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858000" y="5638680"/>
                    <a:ext cx="409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838080" y="6172200"/>
          <a:ext cx="4494240" cy="509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38080" y="6172200"/>
                    <a:ext cx="44942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219320" y="304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 and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106668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conducting an experiment scientists may analyse the data to find if a formula connecting the variables exis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from an experiment may result in a graph of the form shown in the diagram, indicating exponential growth.  A graph such as this implies a formula of the typ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724280" y="1143000"/>
          <a:ext cx="44197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143000"/>
                    <a:ext cx="44197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838080" y="6858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find this formula by using logarith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3132000" y="1370160"/>
          <a:ext cx="142560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370160"/>
                    <a:ext cx="14256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137160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124080" y="2057400"/>
          <a:ext cx="26733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057400"/>
                    <a:ext cx="2673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144792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013200" y="2989440"/>
            <a:ext cx="3049560" cy="679320"/>
            <a:chOff x="3013200" y="2989440"/>
            <a:chExt cx="3049560" cy="679320"/>
          </a:xfrm>
        </p:grpSpPr>
        <p:graphicFrame>
          <p:nvGraphicFramePr>
            <p:cNvPr id="441" name=""/>
            <p:cNvGraphicFramePr/>
            <p:nvPr/>
          </p:nvGraphicFramePr>
          <p:xfrm>
            <a:off x="3013200" y="2989440"/>
            <a:ext cx="3049560" cy="679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13200" y="298944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3" name=""/>
            <p:cNvSpPr/>
            <p:nvPr/>
          </p:nvSpPr>
          <p:spPr>
            <a:xfrm>
              <a:off x="4343400" y="306576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4" name=""/>
          <p:cNvGraphicFramePr/>
          <p:nvPr/>
        </p:nvGraphicFramePr>
        <p:xfrm>
          <a:off x="4572000" y="3030480"/>
          <a:ext cx="1012680" cy="59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030480"/>
                    <a:ext cx="101268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6021360" y="2990880"/>
          <a:ext cx="1162080" cy="67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21360" y="2990880"/>
                    <a:ext cx="11620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8" name=""/>
          <p:cNvGrpSpPr/>
          <p:nvPr/>
        </p:nvGrpSpPr>
        <p:grpSpPr>
          <a:xfrm>
            <a:off x="3046320" y="3740040"/>
            <a:ext cx="3049560" cy="679320"/>
            <a:chOff x="3046320" y="3740040"/>
            <a:chExt cx="3049560" cy="679320"/>
          </a:xfrm>
        </p:grpSpPr>
        <p:graphicFrame>
          <p:nvGraphicFramePr>
            <p:cNvPr id="449" name=""/>
            <p:cNvGraphicFramePr/>
            <p:nvPr/>
          </p:nvGraphicFramePr>
          <p:xfrm>
            <a:off x="3046320" y="3740040"/>
            <a:ext cx="3049560" cy="679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5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46320" y="374004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1" name=""/>
            <p:cNvSpPr/>
            <p:nvPr/>
          </p:nvSpPr>
          <p:spPr>
            <a:xfrm>
              <a:off x="4376520" y="381636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2" name=""/>
          <p:cNvGraphicFramePr/>
          <p:nvPr/>
        </p:nvGraphicFramePr>
        <p:xfrm>
          <a:off x="4627440" y="3821040"/>
          <a:ext cx="1013040" cy="598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27440" y="3821040"/>
                    <a:ext cx="101304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6021360" y="3821040"/>
          <a:ext cx="1274760" cy="598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21360" y="3821040"/>
                    <a:ext cx="127476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685800" y="4495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3505320" y="4419720"/>
          <a:ext cx="2141280" cy="523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4419720"/>
                    <a:ext cx="2141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1143000" y="5106960"/>
          <a:ext cx="1770120" cy="598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43000" y="5106960"/>
                    <a:ext cx="177012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3733920" y="5197320"/>
          <a:ext cx="1163520" cy="416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33920" y="5197320"/>
                    <a:ext cx="116352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5467320" y="5105520"/>
          <a:ext cx="1658880" cy="601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67320" y="5105520"/>
                    <a:ext cx="16588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5" name=""/>
          <p:cNvGrpSpPr/>
          <p:nvPr/>
        </p:nvGrpSpPr>
        <p:grpSpPr>
          <a:xfrm>
            <a:off x="762120" y="5715000"/>
            <a:ext cx="4952880" cy="838080"/>
            <a:chOff x="762120" y="5715000"/>
            <a:chExt cx="4952880" cy="838080"/>
          </a:xfrm>
        </p:grpSpPr>
        <p:sp>
          <p:nvSpPr>
            <p:cNvPr id="466" name=""/>
            <p:cNvSpPr/>
            <p:nvPr/>
          </p:nvSpPr>
          <p:spPr>
            <a:xfrm>
              <a:off x="762120" y="5715000"/>
              <a:ext cx="4952880" cy="838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6019920"/>
              <a:ext cx="9144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390680" y="5862600"/>
              <a:ext cx="4249800" cy="679320"/>
              <a:chOff x="1390680" y="5862600"/>
              <a:chExt cx="4249800" cy="67932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1390680" y="5862600"/>
                <a:ext cx="3049560" cy="679320"/>
                <a:chOff x="1390680" y="5862600"/>
                <a:chExt cx="3049560" cy="679320"/>
              </a:xfrm>
            </p:grpSpPr>
            <p:graphicFrame>
              <p:nvGraphicFramePr>
                <p:cNvPr id="470" name=""/>
                <p:cNvGraphicFramePr/>
                <p:nvPr/>
              </p:nvGraphicFramePr>
              <p:xfrm>
                <a:off x="1390680" y="5862600"/>
                <a:ext cx="3049560" cy="679320"/>
              </p:xfrm>
              <a:graphic>
                <a:graphicData uri="http://schemas.openxmlformats.org/presentationml/2006/ole">
                  <p:oleObj r:id="rId25" spid="">
                    <p:embed/>
                    <p:pic>
                      <p:nvPicPr>
                        <p:cNvPr id="471" name="" descr=""/>
                        <p:cNvPicPr/>
                        <p:nvPr/>
                      </p:nvPicPr>
                      <p:blipFill>
                        <a:blip r:embed="rId26"/>
                        <a:stretch/>
                      </p:blipFill>
                      <p:spPr>
                        <a:xfrm>
                          <a:off x="1390680" y="5862600"/>
                          <a:ext cx="3049560" cy="679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72" name=""/>
                <p:cNvSpPr/>
                <p:nvPr/>
              </p:nvSpPr>
              <p:spPr>
                <a:xfrm>
                  <a:off x="2720880" y="5938920"/>
                  <a:ext cx="1295280" cy="533160"/>
                </a:xfrm>
                <a:prstGeom prst="rect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473" name=""/>
              <p:cNvGraphicFramePr/>
              <p:nvPr/>
            </p:nvGraphicFramePr>
            <p:xfrm>
              <a:off x="2971800" y="5943600"/>
              <a:ext cx="1012680" cy="59832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474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2971800" y="5943600"/>
                        <a:ext cx="1012680" cy="59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5" name=""/>
              <p:cNvGraphicFramePr/>
              <p:nvPr/>
            </p:nvGraphicFramePr>
            <p:xfrm>
              <a:off x="4365720" y="5943600"/>
              <a:ext cx="1274760" cy="59832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476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4365720" y="5943600"/>
                        <a:ext cx="1274760" cy="59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477" name=""/>
          <p:cNvSpPr/>
          <p:nvPr/>
        </p:nvSpPr>
        <p:spPr>
          <a:xfrm>
            <a:off x="5943600" y="5715000"/>
            <a:ext cx="259092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equation of a straight 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477120" y="1143000"/>
          <a:ext cx="2438280" cy="1995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77120" y="1143000"/>
                    <a:ext cx="243828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457200" y="685800"/>
          <a:ext cx="4800600" cy="39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480060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5486400" y="533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6553080" y="457200"/>
          <a:ext cx="142560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457200"/>
                    <a:ext cx="14256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5562720" y="15238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ee by taking logs that we can reduce this problem to a straight line problem 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286000" y="4572000"/>
            <a:ext cx="4952880" cy="838080"/>
            <a:chOff x="2286000" y="4572000"/>
            <a:chExt cx="4952880" cy="838080"/>
          </a:xfrm>
        </p:grpSpPr>
        <p:sp>
          <p:nvSpPr>
            <p:cNvPr id="487" name=""/>
            <p:cNvSpPr/>
            <p:nvPr/>
          </p:nvSpPr>
          <p:spPr>
            <a:xfrm>
              <a:off x="2286000" y="4572000"/>
              <a:ext cx="4952880" cy="838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61960" y="4876920"/>
              <a:ext cx="9144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2914560" y="4719600"/>
              <a:ext cx="4249800" cy="679320"/>
              <a:chOff x="2914560" y="4719600"/>
              <a:chExt cx="4249800" cy="67932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2914560" y="4719600"/>
                <a:ext cx="3049560" cy="679320"/>
                <a:chOff x="2914560" y="4719600"/>
                <a:chExt cx="3049560" cy="679320"/>
              </a:xfrm>
            </p:grpSpPr>
            <p:graphicFrame>
              <p:nvGraphicFramePr>
                <p:cNvPr id="491" name=""/>
                <p:cNvGraphicFramePr/>
                <p:nvPr/>
              </p:nvGraphicFramePr>
              <p:xfrm>
                <a:off x="2914560" y="4719600"/>
                <a:ext cx="3049560" cy="6793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492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914560" y="4719600"/>
                          <a:ext cx="3049560" cy="679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93" name=""/>
                <p:cNvSpPr/>
                <p:nvPr/>
              </p:nvSpPr>
              <p:spPr>
                <a:xfrm>
                  <a:off x="4244760" y="4795920"/>
                  <a:ext cx="1295280" cy="533160"/>
                </a:xfrm>
                <a:prstGeom prst="rect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494" name=""/>
              <p:cNvGraphicFramePr/>
              <p:nvPr/>
            </p:nvGraphicFramePr>
            <p:xfrm>
              <a:off x="4495680" y="4800600"/>
              <a:ext cx="1012680" cy="5983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9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495680" y="4800600"/>
                        <a:ext cx="1012680" cy="59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96" name=""/>
              <p:cNvGraphicFramePr/>
              <p:nvPr/>
            </p:nvGraphicFramePr>
            <p:xfrm>
              <a:off x="5889600" y="4800600"/>
              <a:ext cx="1274760" cy="5983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9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889600" y="4800600"/>
                        <a:ext cx="1274760" cy="59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498" name=""/>
          <p:cNvSpPr/>
          <p:nvPr/>
        </p:nvSpPr>
        <p:spPr>
          <a:xfrm>
            <a:off x="685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676520" y="5929200"/>
          <a:ext cx="1770120" cy="598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5929200"/>
                    <a:ext cx="177012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4267080" y="6019920"/>
          <a:ext cx="1163880" cy="415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6019920"/>
                    <a:ext cx="11638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6000840" y="5927760"/>
          <a:ext cx="1658880" cy="601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00840" y="5927760"/>
                    <a:ext cx="16588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85800" y="304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ked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914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data was collected during an experi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457200" y="1600200"/>
          <a:ext cx="9982080" cy="121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998208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609480" y="281952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  Show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related by the formul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  Find the values of k and n and state the formula that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457200" y="228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log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228600" y="1066680"/>
          <a:ext cx="8229600" cy="90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2296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1447920" y="25146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524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86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76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1371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95480" y="1371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862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876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981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ting thes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762120" y="2514600"/>
          <a:ext cx="5562360" cy="390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514600"/>
                    <a:ext cx="556236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"/>
          <p:cNvSpPr/>
          <p:nvPr/>
        </p:nvSpPr>
        <p:spPr>
          <a:xfrm>
            <a:off x="6858000" y="2286000"/>
            <a:ext cx="198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get a straight line and hence the formula connecting X and Y is of th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6781680" y="5105520"/>
          <a:ext cx="199080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5105520"/>
                    <a:ext cx="1990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838080" y="6858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Since the points lie on a straight line, we can say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3132000" y="1370160"/>
          <a:ext cx="142560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370160"/>
                    <a:ext cx="14256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137160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716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3124080" y="2057400"/>
          <a:ext cx="26733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057400"/>
                    <a:ext cx="2673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144792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013200" y="2989440"/>
            <a:ext cx="3049560" cy="679320"/>
            <a:chOff x="3013200" y="2989440"/>
            <a:chExt cx="3049560" cy="679320"/>
          </a:xfrm>
        </p:grpSpPr>
        <p:graphicFrame>
          <p:nvGraphicFramePr>
            <p:cNvPr id="537" name=""/>
            <p:cNvGraphicFramePr/>
            <p:nvPr/>
          </p:nvGraphicFramePr>
          <p:xfrm>
            <a:off x="3013200" y="2989440"/>
            <a:ext cx="3049560" cy="679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13200" y="298944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9" name=""/>
            <p:cNvSpPr/>
            <p:nvPr/>
          </p:nvSpPr>
          <p:spPr>
            <a:xfrm>
              <a:off x="4343400" y="306576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0" name=""/>
          <p:cNvGraphicFramePr/>
          <p:nvPr/>
        </p:nvGraphicFramePr>
        <p:xfrm>
          <a:off x="4572000" y="3030480"/>
          <a:ext cx="1012680" cy="59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030480"/>
                    <a:ext cx="101268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6021360" y="2990880"/>
          <a:ext cx="1162080" cy="67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21360" y="2990880"/>
                    <a:ext cx="11620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4" name=""/>
          <p:cNvGrpSpPr/>
          <p:nvPr/>
        </p:nvGrpSpPr>
        <p:grpSpPr>
          <a:xfrm>
            <a:off x="3046320" y="3740040"/>
            <a:ext cx="3049560" cy="679320"/>
            <a:chOff x="3046320" y="3740040"/>
            <a:chExt cx="3049560" cy="679320"/>
          </a:xfrm>
        </p:grpSpPr>
        <p:graphicFrame>
          <p:nvGraphicFramePr>
            <p:cNvPr id="545" name=""/>
            <p:cNvGraphicFramePr/>
            <p:nvPr/>
          </p:nvGraphicFramePr>
          <p:xfrm>
            <a:off x="3046320" y="3740040"/>
            <a:ext cx="3049560" cy="679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4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46320" y="374004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7" name=""/>
            <p:cNvSpPr/>
            <p:nvPr/>
          </p:nvSpPr>
          <p:spPr>
            <a:xfrm>
              <a:off x="4376520" y="381636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8" name=""/>
          <p:cNvGraphicFramePr/>
          <p:nvPr/>
        </p:nvGraphicFramePr>
        <p:xfrm>
          <a:off x="4627440" y="3821040"/>
          <a:ext cx="1013040" cy="598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27440" y="3821040"/>
                    <a:ext cx="101304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6021360" y="3821040"/>
          <a:ext cx="1274760" cy="598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21360" y="3821040"/>
                    <a:ext cx="127476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685800" y="4495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3505320" y="4419720"/>
          <a:ext cx="2141280" cy="523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4419720"/>
                    <a:ext cx="2141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762120" y="457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electing points on the graph and substituting into this equation we get u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600200" y="1219320"/>
          <a:ext cx="213984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21398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3890880" y="1219320"/>
          <a:ext cx="222084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90880" y="1219320"/>
                    <a:ext cx="22208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1828800" y="2057400"/>
          <a:ext cx="301140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2057400"/>
                    <a:ext cx="30114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1773360" y="2666880"/>
          <a:ext cx="3124080" cy="52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73360" y="2666880"/>
                    <a:ext cx="3124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228600" y="304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1828800" y="3581280"/>
          <a:ext cx="2446200" cy="52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8800" y="3581280"/>
                    <a:ext cx="24462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2057400" y="4114800"/>
          <a:ext cx="1768320" cy="11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4114800"/>
                    <a:ext cx="176832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2057400" y="5562720"/>
          <a:ext cx="1463760" cy="52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7400" y="5562720"/>
                    <a:ext cx="14637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5203800" y="3657600"/>
          <a:ext cx="3576600" cy="523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03800" y="3657600"/>
                    <a:ext cx="3576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"/>
          <p:cNvSpPr/>
          <p:nvPr/>
        </p:nvSpPr>
        <p:spPr>
          <a:xfrm>
            <a:off x="617220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6208560" y="4572000"/>
          <a:ext cx="1354320" cy="523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08560" y="4572000"/>
                    <a:ext cx="13543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914400" y="6094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2573280" y="609480"/>
          <a:ext cx="278604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3280" y="609480"/>
                    <a:ext cx="27860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"/>
          <p:cNvSpPr/>
          <p:nvPr/>
        </p:nvSpPr>
        <p:spPr>
          <a:xfrm>
            <a:off x="228600" y="1295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2076480" y="1747800"/>
            <a:ext cx="3049560" cy="679320"/>
            <a:chOff x="2076480" y="1747800"/>
            <a:chExt cx="3049560" cy="679320"/>
          </a:xfrm>
        </p:grpSpPr>
        <p:graphicFrame>
          <p:nvGraphicFramePr>
            <p:cNvPr id="582" name=""/>
            <p:cNvGraphicFramePr/>
            <p:nvPr/>
          </p:nvGraphicFramePr>
          <p:xfrm>
            <a:off x="2076480" y="1747800"/>
            <a:ext cx="3049560" cy="679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76480" y="174780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4" name=""/>
            <p:cNvSpPr/>
            <p:nvPr/>
          </p:nvSpPr>
          <p:spPr>
            <a:xfrm>
              <a:off x="3406680" y="182412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5" name=""/>
          <p:cNvGraphicFramePr/>
          <p:nvPr/>
        </p:nvGraphicFramePr>
        <p:xfrm>
          <a:off x="3657600" y="1828800"/>
          <a:ext cx="1012680" cy="59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828800"/>
                    <a:ext cx="10126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5051520" y="1828800"/>
          <a:ext cx="1274760" cy="59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51520" y="1828800"/>
                    <a:ext cx="127476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1981080" y="2835360"/>
          <a:ext cx="711360" cy="41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2835360"/>
                    <a:ext cx="7113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>
            <a:off x="3657600" y="281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4495680" y="2743200"/>
          <a:ext cx="1357560" cy="598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2743200"/>
                    <a:ext cx="135756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2819520" y="2781360"/>
          <a:ext cx="709560" cy="52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19520" y="2781360"/>
                    <a:ext cx="709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5943600" y="2781360"/>
          <a:ext cx="677880" cy="523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2781360"/>
                    <a:ext cx="6778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6858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2120" y="3733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3200400" y="4419720"/>
          <a:ext cx="1579680" cy="59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00400" y="4419720"/>
                    <a:ext cx="15796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3048120" y="3657600"/>
          <a:ext cx="1357200" cy="598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48120" y="3657600"/>
                    <a:ext cx="135720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4495680" y="3695760"/>
          <a:ext cx="677880" cy="523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95680" y="3695760"/>
                    <a:ext cx="6778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3200400" y="5181480"/>
          <a:ext cx="1579680" cy="522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200400" y="5181480"/>
                    <a:ext cx="15796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"/>
          <p:cNvSpPr/>
          <p:nvPr/>
        </p:nvSpPr>
        <p:spPr>
          <a:xfrm>
            <a:off x="1676520" y="5943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2514600" y="5867280"/>
          <a:ext cx="4140360" cy="679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514600" y="5867280"/>
                    <a:ext cx="414036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7162920" y="2590920"/>
            <a:ext cx="1676160" cy="2288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ways check this on your graphics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8120" y="5638680"/>
            <a:ext cx="2666880" cy="838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380880"/>
            <a:ext cx="838224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opulation of an urban district is decreasing at the rate of 2% per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ing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 the initial population, find a formula fo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opulation,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fter n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How long will it take for the population to drop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00 000 to 800 0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43000" y="3657600"/>
          <a:ext cx="4038480" cy="5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657600"/>
                    <a:ext cx="40384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173240" y="4208400"/>
          <a:ext cx="3976560" cy="5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208400"/>
                    <a:ext cx="39765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257800" y="4229280"/>
          <a:ext cx="3200400" cy="49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229280"/>
                    <a:ext cx="320040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" name=""/>
          <p:cNvGrpSpPr/>
          <p:nvPr/>
        </p:nvGrpSpPr>
        <p:grpSpPr>
          <a:xfrm>
            <a:off x="1781280" y="3276720"/>
            <a:ext cx="6245280" cy="1009440"/>
            <a:chOff x="1781280" y="3276720"/>
            <a:chExt cx="6245280" cy="1009440"/>
          </a:xfrm>
        </p:grpSpPr>
        <p:sp>
          <p:nvSpPr>
            <p:cNvPr id="100" name=""/>
            <p:cNvSpPr/>
            <p:nvPr/>
          </p:nvSpPr>
          <p:spPr>
            <a:xfrm>
              <a:off x="1781280" y="3914640"/>
              <a:ext cx="6245280" cy="371520"/>
            </a:xfrm>
            <a:custGeom>
              <a:avLst/>
              <a:gdLst/>
              <a:ahLst/>
              <a:rect l="l" t="t" r="r" b="b"/>
              <a:pathLst>
                <a:path w="3934" h="234">
                  <a:moveTo>
                    <a:pt x="0" y="234"/>
                  </a:moveTo>
                  <a:cubicBezTo>
                    <a:pt x="137" y="189"/>
                    <a:pt x="219" y="158"/>
                    <a:pt x="367" y="145"/>
                  </a:cubicBezTo>
                  <a:cubicBezTo>
                    <a:pt x="670" y="155"/>
                    <a:pt x="952" y="164"/>
                    <a:pt x="1256" y="156"/>
                  </a:cubicBezTo>
                  <a:cubicBezTo>
                    <a:pt x="1478" y="173"/>
                    <a:pt x="1701" y="175"/>
                    <a:pt x="1923" y="189"/>
                  </a:cubicBezTo>
                  <a:cubicBezTo>
                    <a:pt x="2069" y="181"/>
                    <a:pt x="2203" y="159"/>
                    <a:pt x="2345" y="134"/>
                  </a:cubicBezTo>
                  <a:cubicBezTo>
                    <a:pt x="2387" y="127"/>
                    <a:pt x="2425" y="106"/>
                    <a:pt x="2467" y="100"/>
                  </a:cubicBezTo>
                  <a:cubicBezTo>
                    <a:pt x="2507" y="94"/>
                    <a:pt x="2680" y="81"/>
                    <a:pt x="2712" y="78"/>
                  </a:cubicBezTo>
                  <a:cubicBezTo>
                    <a:pt x="2840" y="52"/>
                    <a:pt x="2959" y="16"/>
                    <a:pt x="3090" y="0"/>
                  </a:cubicBezTo>
                  <a:cubicBezTo>
                    <a:pt x="3294" y="6"/>
                    <a:pt x="3439" y="4"/>
                    <a:pt x="3623" y="34"/>
                  </a:cubicBezTo>
                  <a:cubicBezTo>
                    <a:pt x="3671" y="53"/>
                    <a:pt x="3719" y="62"/>
                    <a:pt x="3768" y="78"/>
                  </a:cubicBezTo>
                  <a:cubicBezTo>
                    <a:pt x="3888" y="160"/>
                    <a:pt x="3790" y="94"/>
                    <a:pt x="3868" y="145"/>
                  </a:cubicBezTo>
                  <a:cubicBezTo>
                    <a:pt x="3879" y="152"/>
                    <a:pt x="3901" y="167"/>
                    <a:pt x="3901" y="167"/>
                  </a:cubicBezTo>
                  <a:cubicBezTo>
                    <a:pt x="3928" y="207"/>
                    <a:pt x="3917" y="188"/>
                    <a:pt x="3934" y="223"/>
                  </a:cubicBezTo>
                </a:path>
              </a:pathLst>
            </a:custGeom>
            <a:noFill/>
            <a:ln w="572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72200" y="327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2" name=""/>
          <p:cNvGraphicFramePr/>
          <p:nvPr/>
        </p:nvGraphicFramePr>
        <p:xfrm>
          <a:off x="1190520" y="4724280"/>
          <a:ext cx="410076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90520" y="4724280"/>
                    <a:ext cx="41007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381640" y="4737240"/>
          <a:ext cx="3305160" cy="49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81640" y="4737240"/>
                    <a:ext cx="330516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933560" y="4505400"/>
            <a:ext cx="6245280" cy="371520"/>
          </a:xfrm>
          <a:custGeom>
            <a:avLst/>
            <a:gdLst/>
            <a:ahLst/>
            <a:rect l="l" t="t" r="r" b="b"/>
            <a:pathLst>
              <a:path w="3934" h="234">
                <a:moveTo>
                  <a:pt x="0" y="234"/>
                </a:moveTo>
                <a:cubicBezTo>
                  <a:pt x="137" y="189"/>
                  <a:pt x="219" y="158"/>
                  <a:pt x="367" y="145"/>
                </a:cubicBezTo>
                <a:cubicBezTo>
                  <a:pt x="670" y="155"/>
                  <a:pt x="952" y="164"/>
                  <a:pt x="1256" y="156"/>
                </a:cubicBezTo>
                <a:cubicBezTo>
                  <a:pt x="1478" y="173"/>
                  <a:pt x="1701" y="175"/>
                  <a:pt x="1923" y="189"/>
                </a:cubicBezTo>
                <a:cubicBezTo>
                  <a:pt x="2069" y="181"/>
                  <a:pt x="2203" y="159"/>
                  <a:pt x="2345" y="134"/>
                </a:cubicBezTo>
                <a:cubicBezTo>
                  <a:pt x="2387" y="127"/>
                  <a:pt x="2425" y="106"/>
                  <a:pt x="2467" y="100"/>
                </a:cubicBezTo>
                <a:cubicBezTo>
                  <a:pt x="2507" y="94"/>
                  <a:pt x="2680" y="81"/>
                  <a:pt x="2712" y="78"/>
                </a:cubicBezTo>
                <a:cubicBezTo>
                  <a:pt x="2840" y="52"/>
                  <a:pt x="2959" y="16"/>
                  <a:pt x="3090" y="0"/>
                </a:cubicBezTo>
                <a:cubicBezTo>
                  <a:pt x="3294" y="6"/>
                  <a:pt x="3439" y="4"/>
                  <a:pt x="3623" y="34"/>
                </a:cubicBezTo>
                <a:cubicBezTo>
                  <a:pt x="3671" y="53"/>
                  <a:pt x="3719" y="62"/>
                  <a:pt x="3768" y="78"/>
                </a:cubicBezTo>
                <a:cubicBezTo>
                  <a:pt x="3888" y="160"/>
                  <a:pt x="3790" y="94"/>
                  <a:pt x="3868" y="145"/>
                </a:cubicBezTo>
                <a:cubicBezTo>
                  <a:pt x="3879" y="152"/>
                  <a:pt x="3901" y="167"/>
                  <a:pt x="3901" y="167"/>
                </a:cubicBezTo>
                <a:cubicBezTo>
                  <a:pt x="3928" y="207"/>
                  <a:pt x="3917" y="188"/>
                  <a:pt x="3934" y="223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5257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48120" y="5638680"/>
          <a:ext cx="2666880" cy="81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5638680"/>
                    <a:ext cx="26668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5720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38080" y="457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our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14600" y="1066680"/>
          <a:ext cx="266688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66680"/>
                    <a:ext cx="26668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990720" y="22096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setting up the graphing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410080"/>
            <a:ext cx="53337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fifth year the population drops below 80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95280" y="3048120"/>
          <a:ext cx="2886120" cy="19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048120"/>
                    <a:ext cx="288612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343400" y="3048120"/>
          <a:ext cx="2895480" cy="199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048120"/>
                    <a:ext cx="289548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6094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bbit population on an island increases by 15% each year.  How many years will it take for the population to at least dou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43000" y="3048120"/>
          <a:ext cx="4006800" cy="5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8120"/>
                    <a:ext cx="4006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1066680" y="2362320"/>
            <a:ext cx="4952880" cy="555480"/>
            <a:chOff x="1066680" y="2362320"/>
            <a:chExt cx="4952880" cy="555480"/>
          </a:xfrm>
        </p:grpSpPr>
        <p:graphicFrame>
          <p:nvGraphicFramePr>
            <p:cNvPr id="124" name=""/>
            <p:cNvGraphicFramePr/>
            <p:nvPr/>
          </p:nvGraphicFramePr>
          <p:xfrm>
            <a:off x="1600200" y="2362320"/>
            <a:ext cx="396720" cy="55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2362320"/>
                      <a:ext cx="396720" cy="5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"/>
            <p:cNvSpPr/>
            <p:nvPr/>
          </p:nvSpPr>
          <p:spPr>
            <a:xfrm>
              <a:off x="1066680" y="236232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t       be the initial pop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7" name=""/>
          <p:cNvGraphicFramePr/>
          <p:nvPr/>
        </p:nvGraphicFramePr>
        <p:xfrm>
          <a:off x="1143000" y="3568680"/>
          <a:ext cx="5424480" cy="5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568680"/>
                    <a:ext cx="54244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143000" y="4114800"/>
          <a:ext cx="5486400" cy="58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114800"/>
                    <a:ext cx="548640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219320" y="4724280"/>
          <a:ext cx="2249280" cy="582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4724280"/>
                    <a:ext cx="224928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3" name=""/>
          <p:cNvGrpSpPr/>
          <p:nvPr/>
        </p:nvGrpSpPr>
        <p:grpSpPr>
          <a:xfrm>
            <a:off x="1219320" y="5380200"/>
            <a:ext cx="2514600" cy="639720"/>
            <a:chOff x="1219320" y="5380200"/>
            <a:chExt cx="2514600" cy="639720"/>
          </a:xfrm>
        </p:grpSpPr>
        <p:sp>
          <p:nvSpPr>
            <p:cNvPr id="134" name=""/>
            <p:cNvSpPr/>
            <p:nvPr/>
          </p:nvSpPr>
          <p:spPr>
            <a:xfrm>
              <a:off x="1219320" y="54100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1752480" y="5380200"/>
            <a:ext cx="1067040" cy="639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52480" y="5380200"/>
                      <a:ext cx="106704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7" name=""/>
          <p:cNvSpPr/>
          <p:nvPr/>
        </p:nvSpPr>
        <p:spPr>
          <a:xfrm>
            <a:off x="6019920" y="5334120"/>
            <a:ext cx="243828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4 years the populatio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581280" y="5257800"/>
          <a:ext cx="1981440" cy="1371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5257800"/>
                    <a:ext cx="19814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Exponential Function – the “Number”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8701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tter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s the value 2.718….. (a never ending decimal). This number occurs often in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219320" y="2209680"/>
            <a:ext cx="6933960" cy="914400"/>
            <a:chOff x="1219320" y="2209680"/>
            <a:chExt cx="6933960" cy="914400"/>
          </a:xfrm>
        </p:grpSpPr>
        <p:sp>
          <p:nvSpPr>
            <p:cNvPr id="143" name=""/>
            <p:cNvSpPr/>
            <p:nvPr/>
          </p:nvSpPr>
          <p:spPr>
            <a:xfrm>
              <a:off x="1219320" y="2209680"/>
              <a:ext cx="6553080" cy="91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9320" y="2286000"/>
              <a:ext cx="693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 = 2.718..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is called the exponential function to the base </a:t>
              </a: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57200" y="3429000"/>
            <a:ext cx="84582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lthough we now think of logarithms as the exponents to which one must raise the base to get the required number, this is a modern way of thinking. In 1624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lmost made it into the mathematical literature, but not quite. In that year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Brigg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gave a numerical approximation to the base 10 logarithm o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ut did not mentio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tself in his wor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ertainly by 1661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uyge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understood the relation between the rectangular hyperbola and the logarithm. He examined explicitly the relation between the area under the rectangular hyperbola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1 and the logarithm. Of course, the numbe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such that the area under the rectangular hyperbola from 1 to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equal to 1. This is the property that make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he base of natural logarithms, but this was not understood by mathematicians at this time, although they were slowly approaching such an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3520" y="3808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ss of a fixed quantity of radioactive substance decays according to the formula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0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0.0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 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mass in grams                                      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time in years.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ss after 12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666880" y="2971800"/>
          <a:ext cx="361980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971800"/>
                    <a:ext cx="361980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4572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ing the Exponential Function and the Logarithm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7200" y="1371600"/>
            <a:ext cx="4341960" cy="3201840"/>
            <a:chOff x="457200" y="1371600"/>
            <a:chExt cx="4341960" cy="3201840"/>
          </a:xfrm>
        </p:grpSpPr>
        <p:graphicFrame>
          <p:nvGraphicFramePr>
            <p:cNvPr id="151" name=""/>
            <p:cNvGraphicFramePr/>
            <p:nvPr/>
          </p:nvGraphicFramePr>
          <p:xfrm>
            <a:off x="457200" y="1371600"/>
            <a:ext cx="4267080" cy="3201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371600"/>
                      <a:ext cx="4267080" cy="32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2362320" y="1371600"/>
            <a:ext cx="990360" cy="36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62320" y="1371600"/>
                      <a:ext cx="99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3886200" y="1981080"/>
            <a:ext cx="912960" cy="365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1981080"/>
                      <a:ext cx="9129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1066680" y="2362320"/>
            <a:ext cx="533520" cy="325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66680" y="2362320"/>
                      <a:ext cx="53352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2438280" y="3429000"/>
            <a:ext cx="533520" cy="325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438280" y="3429000"/>
                      <a:ext cx="53352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1" name=""/>
          <p:cNvSpPr/>
          <p:nvPr/>
        </p:nvSpPr>
        <p:spPr>
          <a:xfrm>
            <a:off x="5486400" y="10666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hapter 2.2 we found that the exponential function has an inverse function, called the logarithmic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638680" y="3505320"/>
          <a:ext cx="2743200" cy="150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3505320"/>
                    <a:ext cx="27432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724280" y="1981080"/>
          <a:ext cx="685800" cy="363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1981080"/>
                    <a:ext cx="6858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99072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g function is the inverse of the exponential function, so it ‘undoes’ the exponential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52280" y="304920"/>
          <a:ext cx="8763120" cy="291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8763120" cy="29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369040" y="124308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69040" y="158904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05740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767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 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88620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1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…. to what power gives   ….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648320"/>
            <a:ext cx="78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…. to what power gives   ….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3520" y="5334120"/>
            <a:ext cx="7848360" cy="834840"/>
            <a:chOff x="533520" y="5334120"/>
            <a:chExt cx="7848360" cy="834840"/>
          </a:xfrm>
        </p:grpSpPr>
        <p:graphicFrame>
          <p:nvGraphicFramePr>
            <p:cNvPr id="176" name=""/>
            <p:cNvGraphicFramePr/>
            <p:nvPr/>
          </p:nvGraphicFramePr>
          <p:xfrm>
            <a:off x="1523880" y="5334120"/>
            <a:ext cx="741600" cy="83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5334120"/>
                      <a:ext cx="741600" cy="83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"/>
            <p:cNvSpPr/>
            <p:nvPr/>
          </p:nvSpPr>
          <p:spPr>
            <a:xfrm>
              <a:off x="533520" y="5410080"/>
              <a:ext cx="784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(c)log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3            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“…. to what power gives     ….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362320" y="388620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63920" y="388620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388620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63920" y="464832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464832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548640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63920" y="548640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361960" y="4419720"/>
          <a:ext cx="3603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1960" y="4419720"/>
                    <a:ext cx="360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649920" y="5257800"/>
          <a:ext cx="741600" cy="83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49920" y="5257800"/>
                    <a:ext cx="741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12:43:39Z</dcterms:created>
  <dc:creator>East Lothian Council</dc:creator>
  <dc:description/>
  <dc:language>en-US</dc:language>
  <cp:lastModifiedBy>East Lothian Council</cp:lastModifiedBy>
  <dcterms:modified xsi:type="dcterms:W3CDTF">2003-03-07T09:59:04Z</dcterms:modified>
  <cp:revision>43</cp:revision>
  <dc:subject/>
  <dc:title>No Slide Title</dc:title>
</cp:coreProperties>
</file>