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5CC-FAA9-47A4-9487-9C44F25C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163-54D9-4488-9A0E-76AE2881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AE9-77BD-475B-9103-C913EF45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A5B-5038-4AE0-B9F3-06CDAFE5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1D7-4DCB-42B2-A749-4CD19ABF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2C9-1743-4CCA-BECE-239B3FDD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7F0-BB97-4574-BD81-B02F23F7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913-0925-4D60-B798-44444ED4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571-9748-4799-9E2E-E1E7C36F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341-8A7B-458D-8686-F161D158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1DB6-6AF6-477B-9A4E-3E4BF0D7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6EDF-6804-4083-BF5A-EF7F5820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7373-E318-4531-BCF8-0C1063F1D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hyperlink" Target="file:///tmp/home/.config/libreoffice/4/user/gallery/breeze.wav" TargetMode="External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file:///tmp/home/.config/libreoffice/4/user/gallery/breeze.wav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file:///tmp/home/.config/libreoffice/4/user/gallery/breeze.wav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file:///tmp/home/.config/libreoffice/4/user/gallery/breeze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file:///tmp/home/.config/libreoffice/4/user/gallery/breeze.wav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hyperlink" Target="file:///tmp/home/.config/libreoffice/4/user/gallery/breeze.wav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hyperlink" Target="file:///tmp/home/.config/libreoffice/4/user/gallery/breeze.wav" TargetMode="External"/><Relationship Id="rId1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hyperlink" Target="file:///tmp/home/.config/libreoffice/4/user/gallery/breeze.wav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eez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file:///tmp/home/.config/libreoffice/4/user/gallery/breeze.wav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hyperlink" Target="file:///tmp/home/.config/libreoffice/4/user/gallery/breeze.wav" TargetMode="External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er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Medians of Triangl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9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A </a:t>
            </a: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median</a:t>
            </a:r>
            <a:r>
              <a:rPr b="1" lang="en-GB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 of a triangle is a line from a vertex to the mid-point of the opposite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triangle has 3 medians which meet at a point called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entro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This is also the centre of gravity of the shape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4120" y="2585880"/>
            <a:ext cx="2990880" cy="2186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413160" y="2468520"/>
            <a:ext cx="208908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194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1409400" y="2727000"/>
            <a:ext cx="723960" cy="9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4240" y="2216160"/>
            <a:ext cx="1409760" cy="509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125880" y="2604960"/>
            <a:ext cx="2871720" cy="2187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851440" y="2475000"/>
            <a:ext cx="2927520" cy="23810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rId4"/>
          </p:cNvPr>
          <p:cNvSpPr/>
          <p:nvPr/>
        </p:nvSpPr>
        <p:spPr>
          <a:xfrm>
            <a:off x="80596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secting Lin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 already know that when two lines intersect their point of intersection can be found by simultaneously solving a pair of </a:t>
            </a:r>
            <a:r>
              <a:rPr b="1" lang="en-GB" sz="2000" spc="-1" strike="noStrike">
                <a:solidFill>
                  <a:srgbClr val="6600ff"/>
                </a:solidFill>
                <a:latin typeface="Arial"/>
              </a:rPr>
              <a:t>“linear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re is a reminder of how this can be don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ff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00ff"/>
                </a:solidFill>
                <a:latin typeface="Arial"/>
              </a:rPr>
              <a:t>Solving by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ff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6600ff"/>
                </a:solidFill>
                <a:latin typeface="Arial"/>
              </a:rPr>
              <a:t>Solving by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j0078809" descr=""/>
          <p:cNvPicPr/>
          <p:nvPr/>
        </p:nvPicPr>
        <p:blipFill>
          <a:blip r:embed="rId1"/>
          <a:stretch/>
        </p:blipFill>
        <p:spPr>
          <a:xfrm>
            <a:off x="6361200" y="2392200"/>
            <a:ext cx="1552320" cy="113364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rId2"/>
          </p:cNvPr>
          <p:cNvSpPr/>
          <p:nvPr/>
        </p:nvSpPr>
        <p:spPr>
          <a:xfrm>
            <a:off x="80596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ne is b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76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ou will see that the “best” method is dependent upon the equations in question, generally if one of the equations has either an x or a y coefficient of 1 then the substitution method is easier, however it all depends on the numbers involved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383160" y="2112840"/>
            <a:ext cx="2082960" cy="254340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rId2"/>
          </p:cNvPr>
          <p:cNvSpPr/>
          <p:nvPr/>
        </p:nvSpPr>
        <p:spPr>
          <a:xfrm>
            <a:off x="80596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Looking 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651280" y="2708280"/>
            <a:ext cx="3024360" cy="2089080"/>
            <a:chOff x="5651280" y="2708280"/>
            <a:chExt cx="3024360" cy="2089080"/>
          </a:xfrm>
        </p:grpSpPr>
        <p:sp>
          <p:nvSpPr>
            <p:cNvPr id="45" name=""/>
            <p:cNvSpPr/>
            <p:nvPr/>
          </p:nvSpPr>
          <p:spPr>
            <a:xfrm flipH="1" flipV="1">
              <a:off x="5651280" y="2708280"/>
              <a:ext cx="433080" cy="10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12000" y="3716280"/>
              <a:ext cx="266364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Y – axis Intercep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11280" y="2781360"/>
            <a:ext cx="3889440" cy="2016000"/>
            <a:chOff x="611280" y="2781360"/>
            <a:chExt cx="3889440" cy="2016000"/>
          </a:xfrm>
        </p:grpSpPr>
        <p:sp>
          <p:nvSpPr>
            <p:cNvPr id="49" name=""/>
            <p:cNvSpPr/>
            <p:nvPr/>
          </p:nvSpPr>
          <p:spPr>
            <a:xfrm flipV="1">
              <a:off x="3708360" y="2781360"/>
              <a:ext cx="450720" cy="10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611280" y="3716280"/>
            <a:ext cx="3889440" cy="10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280" y="3716280"/>
                      <a:ext cx="3889440" cy="10810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52" name=""/>
          <p:cNvSpPr/>
          <p:nvPr/>
        </p:nvSpPr>
        <p:spPr>
          <a:xfrm>
            <a:off x="1763640" y="198900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Times New Roman"/>
              </a:rPr>
              <a:t>y = mx + 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3"/>
          </p:cNvPr>
          <p:cNvSpPr/>
          <p:nvPr/>
        </p:nvSpPr>
        <p:spPr>
          <a:xfrm>
            <a:off x="25092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11920" y="83757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27920" y="859140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Distance Formula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a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772160" y="2489040"/>
            <a:ext cx="3999960" cy="2523600"/>
            <a:chOff x="4772160" y="2489040"/>
            <a:chExt cx="3999960" cy="2523600"/>
          </a:xfrm>
        </p:grpSpPr>
        <p:grpSp>
          <p:nvGrpSpPr>
            <p:cNvPr id="58" name=""/>
            <p:cNvGrpSpPr/>
            <p:nvPr/>
          </p:nvGrpSpPr>
          <p:grpSpPr>
            <a:xfrm>
              <a:off x="4772160" y="2489040"/>
              <a:ext cx="3999960" cy="2523600"/>
              <a:chOff x="4772160" y="2489040"/>
              <a:chExt cx="3999960" cy="25236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4772160" y="2489040"/>
                <a:ext cx="3917880" cy="1771920"/>
                <a:chOff x="4772160" y="2489040"/>
                <a:chExt cx="3917880" cy="1771920"/>
              </a:xfrm>
            </p:grpSpPr>
            <p:sp>
              <p:nvSpPr>
                <p:cNvPr id="60" name=""/>
                <p:cNvSpPr/>
                <p:nvPr/>
              </p:nvSpPr>
              <p:spPr>
                <a:xfrm flipV="1">
                  <a:off x="5288040" y="2946960"/>
                  <a:ext cx="2320920" cy="1314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sm" type="oval" w="sm"/>
                  <a:tail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772160" y="3405240"/>
                  <a:ext cx="138276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(x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,y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307640" y="2489040"/>
                  <a:ext cx="1382400" cy="77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(x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,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5291280" y="2959560"/>
                <a:ext cx="3480840" cy="2053080"/>
                <a:chOff x="5291280" y="2959560"/>
                <a:chExt cx="3480840" cy="2053080"/>
              </a:xfrm>
            </p:grpSpPr>
            <p:sp>
              <p:nvSpPr>
                <p:cNvPr id="64" name=""/>
                <p:cNvSpPr/>
                <p:nvPr/>
              </p:nvSpPr>
              <p:spPr>
                <a:xfrm flipV="1">
                  <a:off x="7629480" y="2959560"/>
                  <a:ext cx="1080" cy="132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5291280" y="4313520"/>
                  <a:ext cx="232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421400" y="4112280"/>
                  <a:ext cx="188640" cy="199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84840" y="4243320"/>
                  <a:ext cx="138240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6600ff"/>
                      </a:solidFill>
                      <a:latin typeface="Times New Roman"/>
                    </a:rPr>
                    <a:t>x</a:t>
                  </a:r>
                  <a:r>
                    <a:rPr b="0" i="1" lang="en-US" sz="2800" spc="-1" strike="noStrike" baseline="-25000">
                      <a:solidFill>
                        <a:srgbClr val="6600ff"/>
                      </a:solidFill>
                      <a:latin typeface="Times New Roman"/>
                    </a:rPr>
                    <a:t>2 </a:t>
                  </a:r>
                  <a:r>
                    <a:rPr b="0" i="1" lang="en-US" sz="2800" spc="-1" strike="noStrike">
                      <a:solidFill>
                        <a:srgbClr val="6600ff"/>
                      </a:solidFill>
                      <a:latin typeface="Times New Roman"/>
                    </a:rPr>
                    <a:t>– x</a:t>
                  </a:r>
                  <a:r>
                    <a:rPr b="0" i="1" lang="en-US" sz="2800" spc="-1" strike="noStrike" baseline="-25000">
                      <a:solidFill>
                        <a:srgbClr val="6600ff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389720" y="3337920"/>
                  <a:ext cx="138240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6600ff"/>
                      </a:solidFill>
                      <a:latin typeface="Times New Roman"/>
                    </a:rPr>
                    <a:t>   </a:t>
                  </a:r>
                  <a:r>
                    <a:rPr b="0" i="1" lang="en-US" sz="2800" spc="-1" strike="noStrike">
                      <a:solidFill>
                        <a:srgbClr val="6600ff"/>
                      </a:solidFill>
                      <a:latin typeface="Times New Roman"/>
                    </a:rPr>
                    <a:t>y</a:t>
                  </a:r>
                  <a:r>
                    <a:rPr b="0" i="1" lang="en-US" sz="2800" spc="-1" strike="noStrike" baseline="-25000">
                      <a:solidFill>
                        <a:srgbClr val="6600ff"/>
                      </a:solidFill>
                      <a:latin typeface="Times New Roman"/>
                    </a:rPr>
                    <a:t>2 </a:t>
                  </a:r>
                  <a:r>
                    <a:rPr b="0" i="1" lang="en-US" sz="2800" spc="-1" strike="noStrike">
                      <a:solidFill>
                        <a:srgbClr val="6600ff"/>
                      </a:solidFill>
                      <a:latin typeface="Times New Roman"/>
                    </a:rPr>
                    <a:t>– y</a:t>
                  </a:r>
                  <a:r>
                    <a:rPr b="0" i="1" lang="en-US" sz="2800" spc="-1" strike="noStrike" baseline="-25000">
                      <a:solidFill>
                        <a:srgbClr val="6600ff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" name=""/>
            <p:cNvSpPr/>
            <p:nvPr/>
          </p:nvSpPr>
          <p:spPr>
            <a:xfrm>
              <a:off x="7088040" y="4162320"/>
              <a:ext cx="138276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924360" y="1916280"/>
            <a:ext cx="4895640" cy="3960720"/>
            <a:chOff x="3924360" y="1916280"/>
            <a:chExt cx="4895640" cy="3960720"/>
          </a:xfrm>
        </p:grpSpPr>
        <p:sp>
          <p:nvSpPr>
            <p:cNvPr id="71" name=""/>
            <p:cNvSpPr/>
            <p:nvPr/>
          </p:nvSpPr>
          <p:spPr>
            <a:xfrm>
              <a:off x="4798800" y="2098800"/>
              <a:ext cx="0" cy="34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4608000" y="5178600"/>
              <a:ext cx="3559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37240" y="5094360"/>
              <a:ext cx="138276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24360" y="1916280"/>
              <a:ext cx="13824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1880" y="5111640"/>
              <a:ext cx="138276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632760" y="1386360"/>
            <a:ext cx="168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ythagoras’ Theore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42440" y="2541600"/>
            <a:ext cx="4161240" cy="1541520"/>
            <a:chOff x="442440" y="2541600"/>
            <a:chExt cx="4161240" cy="1541520"/>
          </a:xfrm>
        </p:grpSpPr>
        <p:sp>
          <p:nvSpPr>
            <p:cNvPr id="78" name=""/>
            <p:cNvSpPr/>
            <p:nvPr/>
          </p:nvSpPr>
          <p:spPr>
            <a:xfrm>
              <a:off x="442440" y="2541600"/>
              <a:ext cx="400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is is really just Pythagoras’ Theorem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569880" y="3367080"/>
            <a:ext cx="4033800" cy="71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9880" y="3367080"/>
                      <a:ext cx="4033800" cy="7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>
            <a:hlinkClick r:id="rId3"/>
          </p:cNvPr>
          <p:cNvSpPr/>
          <p:nvPr/>
        </p:nvSpPr>
        <p:spPr>
          <a:xfrm>
            <a:off x="25092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Gradien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70160" y="3456000"/>
            <a:ext cx="1602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ff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6600ff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6600ff"/>
                </a:solidFill>
                <a:latin typeface="Times New Roman"/>
              </a:rPr>
              <a:t>– y</a:t>
            </a:r>
            <a:r>
              <a:rPr b="0" i="1" lang="en-US" sz="3200" spc="-1" strike="noStrike" baseline="-25000">
                <a:solidFill>
                  <a:srgbClr val="6600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54240" y="4676760"/>
            <a:ext cx="160164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ff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6600ff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6600ff"/>
                </a:solidFill>
                <a:latin typeface="Times New Roman"/>
              </a:rPr>
              <a:t>– x</a:t>
            </a:r>
            <a:r>
              <a:rPr b="0" i="1" lang="en-US" sz="3200" spc="-1" strike="noStrike" baseline="-25000">
                <a:solidFill>
                  <a:srgbClr val="6600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2394000"/>
            <a:ext cx="3921120" cy="2678040"/>
            <a:chOff x="0" y="2394000"/>
            <a:chExt cx="3921120" cy="2678040"/>
          </a:xfrm>
        </p:grpSpPr>
        <p:sp>
          <p:nvSpPr>
            <p:cNvPr id="86" name=""/>
            <p:cNvSpPr/>
            <p:nvPr/>
          </p:nvSpPr>
          <p:spPr>
            <a:xfrm>
              <a:off x="682560" y="4773600"/>
              <a:ext cx="27370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0" y="2394000"/>
              <a:ext cx="3921120" cy="2678040"/>
              <a:chOff x="0" y="2394000"/>
              <a:chExt cx="3921120" cy="267804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647640" y="2808000"/>
                <a:ext cx="2808360" cy="20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4038480"/>
                <a:ext cx="14288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(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,y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125800" y="2394000"/>
                <a:ext cx="1672920" cy="68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(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3390840" y="2904840"/>
                <a:ext cx="1800" cy="19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71960" y="4498920"/>
                <a:ext cx="223560" cy="292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62240" y="4676760"/>
                <a:ext cx="7588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555480" y="978480"/>
            <a:ext cx="664200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lope of a line is described by its grad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adient of the straight line through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6880" y="1919160"/>
            <a:ext cx="443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adient of AB =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418000" y="2530440"/>
          <a:ext cx="362268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8000" y="2530440"/>
                    <a:ext cx="36226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415120" y="3746520"/>
          <a:ext cx="228096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5120" y="3746520"/>
                    <a:ext cx="22809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421240" y="5030640"/>
          <a:ext cx="133992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1240" y="5030640"/>
                    <a:ext cx="1339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11120" y="5583240"/>
          <a:ext cx="444672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120" y="5583240"/>
                    <a:ext cx="4446720" cy="968400"/>
                  </a:xfrm>
                  <a:prstGeom prst="rect">
                    <a:avLst/>
                  </a:prstGeom>
                  <a:ln w="38160">
                    <a:solidFill>
                      <a:srgbClr val="ff00ff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105" name="">
            <a:hlinkClick r:id="rId9"/>
          </p:cNvPr>
          <p:cNvSpPr/>
          <p:nvPr/>
        </p:nvSpPr>
        <p:spPr>
          <a:xfrm>
            <a:off x="7972560" y="59641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79440" y="1067040"/>
            <a:ext cx="8335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es that slope up from left to right have a positive grad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es that slope down from left to right have negative grad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izontal lines ( parallel t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axis) have gradient of zero and equations of the for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lines ( parallel t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xis) have gradient which is undefined and equations of the for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lines have the same grad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dient of a line is the tangent of th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akes with the positive direction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Gradient Facts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22640" y="1569960"/>
            <a:ext cx="3714480" cy="3913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63680" y="2108160"/>
            <a:ext cx="3565800" cy="4108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282760" y="2908440"/>
            <a:ext cx="4498920" cy="30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351320" y="3971880"/>
            <a:ext cx="4703760" cy="2649600"/>
            <a:chOff x="4351320" y="3971880"/>
            <a:chExt cx="4703760" cy="2649600"/>
          </a:xfrm>
        </p:grpSpPr>
        <p:sp>
          <p:nvSpPr>
            <p:cNvPr id="113" name=""/>
            <p:cNvSpPr/>
            <p:nvPr/>
          </p:nvSpPr>
          <p:spPr>
            <a:xfrm>
              <a:off x="6603840" y="4329000"/>
              <a:ext cx="3240" cy="229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83200" y="5751360"/>
              <a:ext cx="2570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434280" y="4646520"/>
              <a:ext cx="1746000" cy="168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38720" y="3971880"/>
              <a:ext cx="7621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92960" y="5600880"/>
              <a:ext cx="7621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78600" y="5437080"/>
              <a:ext cx="7653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11800" y="5522760"/>
              <a:ext cx="7621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75800" y="5315040"/>
              <a:ext cx="821520" cy="85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4351320" y="5230800"/>
            <a:ext cx="1973160" cy="585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51320" y="5230800"/>
                      <a:ext cx="197316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" name=""/>
            <p:cNvGraphicFramePr/>
            <p:nvPr/>
          </p:nvGraphicFramePr>
          <p:xfrm>
            <a:off x="7294680" y="5256360"/>
            <a:ext cx="411120" cy="583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294680" y="5256360"/>
                      <a:ext cx="411120" cy="5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2131920" y="3808440"/>
            <a:ext cx="3967200" cy="2709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4011480" y="3708360"/>
            <a:ext cx="4610160" cy="314964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10"/>
          </p:cNvPr>
          <p:cNvSpPr/>
          <p:nvPr/>
        </p:nvSpPr>
        <p:spPr>
          <a:xfrm>
            <a:off x="25092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Gradient of perpendicular lin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3160" y="1065240"/>
            <a:ext cx="874872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4680" indent="-544680"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Conje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4680" indent="-544680"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If two lines with gradients m</a:t>
            </a:r>
            <a:r>
              <a:rPr b="1" lang="en-US" sz="1800" spc="-1" strike="noStrike" baseline="-25000">
                <a:solidFill>
                  <a:srgbClr val="66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and m</a:t>
            </a:r>
            <a:r>
              <a:rPr b="1" lang="en-US" sz="1800" spc="-1" strike="noStrike" baseline="-25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are perpendicular then  m</a:t>
            </a:r>
            <a:r>
              <a:rPr b="1" lang="en-US" sz="1800" spc="-1" strike="noStrike" baseline="-25000">
                <a:solidFill>
                  <a:srgbClr val="66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× m</a:t>
            </a:r>
            <a:r>
              <a:rPr b="1" lang="en-US" sz="1800" spc="-1" strike="noStrike" baseline="-25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= -1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200" y="1814400"/>
            <a:ext cx="874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4680" indent="-544680"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4680" indent="-544680"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When rotated through 90º about the origin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A (a, b)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→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B (-b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57680" y="3065400"/>
            <a:ext cx="2293920" cy="2235240"/>
            <a:chOff x="2857680" y="3065400"/>
            <a:chExt cx="2293920" cy="2235240"/>
          </a:xfrm>
        </p:grpSpPr>
        <p:sp>
          <p:nvSpPr>
            <p:cNvPr id="132" name=""/>
            <p:cNvSpPr/>
            <p:nvPr/>
          </p:nvSpPr>
          <p:spPr>
            <a:xfrm>
              <a:off x="3765600" y="3195360"/>
              <a:ext cx="138600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-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9396800">
              <a:off x="4321440" y="4451040"/>
              <a:ext cx="188640" cy="1638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3564000" y="3417840"/>
              <a:ext cx="806400" cy="12081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36880" y="3065400"/>
              <a:ext cx="138600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B(-b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57680" y="4667040"/>
              <a:ext cx="138600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59320" y="3443040"/>
              <a:ext cx="0" cy="1306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765600" y="3497400"/>
            <a:ext cx="2739960" cy="1788480"/>
            <a:chOff x="3765600" y="3497400"/>
            <a:chExt cx="2739960" cy="1788480"/>
          </a:xfrm>
        </p:grpSpPr>
        <p:sp>
          <p:nvSpPr>
            <p:cNvPr id="139" name=""/>
            <p:cNvSpPr/>
            <p:nvPr/>
          </p:nvSpPr>
          <p:spPr>
            <a:xfrm flipV="1">
              <a:off x="4351320" y="3917520"/>
              <a:ext cx="1449360" cy="7218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0000" y="3497400"/>
              <a:ext cx="138564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A(a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19560" y="4654440"/>
              <a:ext cx="13860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65600" y="3705120"/>
              <a:ext cx="13860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05360" y="3952800"/>
              <a:ext cx="15840" cy="837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138120" y="2492280"/>
            <a:ext cx="4189680" cy="2624040"/>
            <a:chOff x="3138120" y="2492280"/>
            <a:chExt cx="4189680" cy="2624040"/>
          </a:xfrm>
        </p:grpSpPr>
        <p:sp>
          <p:nvSpPr>
            <p:cNvPr id="145" name=""/>
            <p:cNvSpPr/>
            <p:nvPr/>
          </p:nvSpPr>
          <p:spPr>
            <a:xfrm>
              <a:off x="4395600" y="2637720"/>
              <a:ext cx="0" cy="232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138120" y="4657680"/>
              <a:ext cx="356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09720" y="4600080"/>
              <a:ext cx="13860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01800" y="2492280"/>
              <a:ext cx="1387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0360" y="4602600"/>
              <a:ext cx="1387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0" name=""/>
          <p:cNvGraphicFramePr/>
          <p:nvPr/>
        </p:nvGraphicFramePr>
        <p:xfrm>
          <a:off x="5991120" y="3703680"/>
          <a:ext cx="275760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91120" y="3703680"/>
                    <a:ext cx="27576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30320" y="3511440"/>
          <a:ext cx="328104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320" y="3511440"/>
                    <a:ext cx="328104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944720" y="5033880"/>
          <a:ext cx="552600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4720" y="5033880"/>
                    <a:ext cx="55260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92240" y="5789520"/>
            <a:ext cx="7993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4680" indent="-544680"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onverse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4680" indent="-544680">
              <a:tabLst>
                <a:tab algn="l" pos="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If m</a:t>
            </a:r>
            <a:r>
              <a:rPr b="1" lang="en-US" sz="1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× m</a:t>
            </a:r>
            <a:r>
              <a:rPr b="1" lang="en-US" sz="18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-1 then the two lines with gradients m</a:t>
            </a:r>
            <a:r>
              <a:rPr b="1" lang="en-US" sz="1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nd m</a:t>
            </a:r>
            <a:r>
              <a:rPr b="1" lang="en-US" sz="18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re perpendi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800360" y="5094360"/>
            <a:ext cx="5703840" cy="711000"/>
            <a:chOff x="1800360" y="5094360"/>
            <a:chExt cx="5703840" cy="711000"/>
          </a:xfrm>
        </p:grpSpPr>
        <p:sp>
          <p:nvSpPr>
            <p:cNvPr id="158" name=""/>
            <p:cNvSpPr/>
            <p:nvPr/>
          </p:nvSpPr>
          <p:spPr>
            <a:xfrm>
              <a:off x="6865920" y="5167440"/>
              <a:ext cx="638280" cy="550800"/>
            </a:xfrm>
            <a:prstGeom prst="ellipse">
              <a:avLst/>
            </a:prstGeom>
            <a:solidFill>
              <a:srgbClr val="ffcc99">
                <a:alpha val="44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00360" y="5094360"/>
              <a:ext cx="1915920" cy="711000"/>
            </a:xfrm>
            <a:prstGeom prst="rect">
              <a:avLst/>
            </a:prstGeom>
            <a:solidFill>
              <a:srgbClr val="ffcc99">
                <a:alpha val="47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>
            <a:hlinkClick r:id="rId7"/>
          </p:cNvPr>
          <p:cNvSpPr/>
          <p:nvPr/>
        </p:nvSpPr>
        <p:spPr>
          <a:xfrm>
            <a:off x="80596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699160" y="3122640"/>
            <a:ext cx="9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The Equation of the Straight Line</a:t>
            </a:r>
            <a:br>
              <a:rPr sz="40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– b = m (x -  a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3160" y="106524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Conje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The equation of any line can be found if its gradient and a point through which it passes are kn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0" y="2898720"/>
            <a:ext cx="4858920" cy="2623680"/>
            <a:chOff x="0" y="2898720"/>
            <a:chExt cx="4858920" cy="2623680"/>
          </a:xfrm>
        </p:grpSpPr>
        <p:sp>
          <p:nvSpPr>
            <p:cNvPr id="165" name=""/>
            <p:cNvSpPr/>
            <p:nvPr/>
          </p:nvSpPr>
          <p:spPr>
            <a:xfrm>
              <a:off x="962640" y="3044520"/>
              <a:ext cx="0" cy="23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532440" y="5063400"/>
              <a:ext cx="348552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800" y="5006520"/>
              <a:ext cx="16779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2898720"/>
              <a:ext cx="16819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77000" y="5008320"/>
              <a:ext cx="16819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557360" y="4297320"/>
            <a:ext cx="2043000" cy="353880"/>
            <a:chOff x="1557360" y="4297320"/>
            <a:chExt cx="2043000" cy="353880"/>
          </a:xfrm>
        </p:grpSpPr>
        <p:sp>
          <p:nvSpPr>
            <p:cNvPr id="171" name=""/>
            <p:cNvSpPr/>
            <p:nvPr/>
          </p:nvSpPr>
          <p:spPr>
            <a:xfrm>
              <a:off x="1962000" y="4297320"/>
              <a:ext cx="13852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 -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557360" y="4360320"/>
              <a:ext cx="2043000" cy="9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84080" y="2933640"/>
            <a:ext cx="3506760" cy="1593720"/>
            <a:chOff x="784080" y="2933640"/>
            <a:chExt cx="3506760" cy="1593720"/>
          </a:xfrm>
        </p:grpSpPr>
        <p:sp>
          <p:nvSpPr>
            <p:cNvPr id="174" name=""/>
            <p:cNvSpPr/>
            <p:nvPr/>
          </p:nvSpPr>
          <p:spPr>
            <a:xfrm flipV="1">
              <a:off x="1566720" y="3311280"/>
              <a:ext cx="2033640" cy="102708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4840" y="2933640"/>
              <a:ext cx="138600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 (x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58680" y="3479760"/>
              <a:ext cx="138600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4080" y="3894120"/>
              <a:ext cx="138564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 (a, 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514680" y="3300480"/>
            <a:ext cx="828360" cy="1022400"/>
            <a:chOff x="3514680" y="3300480"/>
            <a:chExt cx="828360" cy="1022400"/>
          </a:xfrm>
        </p:grpSpPr>
        <p:sp>
          <p:nvSpPr>
            <p:cNvPr id="179" name=""/>
            <p:cNvSpPr/>
            <p:nvPr/>
          </p:nvSpPr>
          <p:spPr>
            <a:xfrm>
              <a:off x="3608280" y="3300480"/>
              <a:ext cx="15840" cy="1022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14680" y="3597120"/>
              <a:ext cx="8283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 -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319560" y="3560760"/>
            <a:ext cx="11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82960" y="4245120"/>
            <a:ext cx="11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638680" y="3124080"/>
            <a:ext cx="1438200" cy="459720"/>
            <a:chOff x="5638680" y="3124080"/>
            <a:chExt cx="1438200" cy="459720"/>
          </a:xfrm>
        </p:grpSpPr>
        <p:sp>
          <p:nvSpPr>
            <p:cNvPr id="184" name=""/>
            <p:cNvSpPr/>
            <p:nvPr/>
          </p:nvSpPr>
          <p:spPr>
            <a:xfrm>
              <a:off x="6294600" y="3381480"/>
              <a:ext cx="78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3124080"/>
              <a:ext cx="72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094440" y="294336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75360" y="328932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 –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38960" y="3132000"/>
            <a:ext cx="6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976640" y="4917960"/>
            <a:ext cx="3719520" cy="1630440"/>
            <a:chOff x="4976640" y="4917960"/>
            <a:chExt cx="3719520" cy="1630440"/>
          </a:xfrm>
        </p:grpSpPr>
        <p:grpSp>
          <p:nvGrpSpPr>
            <p:cNvPr id="190" name=""/>
            <p:cNvGrpSpPr/>
            <p:nvPr/>
          </p:nvGrpSpPr>
          <p:grpSpPr>
            <a:xfrm>
              <a:off x="5207040" y="5021280"/>
              <a:ext cx="1633320" cy="636120"/>
              <a:chOff x="5207040" y="5021280"/>
              <a:chExt cx="1633320" cy="636120"/>
            </a:xfrm>
          </p:grpSpPr>
          <p:sp>
            <p:nvSpPr>
              <p:cNvPr id="191" name=""/>
              <p:cNvSpPr/>
              <p:nvPr/>
            </p:nvSpPr>
            <p:spPr>
              <a:xfrm flipH="1" flipV="1">
                <a:off x="6684840" y="5405040"/>
                <a:ext cx="1555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07040" y="5021280"/>
                <a:ext cx="150156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Gradient,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497640" y="5842080"/>
              <a:ext cx="1834920" cy="652320"/>
              <a:chOff x="6497640" y="5842080"/>
              <a:chExt cx="1834920" cy="65232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7553160" y="5900760"/>
                <a:ext cx="13032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97640" y="5842080"/>
                <a:ext cx="33660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15160" y="6151680"/>
                <a:ext cx="15174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oint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, b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4976640" y="4917960"/>
              <a:ext cx="3719520" cy="1630440"/>
              <a:chOff x="4976640" y="4917960"/>
              <a:chExt cx="3719520" cy="1630440"/>
            </a:xfrm>
          </p:grpSpPr>
          <p:sp>
            <p:nvSpPr>
              <p:cNvPr id="198" name=""/>
              <p:cNvSpPr/>
              <p:nvPr/>
            </p:nvSpPr>
            <p:spPr>
              <a:xfrm>
                <a:off x="4976640" y="4917960"/>
                <a:ext cx="3719520" cy="1630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2760" y="5516640"/>
                <a:ext cx="266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 – b = m (x – a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7680" y="1843200"/>
            <a:ext cx="8655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6600ff"/>
                </a:solidFill>
                <a:latin typeface="Arial"/>
                <a:ea typeface="Times New Roman"/>
              </a:rPr>
              <a:t>Pro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6600ff"/>
                </a:solidFill>
                <a:latin typeface="Arial"/>
                <a:ea typeface="Times New Roman"/>
              </a:rPr>
              <a:t>P(x,y) is any point on the line except A.  For every position of P the gradient of AP is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1"/>
          </p:cNvPr>
          <p:cNvSpPr/>
          <p:nvPr/>
        </p:nvSpPr>
        <p:spPr>
          <a:xfrm>
            <a:off x="469800" y="59054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6 L 0.30191 -0.09306 E">
                                      <p:cBhvr>
                                        <p:cTn id="221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463 L 0.43837 -0.14189 E">
                                      <p:cBhvr>
                                        <p:cTn id="227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0301 L -0.11007 0.16578 E">
                                      <p:cBhvr>
                                        <p:cTn id="233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5E-006 0.14444 E">
                                      <p:cBhvr>
                                        <p:cTn id="23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3 -0.00255 L 0.0401 0.11296 E">
                                      <p:cBhvr>
                                        <p:cTn id="241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23 -0.00208 L 0.06684 0.1378 E">
                                      <p:cBhvr>
                                        <p:cTn id="245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erpendicular Bisector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ff"/>
                </a:solidFill>
                <a:latin typeface="Arial"/>
                <a:ea typeface="Times New Roman"/>
              </a:rPr>
              <a:t>The </a:t>
            </a:r>
            <a:r>
              <a:rPr b="1" i="1" lang="en-GB" sz="1800" spc="-1" strike="noStrike">
                <a:solidFill>
                  <a:srgbClr val="6600ff"/>
                </a:solidFill>
                <a:latin typeface="Arial"/>
                <a:ea typeface="Times New Roman"/>
              </a:rPr>
              <a:t>perpendicular bisector</a:t>
            </a:r>
            <a:r>
              <a:rPr b="1" lang="en-GB" sz="1800" spc="-1" strike="noStrike">
                <a:solidFill>
                  <a:srgbClr val="6600ff"/>
                </a:solidFill>
                <a:latin typeface="Arial"/>
                <a:ea typeface="Times New Roman"/>
              </a:rPr>
              <a:t> of a line HT is another line whi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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sses through the mid-point of H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bi-secting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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at right angles to H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perpendic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822400" y="2629080"/>
            <a:ext cx="3816360" cy="3674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030560" y="5235480"/>
            <a:ext cx="20322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2720" y="3713040"/>
            <a:ext cx="0" cy="245448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59360" y="516420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2"/>
          </p:cNvPr>
          <p:cNvSpPr/>
          <p:nvPr/>
        </p:nvSpPr>
        <p:spPr>
          <a:xfrm>
            <a:off x="80596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autoRev="1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67" dur="3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ltitudes of Triangl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59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An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altitude</a:t>
            </a:r>
            <a:r>
              <a:rPr b="1" lang="en-GB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 of a triangle is a line from a vertex perpendicular to the opposite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triangle has 3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ltitu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meet a point called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orthocent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1720" y="2616120"/>
            <a:ext cx="2401920" cy="2185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98680" y="2455920"/>
            <a:ext cx="27432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1944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j0078748" descr=""/>
          <p:cNvPicPr/>
          <p:nvPr/>
        </p:nvPicPr>
        <p:blipFill>
          <a:blip r:embed="rId2"/>
          <a:stretch/>
        </p:blipFill>
        <p:spPr>
          <a:xfrm>
            <a:off x="6388200" y="5533920"/>
            <a:ext cx="761760" cy="1123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90440" y="2509920"/>
            <a:ext cx="1265400" cy="447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t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1182240" y="2954160"/>
            <a:ext cx="1050840" cy="66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833560" y="2603520"/>
            <a:ext cx="2965680" cy="2187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691240" y="2373480"/>
            <a:ext cx="3043080" cy="243972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5"/>
          </p:cNvPr>
          <p:cNvSpPr/>
          <p:nvPr/>
        </p:nvSpPr>
        <p:spPr>
          <a:xfrm>
            <a:off x="80596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5:08:41Z</dcterms:created>
  <dc:creator>Calum Stewart</dc:creator>
  <dc:description/>
  <dc:language>en-US</dc:language>
  <cp:lastModifiedBy>Jim O'Neill</cp:lastModifiedBy>
  <dcterms:modified xsi:type="dcterms:W3CDTF">2002-08-30T11:08:57Z</dcterms:modified>
  <cp:revision>32</cp:revision>
  <dc:subject/>
  <dc:title>Higher Mathematics</dc:title>
</cp:coreProperties>
</file>