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570-3C55-4E03-A3EB-5B65FC7B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352-D7E4-4682-B4AE-CA8D485E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CF-0D06-4A83-B5AE-D9B9F99C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371-9107-4180-A283-167EB235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421-1B67-41E3-8C33-EFC616D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381-87C9-4261-B5BD-3EACB32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D5D-E762-446E-ABD1-B6E193B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0D3-5B34-4E0F-ACA6-2D546E67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866-4D8D-45A6-8D97-CC0B3F8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0F8-20F8-4BA7-B738-3940E7D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C82-39FE-4C0F-BA25-BF68984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4A9-7824-4882-BE87-647DA50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9EB-69D9-4D8E-9568-83253BDE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7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7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7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7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7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7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7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7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17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17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18.wmf"/><Relationship Id="rId8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hyperlink" Target="file:///Higher%20Maths%201.3.ppt#Slide 9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624852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2485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362320" y="4343400"/>
          <a:ext cx="3412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34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V="1">
            <a:off x="2514600" y="40384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86200" y="4267080"/>
          <a:ext cx="92880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267080"/>
                    <a:ext cx="928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flipV="1">
            <a:off x="4267080" y="1980720"/>
            <a:ext cx="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14600" y="1980720"/>
            <a:ext cx="175248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343400" y="1676520"/>
          <a:ext cx="40968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167652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209680" y="3657600"/>
          <a:ext cx="4096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65760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019920" y="2743200"/>
          <a:ext cx="2249280" cy="107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743200"/>
                    <a:ext cx="2249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343400" y="2133720"/>
          <a:ext cx="213372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133720"/>
                    <a:ext cx="213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3352680"/>
          <a:ext cx="129708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3352680"/>
                    <a:ext cx="1297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4724280" y="5029200"/>
            <a:ext cx="3581640" cy="990720"/>
            <a:chOff x="4724280" y="5029200"/>
            <a:chExt cx="3581640" cy="990720"/>
          </a:xfrm>
        </p:grpSpPr>
        <p:sp>
          <p:nvSpPr>
            <p:cNvPr id="61" name=""/>
            <p:cNvSpPr/>
            <p:nvPr/>
          </p:nvSpPr>
          <p:spPr>
            <a:xfrm>
              <a:off x="4724280" y="5029200"/>
              <a:ext cx="3581640" cy="99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4724280" y="5257800"/>
            <a:ext cx="110664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5257800"/>
                      <a:ext cx="11066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5867280" y="548640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" name=""/>
          <p:cNvGraphicFramePr/>
          <p:nvPr/>
        </p:nvGraphicFramePr>
        <p:xfrm>
          <a:off x="5105520" y="2590920"/>
          <a:ext cx="107928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1079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952880" y="3124080"/>
          <a:ext cx="1079640" cy="38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124080"/>
                    <a:ext cx="1079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952880" y="3657600"/>
          <a:ext cx="10796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52880" y="36576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410080" y="4114800"/>
          <a:ext cx="1079640" cy="388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41148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715000" y="4648320"/>
          <a:ext cx="1079640" cy="3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15000" y="464832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867280" y="5029200"/>
          <a:ext cx="1079640" cy="388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67280" y="50292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934320" y="5160960"/>
          <a:ext cx="312480" cy="24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934320" y="5160960"/>
                    <a:ext cx="3124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90920" y="3886200"/>
          <a:ext cx="658800" cy="38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0920" y="3886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895480" y="4343400"/>
          <a:ext cx="658800" cy="38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95480" y="43434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429000" y="4572000"/>
          <a:ext cx="658800" cy="3888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29000" y="45720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91120" y="4648320"/>
          <a:ext cx="658800" cy="388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1911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952880" y="4419720"/>
          <a:ext cx="658800" cy="388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528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38680" y="4419720"/>
          <a:ext cx="658800" cy="3888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248520" y="4495680"/>
          <a:ext cx="658800" cy="3891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248520" y="4495680"/>
                    <a:ext cx="658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4648320"/>
          <a:ext cx="658800" cy="3888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315200" y="5029200"/>
          <a:ext cx="658800" cy="388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315200" y="5029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0" y="2743200"/>
          <a:ext cx="853920" cy="3888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72000" y="27432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3276720"/>
          <a:ext cx="853920" cy="3888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648320" y="32767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76920" y="3809880"/>
          <a:ext cx="853920" cy="3891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876920" y="3809880"/>
                    <a:ext cx="8539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4343400"/>
          <a:ext cx="853920" cy="3888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105520" y="43434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34120" y="4876920"/>
          <a:ext cx="853920" cy="3888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8769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80040" y="5554800"/>
          <a:ext cx="854280" cy="3888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080040" y="5554800"/>
                    <a:ext cx="854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926400" y="5638680"/>
          <a:ext cx="312480" cy="2494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26400" y="5638680"/>
                    <a:ext cx="31248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752480" y="3809880"/>
          <a:ext cx="443160" cy="38916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752480" y="3809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905120" y="4267080"/>
          <a:ext cx="442800" cy="38916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05120" y="4267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057400" y="4724280"/>
          <a:ext cx="442800" cy="38916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2057400" y="47242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438280" y="5105520"/>
          <a:ext cx="443160" cy="38880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2438280" y="51055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971800" y="5410080"/>
          <a:ext cx="442800" cy="38916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2971800" y="5410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81280" y="5638680"/>
          <a:ext cx="443160" cy="38916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581280" y="56386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5791320"/>
          <a:ext cx="443160" cy="38880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4267080" y="57913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52880" y="5943600"/>
          <a:ext cx="443160" cy="3888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4952880" y="59436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6019920"/>
          <a:ext cx="443160" cy="38880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5638680" y="60199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24480" y="6172200"/>
          <a:ext cx="443160" cy="38880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6324480" y="61722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010280" y="6095880"/>
          <a:ext cx="443160" cy="3891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7010280" y="6095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391520" y="5562720"/>
          <a:ext cx="442800" cy="3888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7391520" y="5562720"/>
                    <a:ext cx="442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0948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209680" y="990720"/>
          <a:ext cx="358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358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533520" y="304920"/>
            <a:ext cx="7696080" cy="657360"/>
            <a:chOff x="533520" y="304920"/>
            <a:chExt cx="7696080" cy="657360"/>
          </a:xfrm>
        </p:grpSpPr>
        <p:sp>
          <p:nvSpPr>
            <p:cNvPr id="139" name=""/>
            <p:cNvSpPr/>
            <p:nvPr/>
          </p:nvSpPr>
          <p:spPr>
            <a:xfrm>
              <a:off x="533520" y="3808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happens if we make        smaller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5029200" y="304920"/>
            <a:ext cx="4348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304920"/>
                      <a:ext cx="4348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"/>
          <p:cNvGrpSpPr/>
          <p:nvPr/>
        </p:nvGrpSpPr>
        <p:grpSpPr>
          <a:xfrm>
            <a:off x="609480" y="1190520"/>
            <a:ext cx="8000640" cy="5667120"/>
            <a:chOff x="609480" y="1190520"/>
            <a:chExt cx="8000640" cy="5667120"/>
          </a:xfrm>
        </p:grpSpPr>
        <p:graphicFrame>
          <p:nvGraphicFramePr>
            <p:cNvPr id="143" name=""/>
            <p:cNvGraphicFramePr/>
            <p:nvPr/>
          </p:nvGraphicFramePr>
          <p:xfrm>
            <a:off x="609480" y="1190520"/>
            <a:ext cx="8000640" cy="566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1190520"/>
                      <a:ext cx="8000640" cy="56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3048840" y="6264000"/>
            <a:ext cx="436680" cy="48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6264000"/>
                      <a:ext cx="43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3243600" y="5873760"/>
              <a:ext cx="0" cy="19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5000040" y="6166440"/>
            <a:ext cx="1189080" cy="615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040" y="6166440"/>
                      <a:ext cx="1189080" cy="61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 flipV="1">
              <a:off x="5487480" y="3239280"/>
              <a:ext cx="0" cy="282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243600" y="3238920"/>
              <a:ext cx="2243880" cy="263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5585400" y="2849400"/>
            <a:ext cx="524520" cy="57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5400" y="284940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853360" y="5385960"/>
            <a:ext cx="524520" cy="570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3360" y="538596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5585400" y="3434760"/>
            <a:ext cx="2732040" cy="497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85400" y="3434760"/>
                      <a:ext cx="273204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2072880" y="4995360"/>
            <a:ext cx="1660680" cy="498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72880" y="4995360"/>
                      <a:ext cx="16606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3238560" y="4340160"/>
            <a:ext cx="2517840" cy="2119320"/>
            <a:chOff x="3238560" y="4340160"/>
            <a:chExt cx="2517840" cy="2119320"/>
          </a:xfrm>
        </p:grpSpPr>
        <p:grpSp>
          <p:nvGrpSpPr>
            <p:cNvPr id="161" name=""/>
            <p:cNvGrpSpPr/>
            <p:nvPr/>
          </p:nvGrpSpPr>
          <p:grpSpPr>
            <a:xfrm>
              <a:off x="3238560" y="4340160"/>
              <a:ext cx="1869840" cy="1679400"/>
              <a:chOff x="3238560" y="4340160"/>
              <a:chExt cx="1869840" cy="16794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105520" y="4343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238560" y="4340160"/>
                <a:ext cx="1869840" cy="15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4" name=""/>
            <p:cNvGraphicFramePr/>
            <p:nvPr/>
          </p:nvGraphicFramePr>
          <p:xfrm>
            <a:off x="4876920" y="6019920"/>
            <a:ext cx="879480" cy="439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769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3247920" y="3962160"/>
            <a:ext cx="2360880" cy="2497320"/>
            <a:chOff x="3247920" y="3962160"/>
            <a:chExt cx="2360880" cy="2497320"/>
          </a:xfrm>
        </p:grpSpPr>
        <p:grpSp>
          <p:nvGrpSpPr>
            <p:cNvPr id="167" name=""/>
            <p:cNvGrpSpPr/>
            <p:nvPr/>
          </p:nvGrpSpPr>
          <p:grpSpPr>
            <a:xfrm>
              <a:off x="3247920" y="3962160"/>
              <a:ext cx="2016360" cy="2057400"/>
              <a:chOff x="3247920" y="3962160"/>
              <a:chExt cx="2016360" cy="2057400"/>
            </a:xfrm>
          </p:grpSpPr>
          <p:sp>
            <p:nvSpPr>
              <p:cNvPr id="168" name=""/>
              <p:cNvSpPr/>
              <p:nvPr/>
            </p:nvSpPr>
            <p:spPr>
              <a:xfrm flipV="1">
                <a:off x="5257800" y="39621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247920" y="3975120"/>
                <a:ext cx="2016360" cy="19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0" name=""/>
            <p:cNvGraphicFramePr/>
            <p:nvPr/>
          </p:nvGraphicFramePr>
          <p:xfrm>
            <a:off x="4729320" y="6019920"/>
            <a:ext cx="879480" cy="43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9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2" name=""/>
          <p:cNvGrpSpPr/>
          <p:nvPr/>
        </p:nvGrpSpPr>
        <p:grpSpPr>
          <a:xfrm>
            <a:off x="3244680" y="4648320"/>
            <a:ext cx="2206800" cy="1811160"/>
            <a:chOff x="3244680" y="4648320"/>
            <a:chExt cx="2206800" cy="1811160"/>
          </a:xfrm>
        </p:grpSpPr>
        <p:grpSp>
          <p:nvGrpSpPr>
            <p:cNvPr id="173" name=""/>
            <p:cNvGrpSpPr/>
            <p:nvPr/>
          </p:nvGrpSpPr>
          <p:grpSpPr>
            <a:xfrm>
              <a:off x="3244680" y="4648320"/>
              <a:ext cx="1708200" cy="1371600"/>
              <a:chOff x="3244680" y="4648320"/>
              <a:chExt cx="1708200" cy="137160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952880" y="46483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244680" y="4654080"/>
                <a:ext cx="1708200" cy="12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6" name=""/>
            <p:cNvGraphicFramePr/>
            <p:nvPr/>
          </p:nvGraphicFramePr>
          <p:xfrm>
            <a:off x="4572000" y="6019920"/>
            <a:ext cx="879480" cy="439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5720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8" name=""/>
          <p:cNvGrpSpPr/>
          <p:nvPr/>
        </p:nvGrpSpPr>
        <p:grpSpPr>
          <a:xfrm>
            <a:off x="3244680" y="4876560"/>
            <a:ext cx="2054520" cy="1582920"/>
            <a:chOff x="3244680" y="4876560"/>
            <a:chExt cx="2054520" cy="1582920"/>
          </a:xfrm>
        </p:grpSpPr>
        <p:grpSp>
          <p:nvGrpSpPr>
            <p:cNvPr id="179" name=""/>
            <p:cNvGrpSpPr/>
            <p:nvPr/>
          </p:nvGrpSpPr>
          <p:grpSpPr>
            <a:xfrm>
              <a:off x="3244680" y="4876560"/>
              <a:ext cx="1555920" cy="1143000"/>
              <a:chOff x="3244680" y="4876560"/>
              <a:chExt cx="1555920" cy="114300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4800600" y="48765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244680" y="4889520"/>
                <a:ext cx="15559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2" name=""/>
            <p:cNvGraphicFramePr/>
            <p:nvPr/>
          </p:nvGraphicFramePr>
          <p:xfrm>
            <a:off x="4419720" y="6019920"/>
            <a:ext cx="879480" cy="439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197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3200400" y="5275080"/>
            <a:ext cx="1832040" cy="1202040"/>
            <a:chOff x="3200400" y="5275080"/>
            <a:chExt cx="1832040" cy="120204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5275080"/>
              <a:ext cx="1257120" cy="762120"/>
              <a:chOff x="3200400" y="5275080"/>
              <a:chExt cx="1257120" cy="76212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4457520" y="5275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3200400" y="5288040"/>
                <a:ext cx="12571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8" name=""/>
            <p:cNvGraphicFramePr/>
            <p:nvPr/>
          </p:nvGraphicFramePr>
          <p:xfrm>
            <a:off x="4152960" y="6037560"/>
            <a:ext cx="879480" cy="439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52960" y="603756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3238560" y="5410080"/>
            <a:ext cx="1608120" cy="1049400"/>
            <a:chOff x="3238560" y="5410080"/>
            <a:chExt cx="1608120" cy="1049400"/>
          </a:xfrm>
        </p:grpSpPr>
        <p:grpSp>
          <p:nvGrpSpPr>
            <p:cNvPr id="191" name=""/>
            <p:cNvGrpSpPr/>
            <p:nvPr/>
          </p:nvGrpSpPr>
          <p:grpSpPr>
            <a:xfrm>
              <a:off x="3238560" y="5410080"/>
              <a:ext cx="1104840" cy="609840"/>
              <a:chOff x="3238560" y="5410080"/>
              <a:chExt cx="1104840" cy="60984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4343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238560" y="5423040"/>
                <a:ext cx="1104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4" name=""/>
            <p:cNvGraphicFramePr/>
            <p:nvPr/>
          </p:nvGraphicFramePr>
          <p:xfrm>
            <a:off x="3967200" y="6019920"/>
            <a:ext cx="879480" cy="439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9672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3238560" y="5562720"/>
            <a:ext cx="1450800" cy="896760"/>
            <a:chOff x="3238560" y="5562720"/>
            <a:chExt cx="1450800" cy="896760"/>
          </a:xfrm>
        </p:grpSpPr>
        <p:grpSp>
          <p:nvGrpSpPr>
            <p:cNvPr id="197" name=""/>
            <p:cNvGrpSpPr/>
            <p:nvPr/>
          </p:nvGrpSpPr>
          <p:grpSpPr>
            <a:xfrm>
              <a:off x="3238560" y="5562720"/>
              <a:ext cx="952560" cy="457200"/>
              <a:chOff x="3238560" y="5562720"/>
              <a:chExt cx="952560" cy="45720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9112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238560" y="5568480"/>
                <a:ext cx="95256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0" name=""/>
            <p:cNvGraphicFramePr/>
            <p:nvPr/>
          </p:nvGraphicFramePr>
          <p:xfrm>
            <a:off x="3809880" y="6019920"/>
            <a:ext cx="879480" cy="439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8098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3238560" y="5638320"/>
            <a:ext cx="1298520" cy="821160"/>
            <a:chOff x="3238560" y="5638320"/>
            <a:chExt cx="1298520" cy="821160"/>
          </a:xfrm>
        </p:grpSpPr>
        <p:grpSp>
          <p:nvGrpSpPr>
            <p:cNvPr id="203" name=""/>
            <p:cNvGrpSpPr/>
            <p:nvPr/>
          </p:nvGrpSpPr>
          <p:grpSpPr>
            <a:xfrm>
              <a:off x="3238560" y="5638320"/>
              <a:ext cx="806400" cy="381240"/>
              <a:chOff x="3238560" y="5638320"/>
              <a:chExt cx="806400" cy="3812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4038480" y="56383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238560" y="5644800"/>
                <a:ext cx="8064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6" name=""/>
            <p:cNvGraphicFramePr/>
            <p:nvPr/>
          </p:nvGraphicFramePr>
          <p:xfrm>
            <a:off x="3657600" y="6019920"/>
            <a:ext cx="879480" cy="4395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6576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3244680" y="5714640"/>
            <a:ext cx="1140120" cy="744840"/>
            <a:chOff x="3244680" y="5714640"/>
            <a:chExt cx="1140120" cy="744840"/>
          </a:xfrm>
        </p:grpSpPr>
        <p:grpSp>
          <p:nvGrpSpPr>
            <p:cNvPr id="209" name=""/>
            <p:cNvGrpSpPr/>
            <p:nvPr/>
          </p:nvGrpSpPr>
          <p:grpSpPr>
            <a:xfrm>
              <a:off x="3244680" y="5714640"/>
              <a:ext cx="648000" cy="304920"/>
              <a:chOff x="3244680" y="5714640"/>
              <a:chExt cx="648000" cy="304920"/>
            </a:xfrm>
          </p:grpSpPr>
          <p:sp>
            <p:nvSpPr>
              <p:cNvPr id="210" name=""/>
              <p:cNvSpPr/>
              <p:nvPr/>
            </p:nvSpPr>
            <p:spPr>
              <a:xfrm flipV="1">
                <a:off x="3886200" y="57146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3244680" y="5721120"/>
                <a:ext cx="648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2" name=""/>
            <p:cNvGraphicFramePr/>
            <p:nvPr/>
          </p:nvGraphicFramePr>
          <p:xfrm>
            <a:off x="3505320" y="6019920"/>
            <a:ext cx="879480" cy="4395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505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3244680" y="5790960"/>
            <a:ext cx="987480" cy="668520"/>
            <a:chOff x="3244680" y="5790960"/>
            <a:chExt cx="987480" cy="668520"/>
          </a:xfrm>
        </p:grpSpPr>
        <p:grpSp>
          <p:nvGrpSpPr>
            <p:cNvPr id="215" name=""/>
            <p:cNvGrpSpPr/>
            <p:nvPr/>
          </p:nvGrpSpPr>
          <p:grpSpPr>
            <a:xfrm>
              <a:off x="3244680" y="5790960"/>
              <a:ext cx="489240" cy="228600"/>
              <a:chOff x="3244680" y="5790960"/>
              <a:chExt cx="489240" cy="2286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373392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244680" y="5797440"/>
                <a:ext cx="489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8" name=""/>
            <p:cNvGraphicFramePr/>
            <p:nvPr/>
          </p:nvGraphicFramePr>
          <p:xfrm>
            <a:off x="3352680" y="6019920"/>
            <a:ext cx="879480" cy="439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3526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"/>
          <p:cNvGrpSpPr/>
          <p:nvPr/>
        </p:nvGrpSpPr>
        <p:grpSpPr>
          <a:xfrm>
            <a:off x="3200400" y="5790960"/>
            <a:ext cx="879480" cy="668520"/>
            <a:chOff x="3200400" y="5790960"/>
            <a:chExt cx="879480" cy="668520"/>
          </a:xfrm>
        </p:grpSpPr>
        <p:grpSp>
          <p:nvGrpSpPr>
            <p:cNvPr id="221" name=""/>
            <p:cNvGrpSpPr/>
            <p:nvPr/>
          </p:nvGrpSpPr>
          <p:grpSpPr>
            <a:xfrm>
              <a:off x="3276720" y="5790960"/>
              <a:ext cx="304560" cy="228600"/>
              <a:chOff x="3276720" y="5790960"/>
              <a:chExt cx="304560" cy="22860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58128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276720" y="5800320"/>
                <a:ext cx="30456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4" name=""/>
            <p:cNvGraphicFramePr/>
            <p:nvPr/>
          </p:nvGraphicFramePr>
          <p:xfrm>
            <a:off x="3200400" y="6019920"/>
            <a:ext cx="879480" cy="4395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2004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3048120" y="5867280"/>
            <a:ext cx="879480" cy="592200"/>
            <a:chOff x="3048120" y="5867280"/>
            <a:chExt cx="879480" cy="592200"/>
          </a:xfrm>
        </p:grpSpPr>
        <p:grpSp>
          <p:nvGrpSpPr>
            <p:cNvPr id="227" name=""/>
            <p:cNvGrpSpPr/>
            <p:nvPr/>
          </p:nvGrpSpPr>
          <p:grpSpPr>
            <a:xfrm>
              <a:off x="3238560" y="5867280"/>
              <a:ext cx="190440" cy="152640"/>
              <a:chOff x="3238560" y="5867280"/>
              <a:chExt cx="190440" cy="15264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342900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238560" y="5879880"/>
                <a:ext cx="1904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0" name=""/>
            <p:cNvGraphicFramePr/>
            <p:nvPr/>
          </p:nvGraphicFramePr>
          <p:xfrm>
            <a:off x="3048120" y="6019920"/>
            <a:ext cx="879480" cy="439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0481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2" name=""/>
          <p:cNvGrpSpPr/>
          <p:nvPr/>
        </p:nvGrpSpPr>
        <p:grpSpPr>
          <a:xfrm>
            <a:off x="3238560" y="5105520"/>
            <a:ext cx="1908000" cy="1371600"/>
            <a:chOff x="3238560" y="5105520"/>
            <a:chExt cx="1908000" cy="1371600"/>
          </a:xfrm>
        </p:grpSpPr>
        <p:grpSp>
          <p:nvGrpSpPr>
            <p:cNvPr id="233" name=""/>
            <p:cNvGrpSpPr/>
            <p:nvPr/>
          </p:nvGrpSpPr>
          <p:grpSpPr>
            <a:xfrm>
              <a:off x="3238560" y="5105520"/>
              <a:ext cx="1415880" cy="914400"/>
              <a:chOff x="3238560" y="5105520"/>
              <a:chExt cx="1415880" cy="91440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4648320" y="51055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238560" y="5105520"/>
                <a:ext cx="141588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6" name=""/>
            <p:cNvGraphicFramePr/>
            <p:nvPr/>
          </p:nvGraphicFramePr>
          <p:xfrm>
            <a:off x="4267080" y="6037200"/>
            <a:ext cx="879480" cy="4399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267080" y="6037200"/>
                      <a:ext cx="87948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8" name=""/>
          <p:cNvGraphicFramePr/>
          <p:nvPr/>
        </p:nvGraphicFramePr>
        <p:xfrm>
          <a:off x="2590920" y="5961240"/>
          <a:ext cx="1460520" cy="439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590920" y="5961240"/>
                    <a:ext cx="1460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flipV="1">
            <a:off x="1371600" y="5181120"/>
            <a:ext cx="4876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16800" y="4038480"/>
            <a:ext cx="2298600" cy="2113200"/>
            <a:chOff x="6616800" y="4038480"/>
            <a:chExt cx="2298600" cy="2113200"/>
          </a:xfrm>
        </p:grpSpPr>
        <p:sp>
          <p:nvSpPr>
            <p:cNvPr id="242" name=""/>
            <p:cNvSpPr/>
            <p:nvPr/>
          </p:nvSpPr>
          <p:spPr>
            <a:xfrm>
              <a:off x="6616800" y="4038480"/>
              <a:ext cx="2298600" cy="2113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n gradient of AB is the gradient of the tangent at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7454880" y="4038480"/>
            <a:ext cx="1460520" cy="439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454880" y="4038480"/>
                      <a:ext cx="14605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38080" y="1038240"/>
            <a:ext cx="8001000" cy="5667480"/>
            <a:chOff x="838080" y="1038240"/>
            <a:chExt cx="8001000" cy="5667480"/>
          </a:xfrm>
        </p:grpSpPr>
        <p:graphicFrame>
          <p:nvGraphicFramePr>
            <p:cNvPr id="248" name=""/>
            <p:cNvGraphicFramePr/>
            <p:nvPr/>
          </p:nvGraphicFramePr>
          <p:xfrm>
            <a:off x="4190760" y="4619880"/>
            <a:ext cx="52380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760" y="4619880"/>
                      <a:ext cx="52380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838080" y="1038240"/>
            <a:ext cx="8001000" cy="566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1038240"/>
                      <a:ext cx="8001000" cy="56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0400" y="4228920"/>
            <a:ext cx="281952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90840" y="4381200"/>
            <a:ext cx="24386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733920" y="4609800"/>
            <a:ext cx="17524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038480" y="480060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05240" y="4991040"/>
            <a:ext cx="6098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5143320"/>
            <a:ext cx="2286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62520" y="457200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5720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219320" y="457200"/>
            <a:ext cx="4800600" cy="825480"/>
            <a:chOff x="1219320" y="457200"/>
            <a:chExt cx="4800600" cy="825480"/>
          </a:xfrm>
        </p:grpSpPr>
        <p:sp>
          <p:nvSpPr>
            <p:cNvPr id="262" name=""/>
            <p:cNvSpPr/>
            <p:nvPr/>
          </p:nvSpPr>
          <p:spPr>
            <a:xfrm>
              <a:off x="1219320" y="457200"/>
              <a:ext cx="48006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rinking the tangent line is the same as letting        get very sm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2576520" y="880920"/>
            <a:ext cx="263520" cy="37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76520" y="880920"/>
                      <a:ext cx="26352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5" name=""/>
          <p:cNvSpPr/>
          <p:nvPr/>
        </p:nvSpPr>
        <p:spPr>
          <a:xfrm>
            <a:off x="6705720" y="2362320"/>
            <a:ext cx="213336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dient doesn't change as the line gets smaller and so the gradient at B must be the same as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30492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we sa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1600200"/>
          <a:ext cx="35812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35812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914400" y="2819520"/>
            <a:ext cx="838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70080" y="3479760"/>
          <a:ext cx="409104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080" y="3479760"/>
                    <a:ext cx="4091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143000" y="9907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4952880"/>
            <a:ext cx="7086600" cy="927360"/>
            <a:chOff x="1066680" y="4952880"/>
            <a:chExt cx="7086600" cy="927360"/>
          </a:xfrm>
        </p:grpSpPr>
        <p:sp>
          <p:nvSpPr>
            <p:cNvPr id="274" name=""/>
            <p:cNvSpPr/>
            <p:nvPr/>
          </p:nvSpPr>
          <p:spPr>
            <a:xfrm>
              <a:off x="1066680" y="4952880"/>
              <a:ext cx="70866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is the basic, first principle definition of the derived function. Usually writ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4343400" y="5257800"/>
            <a:ext cx="106668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5257800"/>
                      <a:ext cx="10666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>
            <a:off x="7772400" y="6095880"/>
            <a:ext cx="1219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56:06Z</dcterms:created>
  <dc:creator>East Lothian Council</dc:creator>
  <dc:description/>
  <dc:language>en-US</dc:language>
  <cp:lastModifiedBy>East Lothian Council</cp:lastModifiedBy>
  <dcterms:modified xsi:type="dcterms:W3CDTF">2003-01-24T10:51:44Z</dcterms:modified>
  <cp:revision>14</cp:revision>
  <dc:subject/>
  <dc:title>No Slide Title</dc:title>
</cp:coreProperties>
</file>