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CA8-09CE-4573-8CDE-E039CB77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222-85CF-4A5B-A559-A7E193BB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1ED-A415-4237-BB93-97586B44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43E-83E0-4788-B77A-FBC23BDA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D6F-64E7-4972-8329-0D797ECA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470-7C85-411E-AAD5-A069CBA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F41-7D9E-4F87-912E-A2881BE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8AA-A67A-4A49-BD46-1A516622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562-0A58-49B8-B420-AAF229E6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CB1-CE16-473F-ADCF-B70FD4D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67B-2DAE-4740-9972-C06E4E0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34B-4BB2-4875-9C3E-9A8876B2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1B30-BA5E-4529-96E3-05BAA21C0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1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606888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value of the first five terms of the sequ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n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find the first term,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, you simply substitute 1, in place of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en-GB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 ×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en-GB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 ×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en-GB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 ×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10 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equence is easily se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w a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{ 4,  7,  10,  13,  16 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orked Example 6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040" y="2630520"/>
            <a:ext cx="618804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 us look 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7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 10             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2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0.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1.092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1.764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2.235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2.564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 32.795…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orked Exampl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97000" y="3635280"/>
          <a:ext cx="4965840" cy="51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3635280"/>
                    <a:ext cx="496584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41200" y="2216160"/>
            <a:ext cx="6356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ime, as 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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ears to approach a Limit (L).  Note the shape of the graph is different from example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orked Example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040" y="2144880"/>
            <a:ext cx="585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0·7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the li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25360" y="2987640"/>
          <a:ext cx="468180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2987640"/>
                    <a:ext cx="46818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12840" y="7977240"/>
            <a:ext cx="63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ly, there is a suggestion of a limit shown between 30 and 35.  We need to be more acc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orked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666880"/>
            <a:ext cx="60958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0·7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 we approach the Limit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  =  0·7L  +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L  –  0·7L   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·3L     =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  =  10 ÷ 0·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3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3949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a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395280"/>
            <a:ext cx="58291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a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94920"/>
            <a:ext cx="5829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a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0"/>
            <a:ext cx="626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next four values of this sequence and develop an explicit formula which allows you to calculate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without first having to find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d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= 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×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don`t actually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calculate this ye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× (3 × 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× (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3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× (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Can you see the pattern ?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7680" y="2706840"/>
            <a:ext cx="595944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 ……………………=    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 an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  <a:ea typeface="Arial"/>
              </a:rPr>
              <a:t>explic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formula is given b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2 ×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gene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is a more useful way of defining the sequence than by use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urrence Rel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is now easy to find any ter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e.g.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2 ×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2630520"/>
            <a:ext cx="61120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d an explicit formula for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and find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,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5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(leave it like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th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(5 + 3)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=5 + (2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5 + (2 × 3) + 3 = 5 + (3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+ 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5 + (3 × 3) + 3  = 5 + (4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(Can you now see the pattern?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2706840"/>
            <a:ext cx="618804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 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 5 + (9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 in general, the (explicit) formula is given b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 + ((n–1) ×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ch simplifies to g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3n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you see that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3 × 100 +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02 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040" y="2630520"/>
            <a:ext cx="61880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= 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first 5 terms and guess what happens as 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3880" y="4383000"/>
            <a:ext cx="61747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 3 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×  5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2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 3 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× 13 +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07920" y="3635280"/>
          <a:ext cx="4305600" cy="44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3635280"/>
                    <a:ext cx="430560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4120" y="2216160"/>
            <a:ext cx="57816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 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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an you se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 u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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lso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8240" y="2173320"/>
            <a:ext cx="570060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+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0·6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6 × 100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6 × 90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6 × 84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0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0·6 × 80·4 + 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8·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6·9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orked Exampl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4120" y="2281320"/>
            <a:ext cx="64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time, as  n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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Vn appears to approach a Limit (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7920" y="3492360"/>
          <a:ext cx="516888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3492360"/>
                    <a:ext cx="51688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9:14:51Z</dcterms:created>
  <dc:creator>Jim O'Neill</dc:creator>
  <dc:description/>
  <dc:language>en-US</dc:language>
  <cp:lastModifiedBy>East Lothian Council</cp:lastModifiedBy>
  <dcterms:modified xsi:type="dcterms:W3CDTF">2002-09-30T07:46:58Z</dcterms:modified>
  <cp:revision>8</cp:revision>
  <dc:subject>Recurrence Relations Examples</dc:subject>
  <dc:title>PowerPoint Presentation</dc:title>
</cp:coreProperties>
</file>