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B54-1BFD-4AEE-B272-2F452484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A6D-68F7-41C0-BE2D-336ADCAA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E2F4-A1B4-40D1-8072-47831A7D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B96-6EE1-4152-B626-032EEE88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CCD-D638-4086-BBCC-F5C16E51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665-2375-4BEB-9892-D33426E8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B85-A72C-486B-929F-844D16C3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ED7B-291E-460F-AE27-ABCC313F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E91-F244-4EFF-9715-D48C0347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F3F-ADA3-4B64-A6AF-E12C06DF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D5D-55B5-4C55-A927-5FE51156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015-A5AD-4647-BAD8-79BEC6EF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61B0-AD23-4277-ABBE-CB25489C2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hyperlink" Target="file:///tmp/home/.config/libreoffice/4/user/gallery/breeze.wav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57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aDmaths PowerPoint and all 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743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elected unit highl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igher Mathema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t 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aight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. Gradien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70160" y="3456000"/>
            <a:ext cx="1602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6600ff"/>
                </a:solidFill>
                <a:latin typeface="Times New Roman"/>
              </a:rPr>
              <a:t>y</a:t>
            </a:r>
            <a:r>
              <a:rPr b="0" i="1" lang="en-GB" sz="4000" spc="-1" strike="noStrike" baseline="-25000">
                <a:solidFill>
                  <a:srgbClr val="6600ff"/>
                </a:solidFill>
                <a:latin typeface="Times New Roman"/>
              </a:rPr>
              <a:t>2 </a:t>
            </a:r>
            <a:r>
              <a:rPr b="0" i="1" lang="en-GB" sz="4000" spc="-1" strike="noStrike">
                <a:solidFill>
                  <a:srgbClr val="6600ff"/>
                </a:solidFill>
                <a:latin typeface="Times New Roman"/>
              </a:rPr>
              <a:t>– y</a:t>
            </a:r>
            <a:r>
              <a:rPr b="0" i="1" lang="en-GB" sz="4000" spc="-1" strike="noStrike" baseline="-25000">
                <a:solidFill>
                  <a:srgbClr val="6600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54240" y="4676760"/>
            <a:ext cx="160164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6600ff"/>
                </a:solidFill>
                <a:latin typeface="Times New Roman"/>
              </a:rPr>
              <a:t>x</a:t>
            </a:r>
            <a:r>
              <a:rPr b="0" i="1" lang="en-GB" sz="4000" spc="-1" strike="noStrike" baseline="-25000">
                <a:solidFill>
                  <a:srgbClr val="6600ff"/>
                </a:solidFill>
                <a:latin typeface="Times New Roman"/>
              </a:rPr>
              <a:t>2 </a:t>
            </a:r>
            <a:r>
              <a:rPr b="0" i="1" lang="en-GB" sz="4000" spc="-1" strike="noStrike">
                <a:solidFill>
                  <a:srgbClr val="6600ff"/>
                </a:solidFill>
                <a:latin typeface="Times New Roman"/>
              </a:rPr>
              <a:t>– x</a:t>
            </a:r>
            <a:r>
              <a:rPr b="0" i="1" lang="en-GB" sz="4000" spc="-1" strike="noStrike" baseline="-25000">
                <a:solidFill>
                  <a:srgbClr val="6600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152280" y="2286000"/>
            <a:ext cx="4073400" cy="2754360"/>
            <a:chOff x="-152280" y="2286000"/>
            <a:chExt cx="4073400" cy="2754360"/>
          </a:xfrm>
        </p:grpSpPr>
        <p:grpSp>
          <p:nvGrpSpPr>
            <p:cNvPr id="49" name=""/>
            <p:cNvGrpSpPr/>
            <p:nvPr/>
          </p:nvGrpSpPr>
          <p:grpSpPr>
            <a:xfrm>
              <a:off x="-152280" y="2286000"/>
              <a:ext cx="3806640" cy="2522160"/>
              <a:chOff x="-152280" y="2286000"/>
              <a:chExt cx="3806640" cy="252216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-152280" y="2286000"/>
                <a:ext cx="3806640" cy="2518920"/>
                <a:chOff x="-152280" y="2286000"/>
                <a:chExt cx="3806640" cy="25189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682560" y="4741920"/>
                  <a:ext cx="27370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flipV="1">
                  <a:off x="647640" y="2776320"/>
                  <a:ext cx="2808360" cy="20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-152280" y="3857760"/>
                  <a:ext cx="1600200" cy="63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3200" spc="-1" strike="noStrike">
                      <a:solidFill>
                        <a:srgbClr val="000000"/>
                      </a:solidFill>
                      <a:latin typeface="Times New Roman"/>
                    </a:rPr>
                    <a:t>A(x</a:t>
                  </a:r>
                  <a:r>
                    <a:rPr b="0" i="1" lang="en-GB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i="1" lang="en-GB" sz="3200" spc="-1" strike="noStrike">
                      <a:solidFill>
                        <a:srgbClr val="000000"/>
                      </a:solidFill>
                      <a:latin typeface="Times New Roman"/>
                    </a:rPr>
                    <a:t>,y</a:t>
                  </a:r>
                  <a:r>
                    <a:rPr b="0" i="1" lang="en-GB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i="1" lang="en-GB" sz="32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981080" y="2286000"/>
                  <a:ext cx="1673280" cy="68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3200" spc="-1" strike="noStrike">
                      <a:solidFill>
                        <a:srgbClr val="000000"/>
                      </a:solidFill>
                      <a:latin typeface="Times New Roman"/>
                    </a:rPr>
                    <a:t>B(x</a:t>
                  </a:r>
                  <a:r>
                    <a:rPr b="0" i="1" lang="en-GB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,</a:t>
                  </a:r>
                  <a:r>
                    <a:rPr b="0" i="1" lang="en-GB" sz="32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0" i="1" lang="en-GB" sz="3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i="1" lang="en-GB" sz="32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 flipV="1">
                <a:off x="3390840" y="2873160"/>
                <a:ext cx="1800" cy="19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3171960" y="4467240"/>
              <a:ext cx="22356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62240" y="4645080"/>
              <a:ext cx="758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-296280" y="863280"/>
            <a:ext cx="8346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lope of a line is described by its grad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adient of the straight line through 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B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6880" y="1919160"/>
            <a:ext cx="443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gradient of AB =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418000" y="2530440"/>
          <a:ext cx="362268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8000" y="2530440"/>
                    <a:ext cx="36226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415120" y="3746520"/>
          <a:ext cx="228096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5120" y="3746520"/>
                    <a:ext cx="22809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421240" y="5030640"/>
          <a:ext cx="133992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1240" y="5030640"/>
                    <a:ext cx="1339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1120" y="5583240"/>
          <a:ext cx="444672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120" y="5583240"/>
                    <a:ext cx="4446720" cy="968400"/>
                  </a:xfrm>
                  <a:prstGeom prst="rect">
                    <a:avLst/>
                  </a:prstGeom>
                  <a:ln w="38160">
                    <a:solidFill>
                      <a:srgbClr val="ff00ff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69" name="">
            <a:hlinkClick r:id="rId9"/>
          </p:cNvPr>
          <p:cNvSpPr/>
          <p:nvPr/>
        </p:nvSpPr>
        <p:spPr>
          <a:xfrm>
            <a:off x="7972560" y="59641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2:28:20Z</dcterms:created>
  <dc:creator>East Lothian Council</dc:creator>
  <dc:description/>
  <dc:language>en-US</dc:language>
  <cp:lastModifiedBy>East Lothian Council</cp:lastModifiedBy>
  <dcterms:modified xsi:type="dcterms:W3CDTF">2003-03-04T13:28:54Z</dcterms:modified>
  <cp:revision>3</cp:revision>
  <dc:subject/>
  <dc:title>No Slide Title</dc:title>
</cp:coreProperties>
</file>