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6226-910C-424F-873E-B0667F6F0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BC93-336C-46A7-88AD-1F966901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A122-230B-4942-9D16-DA381D378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0409-AEB2-4121-ABD3-9684149CE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C1DF-8742-4606-A068-8AACF7D97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D6E0-C829-4B20-8E79-A5D4C0CBB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AE23-34B8-4F5F-8E0E-18F97FC7D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C7F6-C9A0-4B7D-98F3-E27E0B2E3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3F64-459F-4C5A-A096-43299EF01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CFAD-D8D9-4B48-86AC-1E3FE750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5FAE-757E-4304-AE6F-C2F54D60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705B-DDA1-43B1-8380-4D4A6821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E3FDA-3D41-4040-8234-C0055F394D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8.wmf"/><Relationship Id="rId2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4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6.wmf"/><Relationship Id="rId2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457200"/>
            <a:ext cx="7010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Example 6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d x, given that  log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+ log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= log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5,     x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600200" y="1523880"/>
          <a:ext cx="5334120" cy="8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3880"/>
                    <a:ext cx="533412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758880" y="2347920"/>
          <a:ext cx="911160" cy="72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8880" y="2347920"/>
                    <a:ext cx="91116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1600200" y="2286000"/>
          <a:ext cx="4622760" cy="83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00200" y="2286000"/>
                    <a:ext cx="46227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838080" y="3200400"/>
          <a:ext cx="911520" cy="722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8080" y="3200400"/>
                    <a:ext cx="91152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2895480" y="3124080"/>
          <a:ext cx="2351160" cy="704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95480" y="3124080"/>
                    <a:ext cx="235116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914400" y="3962520"/>
          <a:ext cx="911160" cy="722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14400" y="3962520"/>
                    <a:ext cx="91116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282840" y="3962520"/>
          <a:ext cx="1728720" cy="704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282840" y="3962520"/>
                    <a:ext cx="172872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1066680" y="4724280"/>
          <a:ext cx="911520" cy="722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066680" y="4724280"/>
                    <a:ext cx="91152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463920" y="4844880"/>
          <a:ext cx="1506600" cy="615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463920" y="4844880"/>
                    <a:ext cx="150660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0" name=""/>
          <p:cNvGrpSpPr/>
          <p:nvPr/>
        </p:nvGrpSpPr>
        <p:grpSpPr>
          <a:xfrm>
            <a:off x="5562720" y="2895480"/>
            <a:ext cx="3581280" cy="2286000"/>
            <a:chOff x="5562720" y="2895480"/>
            <a:chExt cx="3581280" cy="2286000"/>
          </a:xfrm>
        </p:grpSpPr>
        <p:sp>
          <p:nvSpPr>
            <p:cNvPr id="61" name=""/>
            <p:cNvSpPr/>
            <p:nvPr/>
          </p:nvSpPr>
          <p:spPr>
            <a:xfrm>
              <a:off x="5562720" y="2895480"/>
              <a:ext cx="3581280" cy="2286000"/>
            </a:xfrm>
            <a:prstGeom prst="cloudCallout">
              <a:avLst>
                <a:gd name="adj1" fmla="val -58287"/>
                <a:gd name="adj2" fmla="val -25833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2" name=""/>
            <p:cNvGraphicFramePr/>
            <p:nvPr/>
          </p:nvGraphicFramePr>
          <p:xfrm>
            <a:off x="5705640" y="3581280"/>
            <a:ext cx="3438360" cy="35748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6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5705640" y="3581280"/>
                      <a:ext cx="343836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4" name=""/>
            <p:cNvGraphicFramePr/>
            <p:nvPr/>
          </p:nvGraphicFramePr>
          <p:xfrm>
            <a:off x="6110280" y="4592520"/>
            <a:ext cx="2629080" cy="31428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6110280" y="4592520"/>
                      <a:ext cx="2629080" cy="31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6858000" y="31240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i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81680" y="39625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mea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14400" y="6858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12193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lv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352680" y="1371600"/>
          <a:ext cx="198144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1371600"/>
                    <a:ext cx="198144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685800" y="2209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ake logs of both s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666880" y="2209680"/>
          <a:ext cx="4164120" cy="111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2209680"/>
                    <a:ext cx="4164120" cy="11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2681280" y="3191040"/>
          <a:ext cx="4287960" cy="98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81280" y="3191040"/>
                    <a:ext cx="4287960" cy="9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2895480" y="4114800"/>
          <a:ext cx="2921040" cy="2048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95480" y="4114800"/>
                    <a:ext cx="2921040" cy="20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5867280" y="4495680"/>
          <a:ext cx="2851200" cy="862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867280" y="4495680"/>
                    <a:ext cx="2851200" cy="8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762120" y="2286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6858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lv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2514600" y="380880"/>
          <a:ext cx="341784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380880"/>
                    <a:ext cx="341784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609480" y="137160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ake logs of both s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590920" y="1143000"/>
          <a:ext cx="5716440" cy="136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1143000"/>
                    <a:ext cx="571644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2133720" y="2057400"/>
          <a:ext cx="6710400" cy="1236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33720" y="2057400"/>
                    <a:ext cx="6710400" cy="12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2133720" y="3011400"/>
          <a:ext cx="5094000" cy="2170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33720" y="3011400"/>
                    <a:ext cx="5094000" cy="21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2514600" y="4952880"/>
          <a:ext cx="4473720" cy="989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14600" y="4952880"/>
                    <a:ext cx="4473720" cy="9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2819520" y="5521320"/>
          <a:ext cx="4182840" cy="1336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819520" y="5521320"/>
                    <a:ext cx="4182840" cy="13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380880" y="1219320"/>
          <a:ext cx="8134560" cy="79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19320"/>
                    <a:ext cx="813456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752400" y="1981080"/>
          <a:ext cx="911160" cy="72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2400" y="1981080"/>
                    <a:ext cx="91116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831960" y="2666880"/>
          <a:ext cx="911160" cy="722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1960" y="2666880"/>
                    <a:ext cx="91116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838080" y="3352680"/>
          <a:ext cx="911520" cy="722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8080" y="3352680"/>
                    <a:ext cx="91152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838080" y="4191120"/>
          <a:ext cx="911520" cy="722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38080" y="4191120"/>
                    <a:ext cx="91152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6705720" y="3962520"/>
            <a:ext cx="2057400" cy="1523880"/>
          </a:xfrm>
          <a:prstGeom prst="cloudCallout">
            <a:avLst>
              <a:gd name="adj1" fmla="val -60958"/>
              <a:gd name="adj2" fmla="val -87814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304920"/>
            <a:ext cx="80769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Example 7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lve, for x &gt; 0, log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x + 1) + log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3x – 10) = log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1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473120" y="1981080"/>
          <a:ext cx="6712200" cy="800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473120" y="1981080"/>
                    <a:ext cx="671220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2549520" y="2743200"/>
          <a:ext cx="4800600" cy="704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49520" y="2743200"/>
                    <a:ext cx="480060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1962000" y="3276720"/>
          <a:ext cx="4357800" cy="704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962000" y="3276720"/>
                    <a:ext cx="435780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1981080" y="4114800"/>
          <a:ext cx="3957840" cy="7048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981080" y="4114800"/>
                    <a:ext cx="395784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1990800" y="4952880"/>
          <a:ext cx="4091040" cy="7048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990800" y="4952880"/>
                    <a:ext cx="409104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762120" y="5029200"/>
          <a:ext cx="911160" cy="7221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62120" y="5029200"/>
                    <a:ext cx="91116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838080" y="5638680"/>
          <a:ext cx="911520" cy="722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838080" y="5638680"/>
                    <a:ext cx="91152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2057400" y="5334120"/>
          <a:ext cx="3957480" cy="13716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057400" y="5334120"/>
                    <a:ext cx="395748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5T13:17:38Z</dcterms:created>
  <dc:creator>East Lothian Council</dc:creator>
  <dc:description/>
  <dc:language>en-US</dc:language>
  <cp:lastModifiedBy>East Lothian Council</cp:lastModifiedBy>
  <dcterms:modified xsi:type="dcterms:W3CDTF">2003-02-06T14:33:46Z</dcterms:modified>
  <cp:revision>4</cp:revision>
  <dc:subject/>
  <dc:title>No Slide Title</dc:title>
</cp:coreProperties>
</file>